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chimes.wav" ContentType="audio/x-wav"/>
  <Override PartName="/ppt/media/image2.wmf" ContentType="image/x-wmf"/>
  <Override PartName="/ppt/media/image32.wmf" ContentType="image/x-wmf"/>
  <Override PartName="/ppt/media/type.wav" ContentType="audio/x-wav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36.png" ContentType="image/png"/>
  <Override PartName="/ppt/media/image48.jpeg" ContentType="image/jpeg"/>
  <Override PartName="/ppt/media/image41.wmf" ContentType="image/x-wmf"/>
  <Override PartName="/ppt/media/image42.wmf" ContentType="image/x-wmf"/>
  <Override PartName="/ppt/media/image31.wmf" ContentType="image/x-wmf"/>
  <Override PartName="/ppt/media/image46.png" ContentType="image/png"/>
  <Override PartName="/ppt/media/image6.wmf" ContentType="image/x-wmf"/>
  <Override PartName="/ppt/media/image43.wmf" ContentType="image/x-wmf"/>
  <Override PartName="/ppt/media/image44.wmf" ContentType="image/x-wmf"/>
  <Override PartName="/ppt/media/image49.gif" ContentType="image/gif"/>
  <Override PartName="/ppt/media/image45.wmf" ContentType="image/x-wmf"/>
  <Override PartName="/ppt/media/image10.wmf" ContentType="image/x-wmf"/>
  <Override PartName="/ppt/media/image47.png" ContentType="image/png"/>
  <Override PartName="/ppt/media/image7.wmf" ContentType="image/x-wmf"/>
  <Override PartName="/ppt/media/image37.png" ContentType="image/png"/>
  <Override PartName="/ppt/media/image40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9.wmf" ContentType="image/x-wmf"/>
  <Override PartName="/ppt/media/image4.wmf" ContentType="image/x-wmf"/>
  <Override PartName="/ppt/media/image34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12.wmf" ContentType="image/x-wmf"/>
  <Override PartName="/ppt/media/image50.png" ContentType="image/png"/>
  <Override PartName="/ppt/media/image11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87C7-F43A-4A4B-9418-313CDB421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F3E7-D53D-4183-A715-99C21E38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127E-880F-469B-8D70-A3E913DF7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6A86-D001-4C0C-9E5F-DBED303FA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C336-472B-4937-B454-27F14E06D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31C15-AAA6-48A0-98DC-BA8CE53F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C424-F5C6-49C3-8641-124F5FB3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3439-D10F-4A53-84EB-BAEC3012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C2AA-5128-491B-9817-9275B006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7D51-4118-4B92-B987-7094EB70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65B0-3F37-428D-B967-7379DF22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A8A4-2B97-4F84-AF4D-105D8A60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37BF-08F6-4AC6-AF76-DDEFC0F3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2A5AF-D2A5-44AA-8195-6298CF8B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6117F-6A61-4E3D-9727-DFE4684D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8FC14-3B60-4510-BCE6-158586F80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1CF7B-1F4E-43DC-A14D-684B9A620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73238-FBDA-42ED-8B88-DF8F3F0C0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5CFD6-95A8-4F5A-BC45-067F66DB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D50AC-1F37-4A64-A08B-1CB0A92A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718A5-711E-49EB-A0C7-916E97D5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64B39-1D7E-4FB8-9ECE-5988D1AA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3ED7-CFC2-4603-A55C-821FFB85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2FC08-47FE-465B-BE83-9D60F98C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F8736-C892-4D5B-9C7E-187F09D4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15498-39F5-4ECF-B4A1-FA72DB8F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B93EB-B73E-49C1-994D-576C90D8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DB707-445B-48E4-ADF0-F331AD36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84B4F-766D-4D09-A417-A75D0C2A3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05268-173F-4AD5-A737-08BF6DC92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AC07-DF7C-46FA-A965-52FAB5B7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F60F-5CC0-4D99-8A7E-61701045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9036-13AA-4B2C-A0AB-9D39D028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22F0-96BA-45F7-802B-6E39FEC6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C075-219B-4656-A59A-57B0E122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206E-C33A-41D9-AAA6-77A8D245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D1A4-23B0-4D9F-98A7-FC759DB2511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B5D4-C230-4F75-91CA-5021D4289B0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199D-765C-4418-BF34-D06A383DBA6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5.wm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chimes.wav"/><Relationship Id="rId11" Type="http://schemas.openxmlformats.org/officeDocument/2006/relationships/audio" Target="../media/type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chimes.wav"/><Relationship Id="rId11" Type="http://schemas.openxmlformats.org/officeDocument/2006/relationships/audio" Target="../media/type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image" Target="../media/image43.wmf"/><Relationship Id="rId7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gif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audio" Target="../media/type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audio" Target="../media/type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685800" y="1600200"/>
            <a:ext cx="75438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22.1.3.3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二次函数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y=a(x-h)</a:t>
            </a:r>
            <a:r>
              <a:rPr b="0" lang="zh-CN" sz="4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+k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图象及其性质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矩形 9"/>
          <p:cNvSpPr/>
          <p:nvPr/>
        </p:nvSpPr>
        <p:spPr>
          <a:xfrm>
            <a:off x="1388880" y="0"/>
            <a:ext cx="420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宋体"/>
              </a:rPr>
              <a:t>平移的规律总结：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矩形 10"/>
          <p:cNvSpPr/>
          <p:nvPr/>
        </p:nvSpPr>
        <p:spPr>
          <a:xfrm>
            <a:off x="623160" y="2209680"/>
            <a:ext cx="11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=a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矩形 11"/>
          <p:cNvSpPr/>
          <p:nvPr/>
        </p:nvSpPr>
        <p:spPr>
          <a:xfrm>
            <a:off x="6560280" y="2286000"/>
            <a:ext cx="177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=a(x-h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矩形 12"/>
          <p:cNvSpPr/>
          <p:nvPr/>
        </p:nvSpPr>
        <p:spPr>
          <a:xfrm>
            <a:off x="6330960" y="4267080"/>
            <a:ext cx="243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=a(x-h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k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5"/>
          <p:cNvSpPr/>
          <p:nvPr/>
        </p:nvSpPr>
        <p:spPr>
          <a:xfrm>
            <a:off x="1981080" y="4572000"/>
            <a:ext cx="419112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5"/>
          <p:cNvSpPr/>
          <p:nvPr/>
        </p:nvSpPr>
        <p:spPr>
          <a:xfrm>
            <a:off x="2057400" y="2590920"/>
            <a:ext cx="419112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矩形 15"/>
          <p:cNvSpPr/>
          <p:nvPr/>
        </p:nvSpPr>
        <p:spPr>
          <a:xfrm>
            <a:off x="2384640" y="1905120"/>
            <a:ext cx="350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8020f"/>
                </a:solidFill>
                <a:latin typeface="Times New Roman"/>
                <a:ea typeface="宋体"/>
              </a:rPr>
              <a:t>当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&gt;0</a:t>
            </a:r>
            <a:r>
              <a:rPr b="1" lang="zh-CN" sz="2800" spc="-1" strike="noStrike">
                <a:solidFill>
                  <a:srgbClr val="18020f"/>
                </a:solidFill>
                <a:latin typeface="Times New Roman"/>
                <a:ea typeface="宋体"/>
              </a:rPr>
              <a:t>时</a:t>
            </a:r>
            <a:r>
              <a:rPr b="1" lang="en-US" sz="2800" spc="-1" strike="noStrike">
                <a:solidFill>
                  <a:srgbClr val="18020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18020f"/>
                </a:solidFill>
                <a:latin typeface="Times New Roman"/>
                <a:ea typeface="宋体"/>
              </a:rPr>
              <a:t>向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右</a:t>
            </a:r>
            <a:r>
              <a:rPr b="1" lang="zh-CN" sz="2800" spc="-1" strike="noStrike">
                <a:solidFill>
                  <a:srgbClr val="18020f"/>
                </a:solidFill>
                <a:latin typeface="Times New Roman"/>
                <a:ea typeface="宋体"/>
              </a:rPr>
              <a:t>平移</a:t>
            </a:r>
            <a:r>
              <a:rPr b="1" lang="en-US" sz="2800" spc="-1" strike="noStrike">
                <a:solidFill>
                  <a:srgbClr val="18020f"/>
                </a:solidFill>
                <a:latin typeface="Times New Roman"/>
              </a:rPr>
              <a:t>h</a:t>
            </a:r>
            <a:r>
              <a:rPr b="1" lang="zh-CN" sz="2800" spc="-1" strike="noStrike">
                <a:solidFill>
                  <a:srgbClr val="18020f"/>
                </a:solidFill>
                <a:latin typeface="Times New Roman"/>
                <a:ea typeface="宋体"/>
              </a:rPr>
              <a:t>个单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矩形 16"/>
          <p:cNvSpPr/>
          <p:nvPr/>
        </p:nvSpPr>
        <p:spPr>
          <a:xfrm>
            <a:off x="2383560" y="2743200"/>
            <a:ext cx="36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8020f"/>
                </a:solidFill>
                <a:latin typeface="Times New Roman"/>
                <a:ea typeface="宋体"/>
              </a:rPr>
              <a:t>当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&lt;0</a:t>
            </a:r>
            <a:r>
              <a:rPr b="1" lang="zh-CN" sz="2800" spc="-1" strike="noStrike">
                <a:solidFill>
                  <a:srgbClr val="18020f"/>
                </a:solidFill>
                <a:latin typeface="Times New Roman"/>
                <a:ea typeface="宋体"/>
              </a:rPr>
              <a:t>时</a:t>
            </a:r>
            <a:r>
              <a:rPr b="1" lang="en-US" sz="2800" spc="-1" strike="noStrike">
                <a:solidFill>
                  <a:srgbClr val="18020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18020f"/>
                </a:solidFill>
                <a:latin typeface="Times New Roman"/>
                <a:ea typeface="宋体"/>
              </a:rPr>
              <a:t>向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左</a:t>
            </a:r>
            <a:r>
              <a:rPr b="1" lang="zh-CN" sz="2800" spc="-1" strike="noStrike">
                <a:solidFill>
                  <a:srgbClr val="18020f"/>
                </a:solidFill>
                <a:latin typeface="Times New Roman"/>
                <a:ea typeface="宋体"/>
              </a:rPr>
              <a:t>平移 </a:t>
            </a:r>
            <a:r>
              <a:rPr b="1" lang="en-US" sz="2800" spc="-1" strike="noStrike">
                <a:solidFill>
                  <a:srgbClr val="18020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18020f"/>
                </a:solidFill>
                <a:latin typeface="Times New Roman"/>
                <a:ea typeface="宋体"/>
              </a:rPr>
              <a:t>个单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Object 10" descr=""/>
          <p:cNvPicPr/>
          <p:nvPr/>
        </p:nvPicPr>
        <p:blipFill>
          <a:blip r:embed="rId1"/>
          <a:stretch/>
        </p:blipFill>
        <p:spPr>
          <a:xfrm>
            <a:off x="4800600" y="2666880"/>
            <a:ext cx="457200" cy="703440"/>
          </a:xfrm>
          <a:prstGeom prst="rect">
            <a:avLst/>
          </a:prstGeom>
          <a:ln w="0">
            <a:noFill/>
          </a:ln>
        </p:spPr>
      </p:pic>
      <p:sp>
        <p:nvSpPr>
          <p:cNvPr id="400" name="矩形 18"/>
          <p:cNvSpPr/>
          <p:nvPr/>
        </p:nvSpPr>
        <p:spPr>
          <a:xfrm>
            <a:off x="2394360" y="3962520"/>
            <a:ext cx="347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8020f"/>
                </a:solidFill>
                <a:latin typeface="Times New Roman"/>
                <a:ea typeface="宋体"/>
              </a:rPr>
              <a:t>当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&gt;0</a:t>
            </a:r>
            <a:r>
              <a:rPr b="1" lang="zh-CN" sz="2800" spc="-1" strike="noStrike">
                <a:solidFill>
                  <a:srgbClr val="18020f"/>
                </a:solidFill>
                <a:latin typeface="Times New Roman"/>
                <a:ea typeface="宋体"/>
              </a:rPr>
              <a:t>时</a:t>
            </a:r>
            <a:r>
              <a:rPr b="1" lang="en-US" sz="2800" spc="-1" strike="noStrike">
                <a:solidFill>
                  <a:srgbClr val="18020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18020f"/>
                </a:solidFill>
                <a:latin typeface="Times New Roman"/>
                <a:ea typeface="宋体"/>
              </a:rPr>
              <a:t>向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上</a:t>
            </a:r>
            <a:r>
              <a:rPr b="1" lang="zh-CN" sz="2800" spc="-1" strike="noStrike">
                <a:solidFill>
                  <a:srgbClr val="18020f"/>
                </a:solidFill>
                <a:latin typeface="Times New Roman"/>
                <a:ea typeface="宋体"/>
              </a:rPr>
              <a:t>平移</a:t>
            </a:r>
            <a:r>
              <a:rPr b="1" lang="en-US" sz="2800" spc="-1" strike="noStrike">
                <a:solidFill>
                  <a:srgbClr val="18020f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18020f"/>
                </a:solidFill>
                <a:latin typeface="Times New Roman"/>
                <a:ea typeface="宋体"/>
              </a:rPr>
              <a:t>个单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矩形 19"/>
          <p:cNvSpPr/>
          <p:nvPr/>
        </p:nvSpPr>
        <p:spPr>
          <a:xfrm>
            <a:off x="1447920" y="472428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8020f"/>
                </a:solidFill>
                <a:latin typeface="Times New Roman"/>
                <a:ea typeface="宋体"/>
              </a:rPr>
              <a:t>当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&lt;0</a:t>
            </a:r>
            <a:r>
              <a:rPr b="1" lang="zh-CN" sz="3200" spc="-1" strike="noStrike">
                <a:solidFill>
                  <a:srgbClr val="18020f"/>
                </a:solidFill>
                <a:latin typeface="Times New Roman"/>
                <a:ea typeface="宋体"/>
              </a:rPr>
              <a:t>时</a:t>
            </a:r>
            <a:r>
              <a:rPr b="1" lang="en-US" sz="3200" spc="-1" strike="noStrike">
                <a:solidFill>
                  <a:srgbClr val="18020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18020f"/>
                </a:solidFill>
                <a:latin typeface="Times New Roman"/>
                <a:ea typeface="宋体"/>
              </a:rPr>
              <a:t>向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下</a:t>
            </a:r>
            <a:r>
              <a:rPr b="1" lang="zh-CN" sz="3200" spc="-1" strike="noStrike">
                <a:solidFill>
                  <a:srgbClr val="18020f"/>
                </a:solidFill>
                <a:latin typeface="Times New Roman"/>
                <a:ea typeface="宋体"/>
              </a:rPr>
              <a:t>平移    个单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Object 13" descr=""/>
          <p:cNvPicPr/>
          <p:nvPr/>
        </p:nvPicPr>
        <p:blipFill>
          <a:blip r:embed="rId2"/>
          <a:stretch/>
        </p:blipFill>
        <p:spPr>
          <a:xfrm>
            <a:off x="4800600" y="4724280"/>
            <a:ext cx="387360" cy="5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8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8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8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5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7" dur="8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3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4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34"/>
          <p:cNvGrpSpPr/>
          <p:nvPr/>
        </p:nvGrpSpPr>
        <p:grpSpPr>
          <a:xfrm>
            <a:off x="0" y="-73080"/>
            <a:ext cx="9144000" cy="7616520"/>
            <a:chOff x="0" y="-73080"/>
            <a:chExt cx="9144000" cy="7616520"/>
          </a:xfrm>
        </p:grpSpPr>
        <p:grpSp>
          <p:nvGrpSpPr>
            <p:cNvPr id="404" name="Group 35"/>
            <p:cNvGrpSpPr/>
            <p:nvPr/>
          </p:nvGrpSpPr>
          <p:grpSpPr>
            <a:xfrm>
              <a:off x="0" y="-73080"/>
              <a:ext cx="9144000" cy="7616520"/>
              <a:chOff x="0" y="-73080"/>
              <a:chExt cx="9144000" cy="7616520"/>
            </a:xfrm>
          </p:grpSpPr>
          <p:pic>
            <p:nvPicPr>
              <p:cNvPr id="405" name="Picture 36" descr=""/>
              <p:cNvPicPr/>
              <p:nvPr/>
            </p:nvPicPr>
            <p:blipFill>
              <a:blip r:embed="rId1"/>
              <a:srcRect l="20548" t="0" r="0" b="0"/>
              <a:stretch/>
            </p:blipFill>
            <p:spPr>
              <a:xfrm>
                <a:off x="0" y="-73080"/>
                <a:ext cx="4419720" cy="447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6" name="Picture 37" descr=""/>
              <p:cNvPicPr/>
              <p:nvPr/>
            </p:nvPicPr>
            <p:blipFill>
              <a:blip r:embed="rId2"/>
              <a:srcRect l="0" t="0" r="12330" b="0"/>
              <a:stretch/>
            </p:blipFill>
            <p:spPr>
              <a:xfrm>
                <a:off x="4267080" y="-73080"/>
                <a:ext cx="4876920" cy="447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Picture 38" descr=""/>
              <p:cNvPicPr/>
              <p:nvPr/>
            </p:nvPicPr>
            <p:blipFill>
              <a:blip r:embed="rId3"/>
              <a:srcRect l="20548" t="0" r="0" b="25509"/>
              <a:stretch/>
            </p:blipFill>
            <p:spPr>
              <a:xfrm>
                <a:off x="0" y="4206240"/>
                <a:ext cx="4419720" cy="333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Picture 39" descr=""/>
              <p:cNvPicPr/>
              <p:nvPr/>
            </p:nvPicPr>
            <p:blipFill>
              <a:blip r:embed="rId4"/>
              <a:srcRect l="0" t="0" r="12330" b="25509"/>
              <a:stretch/>
            </p:blipFill>
            <p:spPr>
              <a:xfrm>
                <a:off x="4267080" y="4206240"/>
                <a:ext cx="4876920" cy="333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9" name="Line 40"/>
              <p:cNvSpPr/>
              <p:nvPr/>
            </p:nvSpPr>
            <p:spPr>
              <a:xfrm>
                <a:off x="0" y="4268160"/>
                <a:ext cx="9144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Line 41"/>
              <p:cNvSpPr/>
              <p:nvPr/>
            </p:nvSpPr>
            <p:spPr>
              <a:xfrm flipV="1">
                <a:off x="4343400" y="78480"/>
                <a:ext cx="0" cy="6854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1" name="Text Box 42"/>
            <p:cNvSpPr/>
            <p:nvPr/>
          </p:nvSpPr>
          <p:spPr>
            <a:xfrm>
              <a:off x="3887640" y="41918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Text Box 43"/>
            <p:cNvSpPr/>
            <p:nvPr/>
          </p:nvSpPr>
          <p:spPr>
            <a:xfrm>
              <a:off x="8687880" y="3735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Text Box 44"/>
            <p:cNvSpPr/>
            <p:nvPr/>
          </p:nvSpPr>
          <p:spPr>
            <a:xfrm>
              <a:off x="4497120" y="-73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Text Box 45"/>
            <p:cNvSpPr/>
            <p:nvPr/>
          </p:nvSpPr>
          <p:spPr>
            <a:xfrm>
              <a:off x="4709520" y="42253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Text Box 46"/>
            <p:cNvSpPr/>
            <p:nvPr/>
          </p:nvSpPr>
          <p:spPr>
            <a:xfrm>
              <a:off x="5230440" y="42253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Text Box 47"/>
            <p:cNvSpPr/>
            <p:nvPr/>
          </p:nvSpPr>
          <p:spPr>
            <a:xfrm>
              <a:off x="5763600" y="42253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Text Box 48"/>
            <p:cNvSpPr/>
            <p:nvPr/>
          </p:nvSpPr>
          <p:spPr>
            <a:xfrm>
              <a:off x="6297120" y="42253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Text Box 49"/>
            <p:cNvSpPr/>
            <p:nvPr/>
          </p:nvSpPr>
          <p:spPr>
            <a:xfrm>
              <a:off x="6830640" y="42253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Text Box 50"/>
            <p:cNvSpPr/>
            <p:nvPr/>
          </p:nvSpPr>
          <p:spPr>
            <a:xfrm>
              <a:off x="3947760" y="3509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Text Box 51"/>
            <p:cNvSpPr/>
            <p:nvPr/>
          </p:nvSpPr>
          <p:spPr>
            <a:xfrm>
              <a:off x="3963600" y="29307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Text Box 52"/>
            <p:cNvSpPr/>
            <p:nvPr/>
          </p:nvSpPr>
          <p:spPr>
            <a:xfrm>
              <a:off x="3963600" y="23976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Text Box 53"/>
            <p:cNvSpPr/>
            <p:nvPr/>
          </p:nvSpPr>
          <p:spPr>
            <a:xfrm>
              <a:off x="3963600" y="1864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Text Box 54"/>
            <p:cNvSpPr/>
            <p:nvPr/>
          </p:nvSpPr>
          <p:spPr>
            <a:xfrm>
              <a:off x="3963600" y="1331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Text Box 55"/>
            <p:cNvSpPr/>
            <p:nvPr/>
          </p:nvSpPr>
          <p:spPr>
            <a:xfrm>
              <a:off x="1295280" y="4222080"/>
              <a:ext cx="81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5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Text Box 56"/>
            <p:cNvSpPr/>
            <p:nvPr/>
          </p:nvSpPr>
          <p:spPr>
            <a:xfrm>
              <a:off x="1849320" y="4222080"/>
              <a:ext cx="81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4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Text Box 57"/>
            <p:cNvSpPr/>
            <p:nvPr/>
          </p:nvSpPr>
          <p:spPr>
            <a:xfrm>
              <a:off x="2382840" y="4222080"/>
              <a:ext cx="81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3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Text Box 58"/>
            <p:cNvSpPr/>
            <p:nvPr/>
          </p:nvSpPr>
          <p:spPr>
            <a:xfrm>
              <a:off x="2916360" y="4222080"/>
              <a:ext cx="81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2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Text Box 59"/>
            <p:cNvSpPr/>
            <p:nvPr/>
          </p:nvSpPr>
          <p:spPr>
            <a:xfrm>
              <a:off x="3449520" y="4222080"/>
              <a:ext cx="81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1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Text Box 60"/>
            <p:cNvSpPr/>
            <p:nvPr/>
          </p:nvSpPr>
          <p:spPr>
            <a:xfrm>
              <a:off x="3754440" y="6659640"/>
              <a:ext cx="81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5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Text Box 61"/>
            <p:cNvSpPr/>
            <p:nvPr/>
          </p:nvSpPr>
          <p:spPr>
            <a:xfrm>
              <a:off x="3754440" y="6126480"/>
              <a:ext cx="81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4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Text Box 62"/>
            <p:cNvSpPr/>
            <p:nvPr/>
          </p:nvSpPr>
          <p:spPr>
            <a:xfrm>
              <a:off x="3754440" y="5593320"/>
              <a:ext cx="81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3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Text Box 63"/>
            <p:cNvSpPr/>
            <p:nvPr/>
          </p:nvSpPr>
          <p:spPr>
            <a:xfrm>
              <a:off x="3754440" y="5059800"/>
              <a:ext cx="81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2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Text Box 64"/>
            <p:cNvSpPr/>
            <p:nvPr/>
          </p:nvSpPr>
          <p:spPr>
            <a:xfrm>
              <a:off x="3754440" y="4527000"/>
              <a:ext cx="81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1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Text Box 65"/>
          <p:cNvSpPr/>
          <p:nvPr/>
        </p:nvSpPr>
        <p:spPr>
          <a:xfrm>
            <a:off x="5334120" y="0"/>
            <a:ext cx="3809880" cy="253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观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图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Object 66" descr=""/>
          <p:cNvPicPr/>
          <p:nvPr/>
        </p:nvPicPr>
        <p:blipFill>
          <a:blip r:embed="rId5"/>
          <a:stretch/>
        </p:blipFill>
        <p:spPr>
          <a:xfrm>
            <a:off x="6553080" y="-301680"/>
            <a:ext cx="1371600" cy="986040"/>
          </a:xfrm>
          <a:prstGeom prst="rect">
            <a:avLst/>
          </a:prstGeom>
          <a:ln w="0">
            <a:noFill/>
          </a:ln>
        </p:spPr>
      </p:pic>
      <p:pic>
        <p:nvPicPr>
          <p:cNvPr id="436" name="Object 67" descr=""/>
          <p:cNvPicPr/>
          <p:nvPr/>
        </p:nvPicPr>
        <p:blipFill>
          <a:blip r:embed="rId6"/>
          <a:stretch/>
        </p:blipFill>
        <p:spPr>
          <a:xfrm>
            <a:off x="5638680" y="457200"/>
            <a:ext cx="2679840" cy="988920"/>
          </a:xfrm>
          <a:prstGeom prst="rect">
            <a:avLst/>
          </a:prstGeom>
          <a:ln w="0">
            <a:noFill/>
          </a:ln>
        </p:spPr>
      </p:pic>
      <p:pic>
        <p:nvPicPr>
          <p:cNvPr id="437" name="Object 68" descr=""/>
          <p:cNvPicPr/>
          <p:nvPr/>
        </p:nvPicPr>
        <p:blipFill>
          <a:blip r:embed="rId7"/>
          <a:stretch/>
        </p:blipFill>
        <p:spPr>
          <a:xfrm>
            <a:off x="5715000" y="1143000"/>
            <a:ext cx="2647800" cy="988920"/>
          </a:xfrm>
          <a:prstGeom prst="rect">
            <a:avLst/>
          </a:prstGeom>
          <a:ln w="0">
            <a:noFill/>
          </a:ln>
        </p:spPr>
      </p:pic>
      <p:sp>
        <p:nvSpPr>
          <p:cNvPr id="438" name="Freeform 69"/>
          <p:cNvSpPr/>
          <p:nvPr/>
        </p:nvSpPr>
        <p:spPr>
          <a:xfrm>
            <a:off x="2438280" y="990720"/>
            <a:ext cx="3810240" cy="3276360"/>
          </a:xfrm>
          <a:custGeom>
            <a:avLst/>
            <a:gdLst/>
            <a:ahLst/>
            <a:rect l="l" t="t" r="r" b="b"/>
            <a:pathLst>
              <a:path w="1543" h="2064">
                <a:moveTo>
                  <a:pt x="0" y="0"/>
                </a:moveTo>
                <a:lnTo>
                  <a:pt x="6" y="36"/>
                </a:lnTo>
                <a:lnTo>
                  <a:pt x="12" y="72"/>
                </a:lnTo>
                <a:lnTo>
                  <a:pt x="24" y="108"/>
                </a:lnTo>
                <a:lnTo>
                  <a:pt x="30" y="144"/>
                </a:lnTo>
                <a:lnTo>
                  <a:pt x="36" y="180"/>
                </a:lnTo>
                <a:lnTo>
                  <a:pt x="42" y="216"/>
                </a:lnTo>
                <a:lnTo>
                  <a:pt x="48" y="246"/>
                </a:lnTo>
                <a:lnTo>
                  <a:pt x="54" y="282"/>
                </a:lnTo>
                <a:lnTo>
                  <a:pt x="60" y="318"/>
                </a:lnTo>
                <a:lnTo>
                  <a:pt x="72" y="348"/>
                </a:lnTo>
                <a:lnTo>
                  <a:pt x="78" y="384"/>
                </a:lnTo>
                <a:lnTo>
                  <a:pt x="84" y="414"/>
                </a:lnTo>
                <a:lnTo>
                  <a:pt x="90" y="450"/>
                </a:lnTo>
                <a:lnTo>
                  <a:pt x="96" y="480"/>
                </a:lnTo>
                <a:lnTo>
                  <a:pt x="102" y="510"/>
                </a:lnTo>
                <a:lnTo>
                  <a:pt x="108" y="546"/>
                </a:lnTo>
                <a:lnTo>
                  <a:pt x="120" y="576"/>
                </a:lnTo>
                <a:lnTo>
                  <a:pt x="126" y="606"/>
                </a:lnTo>
                <a:lnTo>
                  <a:pt x="132" y="636"/>
                </a:lnTo>
                <a:lnTo>
                  <a:pt x="138" y="666"/>
                </a:lnTo>
                <a:lnTo>
                  <a:pt x="144" y="696"/>
                </a:lnTo>
                <a:lnTo>
                  <a:pt x="150" y="726"/>
                </a:lnTo>
                <a:lnTo>
                  <a:pt x="156" y="756"/>
                </a:lnTo>
                <a:lnTo>
                  <a:pt x="168" y="786"/>
                </a:lnTo>
                <a:lnTo>
                  <a:pt x="174" y="816"/>
                </a:lnTo>
                <a:lnTo>
                  <a:pt x="180" y="840"/>
                </a:lnTo>
                <a:lnTo>
                  <a:pt x="186" y="870"/>
                </a:lnTo>
                <a:lnTo>
                  <a:pt x="192" y="900"/>
                </a:lnTo>
                <a:lnTo>
                  <a:pt x="198" y="924"/>
                </a:lnTo>
                <a:lnTo>
                  <a:pt x="204" y="954"/>
                </a:lnTo>
                <a:lnTo>
                  <a:pt x="216" y="978"/>
                </a:lnTo>
                <a:lnTo>
                  <a:pt x="222" y="1002"/>
                </a:lnTo>
                <a:lnTo>
                  <a:pt x="228" y="1032"/>
                </a:lnTo>
                <a:lnTo>
                  <a:pt x="234" y="1056"/>
                </a:lnTo>
                <a:lnTo>
                  <a:pt x="240" y="1080"/>
                </a:lnTo>
                <a:lnTo>
                  <a:pt x="246" y="1104"/>
                </a:lnTo>
                <a:lnTo>
                  <a:pt x="252" y="1134"/>
                </a:lnTo>
                <a:lnTo>
                  <a:pt x="264" y="1158"/>
                </a:lnTo>
                <a:lnTo>
                  <a:pt x="270" y="1182"/>
                </a:lnTo>
                <a:lnTo>
                  <a:pt x="276" y="1206"/>
                </a:lnTo>
                <a:lnTo>
                  <a:pt x="282" y="1230"/>
                </a:lnTo>
                <a:lnTo>
                  <a:pt x="288" y="1248"/>
                </a:lnTo>
                <a:lnTo>
                  <a:pt x="294" y="1272"/>
                </a:lnTo>
                <a:lnTo>
                  <a:pt x="300" y="1296"/>
                </a:lnTo>
                <a:lnTo>
                  <a:pt x="312" y="1320"/>
                </a:lnTo>
                <a:lnTo>
                  <a:pt x="318" y="1338"/>
                </a:lnTo>
                <a:lnTo>
                  <a:pt x="324" y="1362"/>
                </a:lnTo>
                <a:lnTo>
                  <a:pt x="330" y="1380"/>
                </a:lnTo>
                <a:lnTo>
                  <a:pt x="336" y="1404"/>
                </a:lnTo>
                <a:lnTo>
                  <a:pt x="342" y="1422"/>
                </a:lnTo>
                <a:lnTo>
                  <a:pt x="348" y="1446"/>
                </a:lnTo>
                <a:lnTo>
                  <a:pt x="360" y="1464"/>
                </a:lnTo>
                <a:lnTo>
                  <a:pt x="366" y="1482"/>
                </a:lnTo>
                <a:lnTo>
                  <a:pt x="372" y="1500"/>
                </a:lnTo>
                <a:lnTo>
                  <a:pt x="378" y="1524"/>
                </a:lnTo>
                <a:lnTo>
                  <a:pt x="384" y="1542"/>
                </a:lnTo>
                <a:lnTo>
                  <a:pt x="390" y="1560"/>
                </a:lnTo>
                <a:lnTo>
                  <a:pt x="396" y="1578"/>
                </a:lnTo>
                <a:lnTo>
                  <a:pt x="408" y="1596"/>
                </a:lnTo>
                <a:lnTo>
                  <a:pt x="414" y="1614"/>
                </a:lnTo>
                <a:lnTo>
                  <a:pt x="420" y="1626"/>
                </a:lnTo>
                <a:lnTo>
                  <a:pt x="426" y="1644"/>
                </a:lnTo>
                <a:lnTo>
                  <a:pt x="432" y="1662"/>
                </a:lnTo>
                <a:lnTo>
                  <a:pt x="438" y="1680"/>
                </a:lnTo>
                <a:lnTo>
                  <a:pt x="444" y="1692"/>
                </a:lnTo>
                <a:lnTo>
                  <a:pt x="456" y="1710"/>
                </a:lnTo>
                <a:lnTo>
                  <a:pt x="462" y="1722"/>
                </a:lnTo>
                <a:lnTo>
                  <a:pt x="468" y="1740"/>
                </a:lnTo>
                <a:lnTo>
                  <a:pt x="474" y="1752"/>
                </a:lnTo>
                <a:lnTo>
                  <a:pt x="480" y="1764"/>
                </a:lnTo>
                <a:lnTo>
                  <a:pt x="486" y="1782"/>
                </a:lnTo>
                <a:lnTo>
                  <a:pt x="492" y="1794"/>
                </a:lnTo>
                <a:lnTo>
                  <a:pt x="504" y="1806"/>
                </a:lnTo>
                <a:lnTo>
                  <a:pt x="510" y="1818"/>
                </a:lnTo>
                <a:lnTo>
                  <a:pt x="516" y="1830"/>
                </a:lnTo>
                <a:lnTo>
                  <a:pt x="522" y="1842"/>
                </a:lnTo>
                <a:lnTo>
                  <a:pt x="528" y="1854"/>
                </a:lnTo>
                <a:lnTo>
                  <a:pt x="534" y="1866"/>
                </a:lnTo>
                <a:lnTo>
                  <a:pt x="540" y="1878"/>
                </a:lnTo>
                <a:lnTo>
                  <a:pt x="552" y="1890"/>
                </a:lnTo>
                <a:lnTo>
                  <a:pt x="558" y="1902"/>
                </a:lnTo>
                <a:lnTo>
                  <a:pt x="564" y="1908"/>
                </a:lnTo>
                <a:lnTo>
                  <a:pt x="570" y="1920"/>
                </a:lnTo>
                <a:lnTo>
                  <a:pt x="576" y="1932"/>
                </a:lnTo>
                <a:lnTo>
                  <a:pt x="582" y="1938"/>
                </a:lnTo>
                <a:lnTo>
                  <a:pt x="588" y="1950"/>
                </a:lnTo>
                <a:lnTo>
                  <a:pt x="600" y="1956"/>
                </a:lnTo>
                <a:lnTo>
                  <a:pt x="606" y="1962"/>
                </a:lnTo>
                <a:lnTo>
                  <a:pt x="612" y="1974"/>
                </a:lnTo>
                <a:lnTo>
                  <a:pt x="618" y="1980"/>
                </a:lnTo>
                <a:lnTo>
                  <a:pt x="624" y="1986"/>
                </a:lnTo>
                <a:lnTo>
                  <a:pt x="630" y="1992"/>
                </a:lnTo>
                <a:lnTo>
                  <a:pt x="636" y="1998"/>
                </a:lnTo>
                <a:lnTo>
                  <a:pt x="648" y="2004"/>
                </a:lnTo>
                <a:lnTo>
                  <a:pt x="654" y="2010"/>
                </a:lnTo>
                <a:lnTo>
                  <a:pt x="660" y="2016"/>
                </a:lnTo>
                <a:lnTo>
                  <a:pt x="666" y="2022"/>
                </a:lnTo>
                <a:lnTo>
                  <a:pt x="672" y="2028"/>
                </a:lnTo>
                <a:lnTo>
                  <a:pt x="678" y="2034"/>
                </a:lnTo>
                <a:lnTo>
                  <a:pt x="684" y="2040"/>
                </a:lnTo>
                <a:lnTo>
                  <a:pt x="690" y="2040"/>
                </a:lnTo>
                <a:lnTo>
                  <a:pt x="702" y="2046"/>
                </a:lnTo>
                <a:lnTo>
                  <a:pt x="708" y="2046"/>
                </a:lnTo>
                <a:lnTo>
                  <a:pt x="714" y="2052"/>
                </a:lnTo>
                <a:lnTo>
                  <a:pt x="720" y="2052"/>
                </a:lnTo>
                <a:lnTo>
                  <a:pt x="726" y="2058"/>
                </a:lnTo>
                <a:lnTo>
                  <a:pt x="732" y="2058"/>
                </a:lnTo>
                <a:lnTo>
                  <a:pt x="738" y="2058"/>
                </a:lnTo>
                <a:lnTo>
                  <a:pt x="750" y="2064"/>
                </a:lnTo>
                <a:lnTo>
                  <a:pt x="756" y="2064"/>
                </a:lnTo>
                <a:lnTo>
                  <a:pt x="762" y="2064"/>
                </a:lnTo>
                <a:lnTo>
                  <a:pt x="768" y="2064"/>
                </a:lnTo>
                <a:lnTo>
                  <a:pt x="774" y="2064"/>
                </a:lnTo>
                <a:lnTo>
                  <a:pt x="781" y="2064"/>
                </a:lnTo>
                <a:lnTo>
                  <a:pt x="787" y="2064"/>
                </a:lnTo>
                <a:lnTo>
                  <a:pt x="799" y="2064"/>
                </a:lnTo>
                <a:lnTo>
                  <a:pt x="805" y="2064"/>
                </a:lnTo>
                <a:lnTo>
                  <a:pt x="811" y="2058"/>
                </a:lnTo>
                <a:lnTo>
                  <a:pt x="817" y="2058"/>
                </a:lnTo>
                <a:lnTo>
                  <a:pt x="823" y="2058"/>
                </a:lnTo>
                <a:lnTo>
                  <a:pt x="829" y="2052"/>
                </a:lnTo>
                <a:lnTo>
                  <a:pt x="835" y="2052"/>
                </a:lnTo>
                <a:lnTo>
                  <a:pt x="847" y="2046"/>
                </a:lnTo>
                <a:lnTo>
                  <a:pt x="853" y="2046"/>
                </a:lnTo>
                <a:lnTo>
                  <a:pt x="859" y="2040"/>
                </a:lnTo>
                <a:lnTo>
                  <a:pt x="865" y="2034"/>
                </a:lnTo>
                <a:lnTo>
                  <a:pt x="871" y="2034"/>
                </a:lnTo>
                <a:lnTo>
                  <a:pt x="877" y="2028"/>
                </a:lnTo>
                <a:lnTo>
                  <a:pt x="883" y="2022"/>
                </a:lnTo>
                <a:lnTo>
                  <a:pt x="895" y="2016"/>
                </a:lnTo>
                <a:lnTo>
                  <a:pt x="901" y="2010"/>
                </a:lnTo>
                <a:lnTo>
                  <a:pt x="907" y="2004"/>
                </a:lnTo>
                <a:lnTo>
                  <a:pt x="913" y="1998"/>
                </a:lnTo>
                <a:lnTo>
                  <a:pt x="919" y="1992"/>
                </a:lnTo>
                <a:lnTo>
                  <a:pt x="925" y="1986"/>
                </a:lnTo>
                <a:lnTo>
                  <a:pt x="931" y="1974"/>
                </a:lnTo>
                <a:lnTo>
                  <a:pt x="943" y="1968"/>
                </a:lnTo>
                <a:lnTo>
                  <a:pt x="949" y="1962"/>
                </a:lnTo>
                <a:lnTo>
                  <a:pt x="955" y="1950"/>
                </a:lnTo>
                <a:lnTo>
                  <a:pt x="961" y="1944"/>
                </a:lnTo>
                <a:lnTo>
                  <a:pt x="967" y="1938"/>
                </a:lnTo>
                <a:lnTo>
                  <a:pt x="973" y="1926"/>
                </a:lnTo>
                <a:lnTo>
                  <a:pt x="979" y="1914"/>
                </a:lnTo>
                <a:lnTo>
                  <a:pt x="991" y="1908"/>
                </a:lnTo>
                <a:lnTo>
                  <a:pt x="997" y="1896"/>
                </a:lnTo>
                <a:lnTo>
                  <a:pt x="1003" y="1884"/>
                </a:lnTo>
                <a:lnTo>
                  <a:pt x="1009" y="1872"/>
                </a:lnTo>
                <a:lnTo>
                  <a:pt x="1015" y="1866"/>
                </a:lnTo>
                <a:lnTo>
                  <a:pt x="1021" y="1854"/>
                </a:lnTo>
                <a:lnTo>
                  <a:pt x="1027" y="1842"/>
                </a:lnTo>
                <a:lnTo>
                  <a:pt x="1039" y="1830"/>
                </a:lnTo>
                <a:lnTo>
                  <a:pt x="1045" y="1818"/>
                </a:lnTo>
                <a:lnTo>
                  <a:pt x="1051" y="1800"/>
                </a:lnTo>
                <a:lnTo>
                  <a:pt x="1057" y="1788"/>
                </a:lnTo>
                <a:lnTo>
                  <a:pt x="1063" y="1776"/>
                </a:lnTo>
                <a:lnTo>
                  <a:pt x="1069" y="1764"/>
                </a:lnTo>
                <a:lnTo>
                  <a:pt x="1075" y="1746"/>
                </a:lnTo>
                <a:lnTo>
                  <a:pt x="1087" y="1734"/>
                </a:lnTo>
                <a:lnTo>
                  <a:pt x="1093" y="1716"/>
                </a:lnTo>
                <a:lnTo>
                  <a:pt x="1099" y="1704"/>
                </a:lnTo>
                <a:lnTo>
                  <a:pt x="1105" y="1686"/>
                </a:lnTo>
                <a:lnTo>
                  <a:pt x="1111" y="1674"/>
                </a:lnTo>
                <a:lnTo>
                  <a:pt x="1117" y="1656"/>
                </a:lnTo>
                <a:lnTo>
                  <a:pt x="1123" y="1638"/>
                </a:lnTo>
                <a:lnTo>
                  <a:pt x="1135" y="1620"/>
                </a:lnTo>
                <a:lnTo>
                  <a:pt x="1141" y="1608"/>
                </a:lnTo>
                <a:lnTo>
                  <a:pt x="1147" y="1590"/>
                </a:lnTo>
                <a:lnTo>
                  <a:pt x="1153" y="1572"/>
                </a:lnTo>
                <a:lnTo>
                  <a:pt x="1159" y="1554"/>
                </a:lnTo>
                <a:lnTo>
                  <a:pt x="1165" y="1536"/>
                </a:lnTo>
                <a:lnTo>
                  <a:pt x="1171" y="1518"/>
                </a:lnTo>
                <a:lnTo>
                  <a:pt x="1183" y="1494"/>
                </a:lnTo>
                <a:lnTo>
                  <a:pt x="1189" y="1476"/>
                </a:lnTo>
                <a:lnTo>
                  <a:pt x="1195" y="1458"/>
                </a:lnTo>
                <a:lnTo>
                  <a:pt x="1201" y="1440"/>
                </a:lnTo>
                <a:lnTo>
                  <a:pt x="1207" y="1416"/>
                </a:lnTo>
                <a:lnTo>
                  <a:pt x="1213" y="1398"/>
                </a:lnTo>
                <a:lnTo>
                  <a:pt x="1219" y="1374"/>
                </a:lnTo>
                <a:lnTo>
                  <a:pt x="1231" y="1356"/>
                </a:lnTo>
                <a:lnTo>
                  <a:pt x="1237" y="1332"/>
                </a:lnTo>
                <a:lnTo>
                  <a:pt x="1243" y="1308"/>
                </a:lnTo>
                <a:lnTo>
                  <a:pt x="1249" y="1290"/>
                </a:lnTo>
                <a:lnTo>
                  <a:pt x="1255" y="1266"/>
                </a:lnTo>
                <a:lnTo>
                  <a:pt x="1261" y="1242"/>
                </a:lnTo>
                <a:lnTo>
                  <a:pt x="1267" y="1218"/>
                </a:lnTo>
                <a:lnTo>
                  <a:pt x="1279" y="1194"/>
                </a:lnTo>
                <a:lnTo>
                  <a:pt x="1285" y="1170"/>
                </a:lnTo>
                <a:lnTo>
                  <a:pt x="1291" y="1146"/>
                </a:lnTo>
                <a:lnTo>
                  <a:pt x="1297" y="1122"/>
                </a:lnTo>
                <a:lnTo>
                  <a:pt x="1303" y="1098"/>
                </a:lnTo>
                <a:lnTo>
                  <a:pt x="1309" y="1074"/>
                </a:lnTo>
                <a:lnTo>
                  <a:pt x="1315" y="1050"/>
                </a:lnTo>
                <a:lnTo>
                  <a:pt x="1327" y="1020"/>
                </a:lnTo>
                <a:lnTo>
                  <a:pt x="1333" y="996"/>
                </a:lnTo>
                <a:lnTo>
                  <a:pt x="1339" y="966"/>
                </a:lnTo>
                <a:lnTo>
                  <a:pt x="1345" y="942"/>
                </a:lnTo>
                <a:lnTo>
                  <a:pt x="1351" y="912"/>
                </a:lnTo>
                <a:lnTo>
                  <a:pt x="1357" y="888"/>
                </a:lnTo>
                <a:lnTo>
                  <a:pt x="1363" y="858"/>
                </a:lnTo>
                <a:lnTo>
                  <a:pt x="1375" y="834"/>
                </a:lnTo>
                <a:lnTo>
                  <a:pt x="1381" y="804"/>
                </a:lnTo>
                <a:lnTo>
                  <a:pt x="1387" y="774"/>
                </a:lnTo>
                <a:lnTo>
                  <a:pt x="1393" y="744"/>
                </a:lnTo>
                <a:lnTo>
                  <a:pt x="1399" y="714"/>
                </a:lnTo>
                <a:lnTo>
                  <a:pt x="1405" y="684"/>
                </a:lnTo>
                <a:lnTo>
                  <a:pt x="1411" y="654"/>
                </a:lnTo>
                <a:lnTo>
                  <a:pt x="1423" y="624"/>
                </a:lnTo>
                <a:lnTo>
                  <a:pt x="1429" y="594"/>
                </a:lnTo>
                <a:lnTo>
                  <a:pt x="1435" y="564"/>
                </a:lnTo>
                <a:lnTo>
                  <a:pt x="1441" y="534"/>
                </a:lnTo>
                <a:lnTo>
                  <a:pt x="1447" y="504"/>
                </a:lnTo>
                <a:lnTo>
                  <a:pt x="1453" y="468"/>
                </a:lnTo>
                <a:lnTo>
                  <a:pt x="1459" y="438"/>
                </a:lnTo>
                <a:lnTo>
                  <a:pt x="1471" y="402"/>
                </a:lnTo>
                <a:lnTo>
                  <a:pt x="1477" y="372"/>
                </a:lnTo>
                <a:lnTo>
                  <a:pt x="1483" y="336"/>
                </a:lnTo>
                <a:lnTo>
                  <a:pt x="1489" y="306"/>
                </a:lnTo>
                <a:lnTo>
                  <a:pt x="1495" y="270"/>
                </a:lnTo>
                <a:lnTo>
                  <a:pt x="1501" y="234"/>
                </a:lnTo>
                <a:lnTo>
                  <a:pt x="1507" y="204"/>
                </a:lnTo>
                <a:lnTo>
                  <a:pt x="1519" y="168"/>
                </a:lnTo>
                <a:lnTo>
                  <a:pt x="1525" y="132"/>
                </a:lnTo>
                <a:lnTo>
                  <a:pt x="1531" y="96"/>
                </a:lnTo>
                <a:lnTo>
                  <a:pt x="1537" y="60"/>
                </a:lnTo>
                <a:lnTo>
                  <a:pt x="1543" y="24"/>
                </a:ln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Object 70" descr=""/>
          <p:cNvPicPr/>
          <p:nvPr/>
        </p:nvPicPr>
        <p:blipFill>
          <a:blip r:embed="rId8"/>
          <a:stretch/>
        </p:blipFill>
        <p:spPr>
          <a:xfrm>
            <a:off x="5257800" y="3048120"/>
            <a:ext cx="1371600" cy="988920"/>
          </a:xfrm>
          <a:prstGeom prst="rect">
            <a:avLst/>
          </a:prstGeom>
          <a:ln w="0">
            <a:noFill/>
          </a:ln>
        </p:spPr>
      </p:pic>
      <p:grpSp>
        <p:nvGrpSpPr>
          <p:cNvPr id="440" name="Group 73"/>
          <p:cNvGrpSpPr/>
          <p:nvPr/>
        </p:nvGrpSpPr>
        <p:grpSpPr>
          <a:xfrm>
            <a:off x="2438280" y="990720"/>
            <a:ext cx="3809880" cy="4114800"/>
            <a:chOff x="2438280" y="990720"/>
            <a:chExt cx="3809880" cy="4114800"/>
          </a:xfrm>
        </p:grpSpPr>
        <p:sp>
          <p:nvSpPr>
            <p:cNvPr id="441" name="Freeform 71"/>
            <p:cNvSpPr/>
            <p:nvPr/>
          </p:nvSpPr>
          <p:spPr>
            <a:xfrm>
              <a:off x="2438280" y="990720"/>
              <a:ext cx="3809880" cy="3276720"/>
            </a:xfrm>
            <a:custGeom>
              <a:avLst/>
              <a:gdLst/>
              <a:ahLst/>
              <a:rect l="l" t="t" r="r" b="b"/>
              <a:pathLst>
                <a:path w="1543" h="2064">
                  <a:moveTo>
                    <a:pt x="0" y="0"/>
                  </a:moveTo>
                  <a:lnTo>
                    <a:pt x="6" y="36"/>
                  </a:lnTo>
                  <a:lnTo>
                    <a:pt x="12" y="72"/>
                  </a:lnTo>
                  <a:lnTo>
                    <a:pt x="24" y="108"/>
                  </a:lnTo>
                  <a:lnTo>
                    <a:pt x="30" y="144"/>
                  </a:lnTo>
                  <a:lnTo>
                    <a:pt x="36" y="180"/>
                  </a:lnTo>
                  <a:lnTo>
                    <a:pt x="42" y="216"/>
                  </a:lnTo>
                  <a:lnTo>
                    <a:pt x="48" y="246"/>
                  </a:lnTo>
                  <a:lnTo>
                    <a:pt x="54" y="282"/>
                  </a:lnTo>
                  <a:lnTo>
                    <a:pt x="60" y="318"/>
                  </a:lnTo>
                  <a:lnTo>
                    <a:pt x="72" y="348"/>
                  </a:lnTo>
                  <a:lnTo>
                    <a:pt x="78" y="384"/>
                  </a:lnTo>
                  <a:lnTo>
                    <a:pt x="84" y="414"/>
                  </a:lnTo>
                  <a:lnTo>
                    <a:pt x="90" y="450"/>
                  </a:lnTo>
                  <a:lnTo>
                    <a:pt x="96" y="480"/>
                  </a:lnTo>
                  <a:lnTo>
                    <a:pt x="102" y="510"/>
                  </a:lnTo>
                  <a:lnTo>
                    <a:pt x="108" y="546"/>
                  </a:lnTo>
                  <a:lnTo>
                    <a:pt x="120" y="576"/>
                  </a:lnTo>
                  <a:lnTo>
                    <a:pt x="126" y="606"/>
                  </a:lnTo>
                  <a:lnTo>
                    <a:pt x="132" y="636"/>
                  </a:lnTo>
                  <a:lnTo>
                    <a:pt x="138" y="666"/>
                  </a:lnTo>
                  <a:lnTo>
                    <a:pt x="144" y="696"/>
                  </a:lnTo>
                  <a:lnTo>
                    <a:pt x="150" y="726"/>
                  </a:lnTo>
                  <a:lnTo>
                    <a:pt x="156" y="756"/>
                  </a:lnTo>
                  <a:lnTo>
                    <a:pt x="168" y="786"/>
                  </a:lnTo>
                  <a:lnTo>
                    <a:pt x="174" y="816"/>
                  </a:lnTo>
                  <a:lnTo>
                    <a:pt x="180" y="840"/>
                  </a:lnTo>
                  <a:lnTo>
                    <a:pt x="186" y="870"/>
                  </a:lnTo>
                  <a:lnTo>
                    <a:pt x="192" y="900"/>
                  </a:lnTo>
                  <a:lnTo>
                    <a:pt x="198" y="924"/>
                  </a:lnTo>
                  <a:lnTo>
                    <a:pt x="204" y="954"/>
                  </a:lnTo>
                  <a:lnTo>
                    <a:pt x="216" y="978"/>
                  </a:lnTo>
                  <a:lnTo>
                    <a:pt x="222" y="1002"/>
                  </a:lnTo>
                  <a:lnTo>
                    <a:pt x="228" y="1032"/>
                  </a:lnTo>
                  <a:lnTo>
                    <a:pt x="234" y="1056"/>
                  </a:lnTo>
                  <a:lnTo>
                    <a:pt x="240" y="1080"/>
                  </a:lnTo>
                  <a:lnTo>
                    <a:pt x="246" y="1104"/>
                  </a:lnTo>
                  <a:lnTo>
                    <a:pt x="252" y="1134"/>
                  </a:lnTo>
                  <a:lnTo>
                    <a:pt x="264" y="1158"/>
                  </a:lnTo>
                  <a:lnTo>
                    <a:pt x="270" y="1182"/>
                  </a:lnTo>
                  <a:lnTo>
                    <a:pt x="276" y="1206"/>
                  </a:lnTo>
                  <a:lnTo>
                    <a:pt x="282" y="1230"/>
                  </a:lnTo>
                  <a:lnTo>
                    <a:pt x="288" y="1248"/>
                  </a:lnTo>
                  <a:lnTo>
                    <a:pt x="294" y="1272"/>
                  </a:lnTo>
                  <a:lnTo>
                    <a:pt x="300" y="1296"/>
                  </a:lnTo>
                  <a:lnTo>
                    <a:pt x="312" y="1320"/>
                  </a:lnTo>
                  <a:lnTo>
                    <a:pt x="318" y="1338"/>
                  </a:lnTo>
                  <a:lnTo>
                    <a:pt x="324" y="1362"/>
                  </a:lnTo>
                  <a:lnTo>
                    <a:pt x="330" y="1380"/>
                  </a:lnTo>
                  <a:lnTo>
                    <a:pt x="336" y="1404"/>
                  </a:lnTo>
                  <a:lnTo>
                    <a:pt x="342" y="1422"/>
                  </a:lnTo>
                  <a:lnTo>
                    <a:pt x="348" y="1446"/>
                  </a:lnTo>
                  <a:lnTo>
                    <a:pt x="360" y="1464"/>
                  </a:lnTo>
                  <a:lnTo>
                    <a:pt x="366" y="1482"/>
                  </a:lnTo>
                  <a:lnTo>
                    <a:pt x="372" y="1500"/>
                  </a:lnTo>
                  <a:lnTo>
                    <a:pt x="378" y="1524"/>
                  </a:lnTo>
                  <a:lnTo>
                    <a:pt x="384" y="1542"/>
                  </a:lnTo>
                  <a:lnTo>
                    <a:pt x="390" y="1560"/>
                  </a:lnTo>
                  <a:lnTo>
                    <a:pt x="396" y="1578"/>
                  </a:lnTo>
                  <a:lnTo>
                    <a:pt x="408" y="1596"/>
                  </a:lnTo>
                  <a:lnTo>
                    <a:pt x="414" y="1614"/>
                  </a:lnTo>
                  <a:lnTo>
                    <a:pt x="420" y="1626"/>
                  </a:lnTo>
                  <a:lnTo>
                    <a:pt x="426" y="1644"/>
                  </a:lnTo>
                  <a:lnTo>
                    <a:pt x="432" y="1662"/>
                  </a:lnTo>
                  <a:lnTo>
                    <a:pt x="438" y="1680"/>
                  </a:lnTo>
                  <a:lnTo>
                    <a:pt x="444" y="1692"/>
                  </a:lnTo>
                  <a:lnTo>
                    <a:pt x="456" y="1710"/>
                  </a:lnTo>
                  <a:lnTo>
                    <a:pt x="462" y="1722"/>
                  </a:lnTo>
                  <a:lnTo>
                    <a:pt x="468" y="1740"/>
                  </a:lnTo>
                  <a:lnTo>
                    <a:pt x="474" y="1752"/>
                  </a:lnTo>
                  <a:lnTo>
                    <a:pt x="480" y="1764"/>
                  </a:lnTo>
                  <a:lnTo>
                    <a:pt x="486" y="1782"/>
                  </a:lnTo>
                  <a:lnTo>
                    <a:pt x="492" y="1794"/>
                  </a:lnTo>
                  <a:lnTo>
                    <a:pt x="504" y="1806"/>
                  </a:lnTo>
                  <a:lnTo>
                    <a:pt x="510" y="1818"/>
                  </a:lnTo>
                  <a:lnTo>
                    <a:pt x="516" y="1830"/>
                  </a:lnTo>
                  <a:lnTo>
                    <a:pt x="522" y="1842"/>
                  </a:lnTo>
                  <a:lnTo>
                    <a:pt x="528" y="1854"/>
                  </a:lnTo>
                  <a:lnTo>
                    <a:pt x="534" y="1866"/>
                  </a:lnTo>
                  <a:lnTo>
                    <a:pt x="540" y="1878"/>
                  </a:lnTo>
                  <a:lnTo>
                    <a:pt x="552" y="1890"/>
                  </a:lnTo>
                  <a:lnTo>
                    <a:pt x="558" y="1902"/>
                  </a:lnTo>
                  <a:lnTo>
                    <a:pt x="564" y="1908"/>
                  </a:lnTo>
                  <a:lnTo>
                    <a:pt x="570" y="1920"/>
                  </a:lnTo>
                  <a:lnTo>
                    <a:pt x="576" y="1932"/>
                  </a:lnTo>
                  <a:lnTo>
                    <a:pt x="582" y="1938"/>
                  </a:lnTo>
                  <a:lnTo>
                    <a:pt x="588" y="1950"/>
                  </a:lnTo>
                  <a:lnTo>
                    <a:pt x="600" y="1956"/>
                  </a:lnTo>
                  <a:lnTo>
                    <a:pt x="606" y="1962"/>
                  </a:lnTo>
                  <a:lnTo>
                    <a:pt x="612" y="1974"/>
                  </a:lnTo>
                  <a:lnTo>
                    <a:pt x="618" y="1980"/>
                  </a:lnTo>
                  <a:lnTo>
                    <a:pt x="624" y="1986"/>
                  </a:lnTo>
                  <a:lnTo>
                    <a:pt x="630" y="1992"/>
                  </a:lnTo>
                  <a:lnTo>
                    <a:pt x="636" y="1998"/>
                  </a:lnTo>
                  <a:lnTo>
                    <a:pt x="648" y="2004"/>
                  </a:lnTo>
                  <a:lnTo>
                    <a:pt x="654" y="2010"/>
                  </a:lnTo>
                  <a:lnTo>
                    <a:pt x="660" y="2016"/>
                  </a:lnTo>
                  <a:lnTo>
                    <a:pt x="666" y="2022"/>
                  </a:lnTo>
                  <a:lnTo>
                    <a:pt x="672" y="2028"/>
                  </a:lnTo>
                  <a:lnTo>
                    <a:pt x="678" y="2034"/>
                  </a:lnTo>
                  <a:lnTo>
                    <a:pt x="684" y="2040"/>
                  </a:lnTo>
                  <a:lnTo>
                    <a:pt x="690" y="2040"/>
                  </a:lnTo>
                  <a:lnTo>
                    <a:pt x="702" y="2046"/>
                  </a:lnTo>
                  <a:lnTo>
                    <a:pt x="708" y="2046"/>
                  </a:lnTo>
                  <a:lnTo>
                    <a:pt x="714" y="2052"/>
                  </a:lnTo>
                  <a:lnTo>
                    <a:pt x="720" y="2052"/>
                  </a:lnTo>
                  <a:lnTo>
                    <a:pt x="726" y="2058"/>
                  </a:lnTo>
                  <a:lnTo>
                    <a:pt x="732" y="2058"/>
                  </a:lnTo>
                  <a:lnTo>
                    <a:pt x="738" y="2058"/>
                  </a:lnTo>
                  <a:lnTo>
                    <a:pt x="750" y="2064"/>
                  </a:lnTo>
                  <a:lnTo>
                    <a:pt x="756" y="2064"/>
                  </a:lnTo>
                  <a:lnTo>
                    <a:pt x="762" y="2064"/>
                  </a:lnTo>
                  <a:lnTo>
                    <a:pt x="768" y="2064"/>
                  </a:lnTo>
                  <a:lnTo>
                    <a:pt x="774" y="2064"/>
                  </a:lnTo>
                  <a:lnTo>
                    <a:pt x="781" y="2064"/>
                  </a:lnTo>
                  <a:lnTo>
                    <a:pt x="787" y="2064"/>
                  </a:lnTo>
                  <a:lnTo>
                    <a:pt x="799" y="2064"/>
                  </a:lnTo>
                  <a:lnTo>
                    <a:pt x="805" y="2064"/>
                  </a:lnTo>
                  <a:lnTo>
                    <a:pt x="811" y="2058"/>
                  </a:lnTo>
                  <a:lnTo>
                    <a:pt x="817" y="2058"/>
                  </a:lnTo>
                  <a:lnTo>
                    <a:pt x="823" y="2058"/>
                  </a:lnTo>
                  <a:lnTo>
                    <a:pt x="829" y="2052"/>
                  </a:lnTo>
                  <a:lnTo>
                    <a:pt x="835" y="2052"/>
                  </a:lnTo>
                  <a:lnTo>
                    <a:pt x="847" y="2046"/>
                  </a:lnTo>
                  <a:lnTo>
                    <a:pt x="853" y="2046"/>
                  </a:lnTo>
                  <a:lnTo>
                    <a:pt x="859" y="2040"/>
                  </a:lnTo>
                  <a:lnTo>
                    <a:pt x="865" y="2034"/>
                  </a:lnTo>
                  <a:lnTo>
                    <a:pt x="871" y="2034"/>
                  </a:lnTo>
                  <a:lnTo>
                    <a:pt x="877" y="2028"/>
                  </a:lnTo>
                  <a:lnTo>
                    <a:pt x="883" y="2022"/>
                  </a:lnTo>
                  <a:lnTo>
                    <a:pt x="895" y="2016"/>
                  </a:lnTo>
                  <a:lnTo>
                    <a:pt x="901" y="2010"/>
                  </a:lnTo>
                  <a:lnTo>
                    <a:pt x="907" y="2004"/>
                  </a:lnTo>
                  <a:lnTo>
                    <a:pt x="913" y="1998"/>
                  </a:lnTo>
                  <a:lnTo>
                    <a:pt x="919" y="1992"/>
                  </a:lnTo>
                  <a:lnTo>
                    <a:pt x="925" y="1986"/>
                  </a:lnTo>
                  <a:lnTo>
                    <a:pt x="931" y="1974"/>
                  </a:lnTo>
                  <a:lnTo>
                    <a:pt x="943" y="1968"/>
                  </a:lnTo>
                  <a:lnTo>
                    <a:pt x="949" y="1962"/>
                  </a:lnTo>
                  <a:lnTo>
                    <a:pt x="955" y="1950"/>
                  </a:lnTo>
                  <a:lnTo>
                    <a:pt x="961" y="1944"/>
                  </a:lnTo>
                  <a:lnTo>
                    <a:pt x="967" y="1938"/>
                  </a:lnTo>
                  <a:lnTo>
                    <a:pt x="973" y="1926"/>
                  </a:lnTo>
                  <a:lnTo>
                    <a:pt x="979" y="1914"/>
                  </a:lnTo>
                  <a:lnTo>
                    <a:pt x="991" y="1908"/>
                  </a:lnTo>
                  <a:lnTo>
                    <a:pt x="997" y="1896"/>
                  </a:lnTo>
                  <a:lnTo>
                    <a:pt x="1003" y="1884"/>
                  </a:lnTo>
                  <a:lnTo>
                    <a:pt x="1009" y="1872"/>
                  </a:lnTo>
                  <a:lnTo>
                    <a:pt x="1015" y="1866"/>
                  </a:lnTo>
                  <a:lnTo>
                    <a:pt x="1021" y="1854"/>
                  </a:lnTo>
                  <a:lnTo>
                    <a:pt x="1027" y="1842"/>
                  </a:lnTo>
                  <a:lnTo>
                    <a:pt x="1039" y="1830"/>
                  </a:lnTo>
                  <a:lnTo>
                    <a:pt x="1045" y="1818"/>
                  </a:lnTo>
                  <a:lnTo>
                    <a:pt x="1051" y="1800"/>
                  </a:lnTo>
                  <a:lnTo>
                    <a:pt x="1057" y="1788"/>
                  </a:lnTo>
                  <a:lnTo>
                    <a:pt x="1063" y="1776"/>
                  </a:lnTo>
                  <a:lnTo>
                    <a:pt x="1069" y="1764"/>
                  </a:lnTo>
                  <a:lnTo>
                    <a:pt x="1075" y="1746"/>
                  </a:lnTo>
                  <a:lnTo>
                    <a:pt x="1087" y="1734"/>
                  </a:lnTo>
                  <a:lnTo>
                    <a:pt x="1093" y="1716"/>
                  </a:lnTo>
                  <a:lnTo>
                    <a:pt x="1099" y="1704"/>
                  </a:lnTo>
                  <a:lnTo>
                    <a:pt x="1105" y="1686"/>
                  </a:lnTo>
                  <a:lnTo>
                    <a:pt x="1111" y="1674"/>
                  </a:lnTo>
                  <a:lnTo>
                    <a:pt x="1117" y="1656"/>
                  </a:lnTo>
                  <a:lnTo>
                    <a:pt x="1123" y="1638"/>
                  </a:lnTo>
                  <a:lnTo>
                    <a:pt x="1135" y="1620"/>
                  </a:lnTo>
                  <a:lnTo>
                    <a:pt x="1141" y="1608"/>
                  </a:lnTo>
                  <a:lnTo>
                    <a:pt x="1147" y="1590"/>
                  </a:lnTo>
                  <a:lnTo>
                    <a:pt x="1153" y="1572"/>
                  </a:lnTo>
                  <a:lnTo>
                    <a:pt x="1159" y="1554"/>
                  </a:lnTo>
                  <a:lnTo>
                    <a:pt x="1165" y="1536"/>
                  </a:lnTo>
                  <a:lnTo>
                    <a:pt x="1171" y="1518"/>
                  </a:lnTo>
                  <a:lnTo>
                    <a:pt x="1183" y="1494"/>
                  </a:lnTo>
                  <a:lnTo>
                    <a:pt x="1189" y="1476"/>
                  </a:lnTo>
                  <a:lnTo>
                    <a:pt x="1195" y="1458"/>
                  </a:lnTo>
                  <a:lnTo>
                    <a:pt x="1201" y="1440"/>
                  </a:lnTo>
                  <a:lnTo>
                    <a:pt x="1207" y="1416"/>
                  </a:lnTo>
                  <a:lnTo>
                    <a:pt x="1213" y="1398"/>
                  </a:lnTo>
                  <a:lnTo>
                    <a:pt x="1219" y="1374"/>
                  </a:lnTo>
                  <a:lnTo>
                    <a:pt x="1231" y="1356"/>
                  </a:lnTo>
                  <a:lnTo>
                    <a:pt x="1237" y="1332"/>
                  </a:lnTo>
                  <a:lnTo>
                    <a:pt x="1243" y="1308"/>
                  </a:lnTo>
                  <a:lnTo>
                    <a:pt x="1249" y="1290"/>
                  </a:lnTo>
                  <a:lnTo>
                    <a:pt x="1255" y="1266"/>
                  </a:lnTo>
                  <a:lnTo>
                    <a:pt x="1261" y="1242"/>
                  </a:lnTo>
                  <a:lnTo>
                    <a:pt x="1267" y="1218"/>
                  </a:lnTo>
                  <a:lnTo>
                    <a:pt x="1279" y="1194"/>
                  </a:lnTo>
                  <a:lnTo>
                    <a:pt x="1285" y="1170"/>
                  </a:lnTo>
                  <a:lnTo>
                    <a:pt x="1291" y="1146"/>
                  </a:lnTo>
                  <a:lnTo>
                    <a:pt x="1297" y="1122"/>
                  </a:lnTo>
                  <a:lnTo>
                    <a:pt x="1303" y="1098"/>
                  </a:lnTo>
                  <a:lnTo>
                    <a:pt x="1309" y="1074"/>
                  </a:lnTo>
                  <a:lnTo>
                    <a:pt x="1315" y="1050"/>
                  </a:lnTo>
                  <a:lnTo>
                    <a:pt x="1327" y="1020"/>
                  </a:lnTo>
                  <a:lnTo>
                    <a:pt x="1333" y="996"/>
                  </a:lnTo>
                  <a:lnTo>
                    <a:pt x="1339" y="966"/>
                  </a:lnTo>
                  <a:lnTo>
                    <a:pt x="1345" y="942"/>
                  </a:lnTo>
                  <a:lnTo>
                    <a:pt x="1351" y="912"/>
                  </a:lnTo>
                  <a:lnTo>
                    <a:pt x="1357" y="888"/>
                  </a:lnTo>
                  <a:lnTo>
                    <a:pt x="1363" y="858"/>
                  </a:lnTo>
                  <a:lnTo>
                    <a:pt x="1375" y="834"/>
                  </a:lnTo>
                  <a:lnTo>
                    <a:pt x="1381" y="804"/>
                  </a:lnTo>
                  <a:lnTo>
                    <a:pt x="1387" y="774"/>
                  </a:lnTo>
                  <a:lnTo>
                    <a:pt x="1393" y="744"/>
                  </a:lnTo>
                  <a:lnTo>
                    <a:pt x="1399" y="714"/>
                  </a:lnTo>
                  <a:lnTo>
                    <a:pt x="1405" y="684"/>
                  </a:lnTo>
                  <a:lnTo>
                    <a:pt x="1411" y="654"/>
                  </a:lnTo>
                  <a:lnTo>
                    <a:pt x="1423" y="624"/>
                  </a:lnTo>
                  <a:lnTo>
                    <a:pt x="1429" y="594"/>
                  </a:lnTo>
                  <a:lnTo>
                    <a:pt x="1435" y="564"/>
                  </a:lnTo>
                  <a:lnTo>
                    <a:pt x="1441" y="534"/>
                  </a:lnTo>
                  <a:lnTo>
                    <a:pt x="1447" y="504"/>
                  </a:lnTo>
                  <a:lnTo>
                    <a:pt x="1453" y="468"/>
                  </a:lnTo>
                  <a:lnTo>
                    <a:pt x="1459" y="438"/>
                  </a:lnTo>
                  <a:lnTo>
                    <a:pt x="1471" y="402"/>
                  </a:lnTo>
                  <a:lnTo>
                    <a:pt x="1477" y="372"/>
                  </a:lnTo>
                  <a:lnTo>
                    <a:pt x="1483" y="336"/>
                  </a:lnTo>
                  <a:lnTo>
                    <a:pt x="1489" y="306"/>
                  </a:lnTo>
                  <a:lnTo>
                    <a:pt x="1495" y="270"/>
                  </a:lnTo>
                  <a:lnTo>
                    <a:pt x="1501" y="234"/>
                  </a:lnTo>
                  <a:lnTo>
                    <a:pt x="1507" y="204"/>
                  </a:lnTo>
                  <a:lnTo>
                    <a:pt x="1519" y="168"/>
                  </a:lnTo>
                  <a:lnTo>
                    <a:pt x="1525" y="132"/>
                  </a:lnTo>
                  <a:lnTo>
                    <a:pt x="1531" y="96"/>
                  </a:lnTo>
                  <a:lnTo>
                    <a:pt x="1537" y="60"/>
                  </a:lnTo>
                  <a:lnTo>
                    <a:pt x="1543" y="24"/>
                  </a:lnTo>
                </a:path>
              </a:pathLst>
            </a:cu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72"/>
            <p:cNvSpPr/>
            <p:nvPr/>
          </p:nvSpPr>
          <p:spPr>
            <a:xfrm>
              <a:off x="4343400" y="990720"/>
              <a:ext cx="0" cy="4114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Group 74"/>
          <p:cNvGrpSpPr/>
          <p:nvPr/>
        </p:nvGrpSpPr>
        <p:grpSpPr>
          <a:xfrm>
            <a:off x="2438280" y="990720"/>
            <a:ext cx="3809880" cy="4114800"/>
            <a:chOff x="2438280" y="990720"/>
            <a:chExt cx="3809880" cy="4114800"/>
          </a:xfrm>
        </p:grpSpPr>
        <p:sp>
          <p:nvSpPr>
            <p:cNvPr id="444" name="Freeform 75"/>
            <p:cNvSpPr/>
            <p:nvPr/>
          </p:nvSpPr>
          <p:spPr>
            <a:xfrm>
              <a:off x="2438280" y="990720"/>
              <a:ext cx="3809880" cy="3276720"/>
            </a:xfrm>
            <a:custGeom>
              <a:avLst/>
              <a:gdLst/>
              <a:ahLst/>
              <a:rect l="l" t="t" r="r" b="b"/>
              <a:pathLst>
                <a:path w="1543" h="2064">
                  <a:moveTo>
                    <a:pt x="0" y="0"/>
                  </a:moveTo>
                  <a:lnTo>
                    <a:pt x="6" y="36"/>
                  </a:lnTo>
                  <a:lnTo>
                    <a:pt x="12" y="72"/>
                  </a:lnTo>
                  <a:lnTo>
                    <a:pt x="24" y="108"/>
                  </a:lnTo>
                  <a:lnTo>
                    <a:pt x="30" y="144"/>
                  </a:lnTo>
                  <a:lnTo>
                    <a:pt x="36" y="180"/>
                  </a:lnTo>
                  <a:lnTo>
                    <a:pt x="42" y="216"/>
                  </a:lnTo>
                  <a:lnTo>
                    <a:pt x="48" y="246"/>
                  </a:lnTo>
                  <a:lnTo>
                    <a:pt x="54" y="282"/>
                  </a:lnTo>
                  <a:lnTo>
                    <a:pt x="60" y="318"/>
                  </a:lnTo>
                  <a:lnTo>
                    <a:pt x="72" y="348"/>
                  </a:lnTo>
                  <a:lnTo>
                    <a:pt x="78" y="384"/>
                  </a:lnTo>
                  <a:lnTo>
                    <a:pt x="84" y="414"/>
                  </a:lnTo>
                  <a:lnTo>
                    <a:pt x="90" y="450"/>
                  </a:lnTo>
                  <a:lnTo>
                    <a:pt x="96" y="480"/>
                  </a:lnTo>
                  <a:lnTo>
                    <a:pt x="102" y="510"/>
                  </a:lnTo>
                  <a:lnTo>
                    <a:pt x="108" y="546"/>
                  </a:lnTo>
                  <a:lnTo>
                    <a:pt x="120" y="576"/>
                  </a:lnTo>
                  <a:lnTo>
                    <a:pt x="126" y="606"/>
                  </a:lnTo>
                  <a:lnTo>
                    <a:pt x="132" y="636"/>
                  </a:lnTo>
                  <a:lnTo>
                    <a:pt x="138" y="666"/>
                  </a:lnTo>
                  <a:lnTo>
                    <a:pt x="144" y="696"/>
                  </a:lnTo>
                  <a:lnTo>
                    <a:pt x="150" y="726"/>
                  </a:lnTo>
                  <a:lnTo>
                    <a:pt x="156" y="756"/>
                  </a:lnTo>
                  <a:lnTo>
                    <a:pt x="168" y="786"/>
                  </a:lnTo>
                  <a:lnTo>
                    <a:pt x="174" y="816"/>
                  </a:lnTo>
                  <a:lnTo>
                    <a:pt x="180" y="840"/>
                  </a:lnTo>
                  <a:lnTo>
                    <a:pt x="186" y="870"/>
                  </a:lnTo>
                  <a:lnTo>
                    <a:pt x="192" y="900"/>
                  </a:lnTo>
                  <a:lnTo>
                    <a:pt x="198" y="924"/>
                  </a:lnTo>
                  <a:lnTo>
                    <a:pt x="204" y="954"/>
                  </a:lnTo>
                  <a:lnTo>
                    <a:pt x="216" y="978"/>
                  </a:lnTo>
                  <a:lnTo>
                    <a:pt x="222" y="1002"/>
                  </a:lnTo>
                  <a:lnTo>
                    <a:pt x="228" y="1032"/>
                  </a:lnTo>
                  <a:lnTo>
                    <a:pt x="234" y="1056"/>
                  </a:lnTo>
                  <a:lnTo>
                    <a:pt x="240" y="1080"/>
                  </a:lnTo>
                  <a:lnTo>
                    <a:pt x="246" y="1104"/>
                  </a:lnTo>
                  <a:lnTo>
                    <a:pt x="252" y="1134"/>
                  </a:lnTo>
                  <a:lnTo>
                    <a:pt x="264" y="1158"/>
                  </a:lnTo>
                  <a:lnTo>
                    <a:pt x="270" y="1182"/>
                  </a:lnTo>
                  <a:lnTo>
                    <a:pt x="276" y="1206"/>
                  </a:lnTo>
                  <a:lnTo>
                    <a:pt x="282" y="1230"/>
                  </a:lnTo>
                  <a:lnTo>
                    <a:pt x="288" y="1248"/>
                  </a:lnTo>
                  <a:lnTo>
                    <a:pt x="294" y="1272"/>
                  </a:lnTo>
                  <a:lnTo>
                    <a:pt x="300" y="1296"/>
                  </a:lnTo>
                  <a:lnTo>
                    <a:pt x="312" y="1320"/>
                  </a:lnTo>
                  <a:lnTo>
                    <a:pt x="318" y="1338"/>
                  </a:lnTo>
                  <a:lnTo>
                    <a:pt x="324" y="1362"/>
                  </a:lnTo>
                  <a:lnTo>
                    <a:pt x="330" y="1380"/>
                  </a:lnTo>
                  <a:lnTo>
                    <a:pt x="336" y="1404"/>
                  </a:lnTo>
                  <a:lnTo>
                    <a:pt x="342" y="1422"/>
                  </a:lnTo>
                  <a:lnTo>
                    <a:pt x="348" y="1446"/>
                  </a:lnTo>
                  <a:lnTo>
                    <a:pt x="360" y="1464"/>
                  </a:lnTo>
                  <a:lnTo>
                    <a:pt x="366" y="1482"/>
                  </a:lnTo>
                  <a:lnTo>
                    <a:pt x="372" y="1500"/>
                  </a:lnTo>
                  <a:lnTo>
                    <a:pt x="378" y="1524"/>
                  </a:lnTo>
                  <a:lnTo>
                    <a:pt x="384" y="1542"/>
                  </a:lnTo>
                  <a:lnTo>
                    <a:pt x="390" y="1560"/>
                  </a:lnTo>
                  <a:lnTo>
                    <a:pt x="396" y="1578"/>
                  </a:lnTo>
                  <a:lnTo>
                    <a:pt x="408" y="1596"/>
                  </a:lnTo>
                  <a:lnTo>
                    <a:pt x="414" y="1614"/>
                  </a:lnTo>
                  <a:lnTo>
                    <a:pt x="420" y="1626"/>
                  </a:lnTo>
                  <a:lnTo>
                    <a:pt x="426" y="1644"/>
                  </a:lnTo>
                  <a:lnTo>
                    <a:pt x="432" y="1662"/>
                  </a:lnTo>
                  <a:lnTo>
                    <a:pt x="438" y="1680"/>
                  </a:lnTo>
                  <a:lnTo>
                    <a:pt x="444" y="1692"/>
                  </a:lnTo>
                  <a:lnTo>
                    <a:pt x="456" y="1710"/>
                  </a:lnTo>
                  <a:lnTo>
                    <a:pt x="462" y="1722"/>
                  </a:lnTo>
                  <a:lnTo>
                    <a:pt x="468" y="1740"/>
                  </a:lnTo>
                  <a:lnTo>
                    <a:pt x="474" y="1752"/>
                  </a:lnTo>
                  <a:lnTo>
                    <a:pt x="480" y="1764"/>
                  </a:lnTo>
                  <a:lnTo>
                    <a:pt x="486" y="1782"/>
                  </a:lnTo>
                  <a:lnTo>
                    <a:pt x="492" y="1794"/>
                  </a:lnTo>
                  <a:lnTo>
                    <a:pt x="504" y="1806"/>
                  </a:lnTo>
                  <a:lnTo>
                    <a:pt x="510" y="1818"/>
                  </a:lnTo>
                  <a:lnTo>
                    <a:pt x="516" y="1830"/>
                  </a:lnTo>
                  <a:lnTo>
                    <a:pt x="522" y="1842"/>
                  </a:lnTo>
                  <a:lnTo>
                    <a:pt x="528" y="1854"/>
                  </a:lnTo>
                  <a:lnTo>
                    <a:pt x="534" y="1866"/>
                  </a:lnTo>
                  <a:lnTo>
                    <a:pt x="540" y="1878"/>
                  </a:lnTo>
                  <a:lnTo>
                    <a:pt x="552" y="1890"/>
                  </a:lnTo>
                  <a:lnTo>
                    <a:pt x="558" y="1902"/>
                  </a:lnTo>
                  <a:lnTo>
                    <a:pt x="564" y="1908"/>
                  </a:lnTo>
                  <a:lnTo>
                    <a:pt x="570" y="1920"/>
                  </a:lnTo>
                  <a:lnTo>
                    <a:pt x="576" y="1932"/>
                  </a:lnTo>
                  <a:lnTo>
                    <a:pt x="582" y="1938"/>
                  </a:lnTo>
                  <a:lnTo>
                    <a:pt x="588" y="1950"/>
                  </a:lnTo>
                  <a:lnTo>
                    <a:pt x="600" y="1956"/>
                  </a:lnTo>
                  <a:lnTo>
                    <a:pt x="606" y="1962"/>
                  </a:lnTo>
                  <a:lnTo>
                    <a:pt x="612" y="1974"/>
                  </a:lnTo>
                  <a:lnTo>
                    <a:pt x="618" y="1980"/>
                  </a:lnTo>
                  <a:lnTo>
                    <a:pt x="624" y="1986"/>
                  </a:lnTo>
                  <a:lnTo>
                    <a:pt x="630" y="1992"/>
                  </a:lnTo>
                  <a:lnTo>
                    <a:pt x="636" y="1998"/>
                  </a:lnTo>
                  <a:lnTo>
                    <a:pt x="648" y="2004"/>
                  </a:lnTo>
                  <a:lnTo>
                    <a:pt x="654" y="2010"/>
                  </a:lnTo>
                  <a:lnTo>
                    <a:pt x="660" y="2016"/>
                  </a:lnTo>
                  <a:lnTo>
                    <a:pt x="666" y="2022"/>
                  </a:lnTo>
                  <a:lnTo>
                    <a:pt x="672" y="2028"/>
                  </a:lnTo>
                  <a:lnTo>
                    <a:pt x="678" y="2034"/>
                  </a:lnTo>
                  <a:lnTo>
                    <a:pt x="684" y="2040"/>
                  </a:lnTo>
                  <a:lnTo>
                    <a:pt x="690" y="2040"/>
                  </a:lnTo>
                  <a:lnTo>
                    <a:pt x="702" y="2046"/>
                  </a:lnTo>
                  <a:lnTo>
                    <a:pt x="708" y="2046"/>
                  </a:lnTo>
                  <a:lnTo>
                    <a:pt x="714" y="2052"/>
                  </a:lnTo>
                  <a:lnTo>
                    <a:pt x="720" y="2052"/>
                  </a:lnTo>
                  <a:lnTo>
                    <a:pt x="726" y="2058"/>
                  </a:lnTo>
                  <a:lnTo>
                    <a:pt x="732" y="2058"/>
                  </a:lnTo>
                  <a:lnTo>
                    <a:pt x="738" y="2058"/>
                  </a:lnTo>
                  <a:lnTo>
                    <a:pt x="750" y="2064"/>
                  </a:lnTo>
                  <a:lnTo>
                    <a:pt x="756" y="2064"/>
                  </a:lnTo>
                  <a:lnTo>
                    <a:pt x="762" y="2064"/>
                  </a:lnTo>
                  <a:lnTo>
                    <a:pt x="768" y="2064"/>
                  </a:lnTo>
                  <a:lnTo>
                    <a:pt x="774" y="2064"/>
                  </a:lnTo>
                  <a:lnTo>
                    <a:pt x="781" y="2064"/>
                  </a:lnTo>
                  <a:lnTo>
                    <a:pt x="787" y="2064"/>
                  </a:lnTo>
                  <a:lnTo>
                    <a:pt x="799" y="2064"/>
                  </a:lnTo>
                  <a:lnTo>
                    <a:pt x="805" y="2064"/>
                  </a:lnTo>
                  <a:lnTo>
                    <a:pt x="811" y="2058"/>
                  </a:lnTo>
                  <a:lnTo>
                    <a:pt x="817" y="2058"/>
                  </a:lnTo>
                  <a:lnTo>
                    <a:pt x="823" y="2058"/>
                  </a:lnTo>
                  <a:lnTo>
                    <a:pt x="829" y="2052"/>
                  </a:lnTo>
                  <a:lnTo>
                    <a:pt x="835" y="2052"/>
                  </a:lnTo>
                  <a:lnTo>
                    <a:pt x="847" y="2046"/>
                  </a:lnTo>
                  <a:lnTo>
                    <a:pt x="853" y="2046"/>
                  </a:lnTo>
                  <a:lnTo>
                    <a:pt x="859" y="2040"/>
                  </a:lnTo>
                  <a:lnTo>
                    <a:pt x="865" y="2034"/>
                  </a:lnTo>
                  <a:lnTo>
                    <a:pt x="871" y="2034"/>
                  </a:lnTo>
                  <a:lnTo>
                    <a:pt x="877" y="2028"/>
                  </a:lnTo>
                  <a:lnTo>
                    <a:pt x="883" y="2022"/>
                  </a:lnTo>
                  <a:lnTo>
                    <a:pt x="895" y="2016"/>
                  </a:lnTo>
                  <a:lnTo>
                    <a:pt x="901" y="2010"/>
                  </a:lnTo>
                  <a:lnTo>
                    <a:pt x="907" y="2004"/>
                  </a:lnTo>
                  <a:lnTo>
                    <a:pt x="913" y="1998"/>
                  </a:lnTo>
                  <a:lnTo>
                    <a:pt x="919" y="1992"/>
                  </a:lnTo>
                  <a:lnTo>
                    <a:pt x="925" y="1986"/>
                  </a:lnTo>
                  <a:lnTo>
                    <a:pt x="931" y="1974"/>
                  </a:lnTo>
                  <a:lnTo>
                    <a:pt x="943" y="1968"/>
                  </a:lnTo>
                  <a:lnTo>
                    <a:pt x="949" y="1962"/>
                  </a:lnTo>
                  <a:lnTo>
                    <a:pt x="955" y="1950"/>
                  </a:lnTo>
                  <a:lnTo>
                    <a:pt x="961" y="1944"/>
                  </a:lnTo>
                  <a:lnTo>
                    <a:pt x="967" y="1938"/>
                  </a:lnTo>
                  <a:lnTo>
                    <a:pt x="973" y="1926"/>
                  </a:lnTo>
                  <a:lnTo>
                    <a:pt x="979" y="1914"/>
                  </a:lnTo>
                  <a:lnTo>
                    <a:pt x="991" y="1908"/>
                  </a:lnTo>
                  <a:lnTo>
                    <a:pt x="997" y="1896"/>
                  </a:lnTo>
                  <a:lnTo>
                    <a:pt x="1003" y="1884"/>
                  </a:lnTo>
                  <a:lnTo>
                    <a:pt x="1009" y="1872"/>
                  </a:lnTo>
                  <a:lnTo>
                    <a:pt x="1015" y="1866"/>
                  </a:lnTo>
                  <a:lnTo>
                    <a:pt x="1021" y="1854"/>
                  </a:lnTo>
                  <a:lnTo>
                    <a:pt x="1027" y="1842"/>
                  </a:lnTo>
                  <a:lnTo>
                    <a:pt x="1039" y="1830"/>
                  </a:lnTo>
                  <a:lnTo>
                    <a:pt x="1045" y="1818"/>
                  </a:lnTo>
                  <a:lnTo>
                    <a:pt x="1051" y="1800"/>
                  </a:lnTo>
                  <a:lnTo>
                    <a:pt x="1057" y="1788"/>
                  </a:lnTo>
                  <a:lnTo>
                    <a:pt x="1063" y="1776"/>
                  </a:lnTo>
                  <a:lnTo>
                    <a:pt x="1069" y="1764"/>
                  </a:lnTo>
                  <a:lnTo>
                    <a:pt x="1075" y="1746"/>
                  </a:lnTo>
                  <a:lnTo>
                    <a:pt x="1087" y="1734"/>
                  </a:lnTo>
                  <a:lnTo>
                    <a:pt x="1093" y="1716"/>
                  </a:lnTo>
                  <a:lnTo>
                    <a:pt x="1099" y="1704"/>
                  </a:lnTo>
                  <a:lnTo>
                    <a:pt x="1105" y="1686"/>
                  </a:lnTo>
                  <a:lnTo>
                    <a:pt x="1111" y="1674"/>
                  </a:lnTo>
                  <a:lnTo>
                    <a:pt x="1117" y="1656"/>
                  </a:lnTo>
                  <a:lnTo>
                    <a:pt x="1123" y="1638"/>
                  </a:lnTo>
                  <a:lnTo>
                    <a:pt x="1135" y="1620"/>
                  </a:lnTo>
                  <a:lnTo>
                    <a:pt x="1141" y="1608"/>
                  </a:lnTo>
                  <a:lnTo>
                    <a:pt x="1147" y="1590"/>
                  </a:lnTo>
                  <a:lnTo>
                    <a:pt x="1153" y="1572"/>
                  </a:lnTo>
                  <a:lnTo>
                    <a:pt x="1159" y="1554"/>
                  </a:lnTo>
                  <a:lnTo>
                    <a:pt x="1165" y="1536"/>
                  </a:lnTo>
                  <a:lnTo>
                    <a:pt x="1171" y="1518"/>
                  </a:lnTo>
                  <a:lnTo>
                    <a:pt x="1183" y="1494"/>
                  </a:lnTo>
                  <a:lnTo>
                    <a:pt x="1189" y="1476"/>
                  </a:lnTo>
                  <a:lnTo>
                    <a:pt x="1195" y="1458"/>
                  </a:lnTo>
                  <a:lnTo>
                    <a:pt x="1201" y="1440"/>
                  </a:lnTo>
                  <a:lnTo>
                    <a:pt x="1207" y="1416"/>
                  </a:lnTo>
                  <a:lnTo>
                    <a:pt x="1213" y="1398"/>
                  </a:lnTo>
                  <a:lnTo>
                    <a:pt x="1219" y="1374"/>
                  </a:lnTo>
                  <a:lnTo>
                    <a:pt x="1231" y="1356"/>
                  </a:lnTo>
                  <a:lnTo>
                    <a:pt x="1237" y="1332"/>
                  </a:lnTo>
                  <a:lnTo>
                    <a:pt x="1243" y="1308"/>
                  </a:lnTo>
                  <a:lnTo>
                    <a:pt x="1249" y="1290"/>
                  </a:lnTo>
                  <a:lnTo>
                    <a:pt x="1255" y="1266"/>
                  </a:lnTo>
                  <a:lnTo>
                    <a:pt x="1261" y="1242"/>
                  </a:lnTo>
                  <a:lnTo>
                    <a:pt x="1267" y="1218"/>
                  </a:lnTo>
                  <a:lnTo>
                    <a:pt x="1279" y="1194"/>
                  </a:lnTo>
                  <a:lnTo>
                    <a:pt x="1285" y="1170"/>
                  </a:lnTo>
                  <a:lnTo>
                    <a:pt x="1291" y="1146"/>
                  </a:lnTo>
                  <a:lnTo>
                    <a:pt x="1297" y="1122"/>
                  </a:lnTo>
                  <a:lnTo>
                    <a:pt x="1303" y="1098"/>
                  </a:lnTo>
                  <a:lnTo>
                    <a:pt x="1309" y="1074"/>
                  </a:lnTo>
                  <a:lnTo>
                    <a:pt x="1315" y="1050"/>
                  </a:lnTo>
                  <a:lnTo>
                    <a:pt x="1327" y="1020"/>
                  </a:lnTo>
                  <a:lnTo>
                    <a:pt x="1333" y="996"/>
                  </a:lnTo>
                  <a:lnTo>
                    <a:pt x="1339" y="966"/>
                  </a:lnTo>
                  <a:lnTo>
                    <a:pt x="1345" y="942"/>
                  </a:lnTo>
                  <a:lnTo>
                    <a:pt x="1351" y="912"/>
                  </a:lnTo>
                  <a:lnTo>
                    <a:pt x="1357" y="888"/>
                  </a:lnTo>
                  <a:lnTo>
                    <a:pt x="1363" y="858"/>
                  </a:lnTo>
                  <a:lnTo>
                    <a:pt x="1375" y="834"/>
                  </a:lnTo>
                  <a:lnTo>
                    <a:pt x="1381" y="804"/>
                  </a:lnTo>
                  <a:lnTo>
                    <a:pt x="1387" y="774"/>
                  </a:lnTo>
                  <a:lnTo>
                    <a:pt x="1393" y="744"/>
                  </a:lnTo>
                  <a:lnTo>
                    <a:pt x="1399" y="714"/>
                  </a:lnTo>
                  <a:lnTo>
                    <a:pt x="1405" y="684"/>
                  </a:lnTo>
                  <a:lnTo>
                    <a:pt x="1411" y="654"/>
                  </a:lnTo>
                  <a:lnTo>
                    <a:pt x="1423" y="624"/>
                  </a:lnTo>
                  <a:lnTo>
                    <a:pt x="1429" y="594"/>
                  </a:lnTo>
                  <a:lnTo>
                    <a:pt x="1435" y="564"/>
                  </a:lnTo>
                  <a:lnTo>
                    <a:pt x="1441" y="534"/>
                  </a:lnTo>
                  <a:lnTo>
                    <a:pt x="1447" y="504"/>
                  </a:lnTo>
                  <a:lnTo>
                    <a:pt x="1453" y="468"/>
                  </a:lnTo>
                  <a:lnTo>
                    <a:pt x="1459" y="438"/>
                  </a:lnTo>
                  <a:lnTo>
                    <a:pt x="1471" y="402"/>
                  </a:lnTo>
                  <a:lnTo>
                    <a:pt x="1477" y="372"/>
                  </a:lnTo>
                  <a:lnTo>
                    <a:pt x="1483" y="336"/>
                  </a:lnTo>
                  <a:lnTo>
                    <a:pt x="1489" y="306"/>
                  </a:lnTo>
                  <a:lnTo>
                    <a:pt x="1495" y="270"/>
                  </a:lnTo>
                  <a:lnTo>
                    <a:pt x="1501" y="234"/>
                  </a:lnTo>
                  <a:lnTo>
                    <a:pt x="1507" y="204"/>
                  </a:lnTo>
                  <a:lnTo>
                    <a:pt x="1519" y="168"/>
                  </a:lnTo>
                  <a:lnTo>
                    <a:pt x="1525" y="132"/>
                  </a:lnTo>
                  <a:lnTo>
                    <a:pt x="1531" y="96"/>
                  </a:lnTo>
                  <a:lnTo>
                    <a:pt x="1537" y="60"/>
                  </a:lnTo>
                  <a:lnTo>
                    <a:pt x="1543" y="24"/>
                  </a:lnTo>
                </a:path>
              </a:pathLst>
            </a:custGeom>
            <a:noFill/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76"/>
            <p:cNvSpPr/>
            <p:nvPr/>
          </p:nvSpPr>
          <p:spPr>
            <a:xfrm>
              <a:off x="4343400" y="990720"/>
              <a:ext cx="0" cy="4114800"/>
            </a:xfrm>
            <a:prstGeom prst="line">
              <a:avLst/>
            </a:prstGeom>
            <a:ln w="28440">
              <a:solidFill>
                <a:srgbClr val="9900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46" name="Object 77" descr=""/>
          <p:cNvPicPr/>
          <p:nvPr/>
        </p:nvPicPr>
        <p:blipFill>
          <a:blip r:embed="rId9"/>
          <a:stretch/>
        </p:blipFill>
        <p:spPr>
          <a:xfrm>
            <a:off x="304920" y="304920"/>
            <a:ext cx="2679480" cy="988920"/>
          </a:xfrm>
          <a:prstGeom prst="rect">
            <a:avLst/>
          </a:prstGeom>
          <a:ln w="0">
            <a:noFill/>
          </a:ln>
        </p:spPr>
      </p:pic>
      <p:pic>
        <p:nvPicPr>
          <p:cNvPr id="447" name="Object 78" descr=""/>
          <p:cNvPicPr/>
          <p:nvPr/>
        </p:nvPicPr>
        <p:blipFill>
          <a:blip r:embed="rId10"/>
          <a:stretch/>
        </p:blipFill>
        <p:spPr>
          <a:xfrm>
            <a:off x="152280" y="4724280"/>
            <a:ext cx="2895840" cy="1081080"/>
          </a:xfrm>
          <a:prstGeom prst="rect">
            <a:avLst/>
          </a:prstGeom>
          <a:ln w="0">
            <a:noFill/>
          </a:ln>
        </p:spPr>
      </p:pic>
      <p:sp>
        <p:nvSpPr>
          <p:cNvPr id="448" name="TextBox 46"/>
          <p:cNvSpPr/>
          <p:nvPr/>
        </p:nvSpPr>
        <p:spPr>
          <a:xfrm>
            <a:off x="2976120" y="380880"/>
            <a:ext cx="95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=-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Box 47"/>
          <p:cNvSpPr/>
          <p:nvPr/>
        </p:nvSpPr>
        <p:spPr>
          <a:xfrm>
            <a:off x="2594880" y="3276720"/>
            <a:ext cx="109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-2,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Box 48"/>
          <p:cNvSpPr/>
          <p:nvPr/>
        </p:nvSpPr>
        <p:spPr>
          <a:xfrm>
            <a:off x="2595240" y="5943600"/>
            <a:ext cx="12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-2,-3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22222E-006 L -0.11667 2.22222E-006 E">
                                      <p:cBhvr>
                                        <p:cTn id="604" dur="20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1" dur="8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667 -4.44444E-006 L -0.11667 -0.15555 E">
                                      <p:cBhvr>
                                        <p:cTn id="615" dur="20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0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1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2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22222E-006 L -0.11667 2.22222E-006 E">
                                      <p:cBhvr>
                                        <p:cTn id="638" dur="2000" fill="hold"/>
                                        <p:tgtEl>
                                          <p:spTgt spid="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667 -4.44444E-006 L -0.11667 0.23334 E">
                                      <p:cBhvr>
                                        <p:cTn id="642" dur="2000" fill="hold"/>
                                        <p:tgtEl>
                                          <p:spTgt spid="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7" dur="8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8" dur="8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8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1" name=""/>
          <p:cNvGraphicFramePr/>
          <p:nvPr/>
        </p:nvGraphicFramePr>
        <p:xfrm>
          <a:off x="131760" y="228600"/>
          <a:ext cx="9012240" cy="6781680"/>
        </p:xfrm>
        <a:graphic>
          <a:graphicData uri="http://schemas.openxmlformats.org/drawingml/2006/table">
            <a:tbl>
              <a:tblPr/>
              <a:tblGrid>
                <a:gridCol w="1452600"/>
                <a:gridCol w="3741840"/>
                <a:gridCol w="381780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6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2" name="Text Box 58"/>
          <p:cNvSpPr/>
          <p:nvPr/>
        </p:nvSpPr>
        <p:spPr>
          <a:xfrm>
            <a:off x="393120" y="380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抛物线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59"/>
          <p:cNvSpPr/>
          <p:nvPr/>
        </p:nvSpPr>
        <p:spPr>
          <a:xfrm>
            <a:off x="483480" y="3200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顶点坐标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60"/>
          <p:cNvSpPr/>
          <p:nvPr/>
        </p:nvSpPr>
        <p:spPr>
          <a:xfrm>
            <a:off x="316800" y="23623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对称轴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62"/>
          <p:cNvSpPr/>
          <p:nvPr/>
        </p:nvSpPr>
        <p:spPr>
          <a:xfrm>
            <a:off x="380880" y="121932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开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63"/>
          <p:cNvSpPr/>
          <p:nvPr/>
        </p:nvSpPr>
        <p:spPr>
          <a:xfrm>
            <a:off x="396360" y="4038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增减性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64"/>
          <p:cNvSpPr/>
          <p:nvPr/>
        </p:nvSpPr>
        <p:spPr>
          <a:xfrm>
            <a:off x="592920" y="518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最值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67"/>
          <p:cNvSpPr/>
          <p:nvPr/>
        </p:nvSpPr>
        <p:spPr>
          <a:xfrm>
            <a:off x="2214360" y="3276720"/>
            <a:ext cx="203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-2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68"/>
          <p:cNvSpPr/>
          <p:nvPr/>
        </p:nvSpPr>
        <p:spPr>
          <a:xfrm>
            <a:off x="6080760" y="3200400"/>
            <a:ext cx="184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-3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69"/>
          <p:cNvSpPr/>
          <p:nvPr/>
        </p:nvSpPr>
        <p:spPr>
          <a:xfrm>
            <a:off x="2409840" y="2286000"/>
            <a:ext cx="15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直线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=-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70"/>
          <p:cNvSpPr/>
          <p:nvPr/>
        </p:nvSpPr>
        <p:spPr>
          <a:xfrm>
            <a:off x="6143040" y="2286000"/>
            <a:ext cx="14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直线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x=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73"/>
          <p:cNvSpPr/>
          <p:nvPr/>
        </p:nvSpPr>
        <p:spPr>
          <a:xfrm>
            <a:off x="2760480" y="1447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向上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74"/>
          <p:cNvSpPr/>
          <p:nvPr/>
        </p:nvSpPr>
        <p:spPr>
          <a:xfrm>
            <a:off x="6265800" y="1371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向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75"/>
          <p:cNvSpPr/>
          <p:nvPr/>
        </p:nvSpPr>
        <p:spPr>
          <a:xfrm>
            <a:off x="2157480" y="4800600"/>
            <a:ext cx="183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当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=-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时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最小值为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76"/>
          <p:cNvSpPr/>
          <p:nvPr/>
        </p:nvSpPr>
        <p:spPr>
          <a:xfrm>
            <a:off x="6255360" y="4876920"/>
            <a:ext cx="1702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x=2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时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,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最大值为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-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77"/>
          <p:cNvSpPr/>
          <p:nvPr/>
        </p:nvSpPr>
        <p:spPr>
          <a:xfrm>
            <a:off x="1752480" y="4038480"/>
            <a:ext cx="358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宋体"/>
              </a:rPr>
              <a:t>在对称轴的左侧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,y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宋体"/>
              </a:rPr>
              <a:t>随着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宋体"/>
              </a:rPr>
              <a:t>的增大而减小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宋体"/>
              </a:rPr>
              <a:t>在对称轴的右侧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, y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宋体"/>
              </a:rPr>
              <a:t>随着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宋体"/>
              </a:rPr>
              <a:t>的增大而增大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Object 67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2679480" cy="98892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77"/>
          <p:cNvSpPr/>
          <p:nvPr/>
        </p:nvSpPr>
        <p:spPr>
          <a:xfrm>
            <a:off x="5562720" y="403848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Times New Roman"/>
                <a:ea typeface="宋体"/>
              </a:rPr>
              <a:t>在对称轴的左侧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,y</a:t>
            </a:r>
            <a:r>
              <a:rPr b="1" lang="zh-CN" sz="1600" spc="-1" strike="noStrike">
                <a:solidFill>
                  <a:srgbClr val="000099"/>
                </a:solidFill>
                <a:latin typeface="Times New Roman"/>
                <a:ea typeface="宋体"/>
              </a:rPr>
              <a:t>随着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lang="zh-CN" sz="1600" spc="-1" strike="noStrike">
                <a:solidFill>
                  <a:srgbClr val="000099"/>
                </a:solidFill>
                <a:latin typeface="Times New Roman"/>
                <a:ea typeface="宋体"/>
              </a:rPr>
              <a:t>的增大而增大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. </a:t>
            </a:r>
            <a:r>
              <a:rPr b="1" lang="zh-CN" sz="1600" spc="-1" strike="noStrike">
                <a:solidFill>
                  <a:srgbClr val="000099"/>
                </a:solidFill>
                <a:latin typeface="Times New Roman"/>
                <a:ea typeface="宋体"/>
              </a:rPr>
              <a:t>在对称轴的右侧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, y</a:t>
            </a:r>
            <a:r>
              <a:rPr b="1" lang="zh-CN" sz="1600" spc="-1" strike="noStrike">
                <a:solidFill>
                  <a:srgbClr val="000099"/>
                </a:solidFill>
                <a:latin typeface="Times New Roman"/>
                <a:ea typeface="宋体"/>
              </a:rPr>
              <a:t>随着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lang="zh-CN" sz="1600" spc="-1" strike="noStrike">
                <a:solidFill>
                  <a:srgbClr val="000099"/>
                </a:solidFill>
                <a:latin typeface="Times New Roman"/>
                <a:ea typeface="宋体"/>
              </a:rPr>
              <a:t>的增大而减小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Object 54" descr=""/>
          <p:cNvPicPr/>
          <p:nvPr/>
        </p:nvPicPr>
        <p:blipFill>
          <a:blip r:embed="rId2"/>
          <a:stretch/>
        </p:blipFill>
        <p:spPr>
          <a:xfrm>
            <a:off x="5867280" y="304920"/>
            <a:ext cx="28321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0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16"/>
          <p:cNvSpPr/>
          <p:nvPr/>
        </p:nvSpPr>
        <p:spPr>
          <a:xfrm>
            <a:off x="1981080" y="9036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二次函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y=a(x-h)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k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的图象和性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284040" y="2971800"/>
          <a:ext cx="8859960" cy="4251240"/>
        </p:xfrm>
        <a:graphic>
          <a:graphicData uri="http://schemas.openxmlformats.org/drawingml/2006/table">
            <a:tbl>
              <a:tblPr/>
              <a:tblGrid>
                <a:gridCol w="1428840"/>
                <a:gridCol w="3678120"/>
                <a:gridCol w="3753000"/>
              </a:tblGrid>
              <a:tr h="53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3" name="Text Box 58"/>
          <p:cNvSpPr/>
          <p:nvPr/>
        </p:nvSpPr>
        <p:spPr>
          <a:xfrm>
            <a:off x="250200" y="29718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抛物线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59"/>
          <p:cNvSpPr/>
          <p:nvPr/>
        </p:nvSpPr>
        <p:spPr>
          <a:xfrm>
            <a:off x="483480" y="4572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顶点坐标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60"/>
          <p:cNvSpPr/>
          <p:nvPr/>
        </p:nvSpPr>
        <p:spPr>
          <a:xfrm>
            <a:off x="250200" y="4059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对称轴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62"/>
          <p:cNvSpPr/>
          <p:nvPr/>
        </p:nvSpPr>
        <p:spPr>
          <a:xfrm>
            <a:off x="483480" y="3581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开口方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63"/>
          <p:cNvSpPr/>
          <p:nvPr/>
        </p:nvSpPr>
        <p:spPr>
          <a:xfrm>
            <a:off x="451440" y="51055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减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64"/>
          <p:cNvSpPr/>
          <p:nvPr/>
        </p:nvSpPr>
        <p:spPr>
          <a:xfrm>
            <a:off x="516600" y="6172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最值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65"/>
          <p:cNvSpPr/>
          <p:nvPr/>
        </p:nvSpPr>
        <p:spPr>
          <a:xfrm>
            <a:off x="1945440" y="2986200"/>
            <a:ext cx="288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y=a(x-h)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k</a:t>
            </a: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(a&gt;0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66"/>
          <p:cNvSpPr/>
          <p:nvPr/>
        </p:nvSpPr>
        <p:spPr>
          <a:xfrm>
            <a:off x="5679360" y="2943360"/>
            <a:ext cx="288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y=a(x-h)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k</a:t>
            </a: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(a&lt;0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67"/>
          <p:cNvSpPr/>
          <p:nvPr/>
        </p:nvSpPr>
        <p:spPr>
          <a:xfrm>
            <a:off x="2300760" y="4572000"/>
            <a:ext cx="178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h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k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68"/>
          <p:cNvSpPr/>
          <p:nvPr/>
        </p:nvSpPr>
        <p:spPr>
          <a:xfrm>
            <a:off x="6149160" y="4572000"/>
            <a:ext cx="175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69"/>
          <p:cNvSpPr/>
          <p:nvPr/>
        </p:nvSpPr>
        <p:spPr>
          <a:xfrm>
            <a:off x="2358360" y="4003560"/>
            <a:ext cx="142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宋体"/>
              </a:rPr>
              <a:t>直线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x=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70"/>
          <p:cNvSpPr/>
          <p:nvPr/>
        </p:nvSpPr>
        <p:spPr>
          <a:xfrm>
            <a:off x="6244560" y="4038480"/>
            <a:ext cx="142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直线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x=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73"/>
          <p:cNvSpPr/>
          <p:nvPr/>
        </p:nvSpPr>
        <p:spPr>
          <a:xfrm>
            <a:off x="2836800" y="3581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宋体"/>
              </a:rPr>
              <a:t>向上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74"/>
          <p:cNvSpPr/>
          <p:nvPr/>
        </p:nvSpPr>
        <p:spPr>
          <a:xfrm>
            <a:off x="6265800" y="3581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向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75"/>
          <p:cNvSpPr/>
          <p:nvPr/>
        </p:nvSpPr>
        <p:spPr>
          <a:xfrm>
            <a:off x="1896120" y="6172200"/>
            <a:ext cx="28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当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x=h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时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最小值为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k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76"/>
          <p:cNvSpPr/>
          <p:nvPr/>
        </p:nvSpPr>
        <p:spPr>
          <a:xfrm>
            <a:off x="5554440" y="6095880"/>
            <a:ext cx="284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当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x=h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时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最大值为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k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77"/>
          <p:cNvSpPr/>
          <p:nvPr/>
        </p:nvSpPr>
        <p:spPr>
          <a:xfrm>
            <a:off x="1676520" y="510552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Times New Roman"/>
                <a:ea typeface="宋体"/>
              </a:rPr>
              <a:t>在对称轴的左侧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,y</a:t>
            </a:r>
            <a:r>
              <a:rPr b="1" lang="zh-CN" sz="2000" spc="-1" strike="noStrike">
                <a:solidFill>
                  <a:srgbClr val="c00000"/>
                </a:solidFill>
                <a:latin typeface="Times New Roman"/>
                <a:ea typeface="宋体"/>
              </a:rPr>
              <a:t>随着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c00000"/>
                </a:solidFill>
                <a:latin typeface="Times New Roman"/>
                <a:ea typeface="宋体"/>
              </a:rPr>
              <a:t>的增大而减小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. </a:t>
            </a:r>
            <a:r>
              <a:rPr b="1" lang="zh-CN" sz="2000" spc="-1" strike="noStrike">
                <a:solidFill>
                  <a:srgbClr val="c00000"/>
                </a:solidFill>
                <a:latin typeface="Times New Roman"/>
                <a:ea typeface="宋体"/>
              </a:rPr>
              <a:t>在对称轴的右侧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, y</a:t>
            </a:r>
            <a:r>
              <a:rPr b="1" lang="zh-CN" sz="2000" spc="-1" strike="noStrike">
                <a:solidFill>
                  <a:srgbClr val="c00000"/>
                </a:solidFill>
                <a:latin typeface="Times New Roman"/>
                <a:ea typeface="宋体"/>
              </a:rPr>
              <a:t>随着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c00000"/>
                </a:solidFill>
                <a:latin typeface="Times New Roman"/>
                <a:ea typeface="宋体"/>
              </a:rPr>
              <a:t>的增大而增大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78"/>
          <p:cNvSpPr/>
          <p:nvPr/>
        </p:nvSpPr>
        <p:spPr>
          <a:xfrm>
            <a:off x="5257800" y="510552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  <a:ea typeface="宋体"/>
              </a:rPr>
              <a:t>在对称轴的左侧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,y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  <a:ea typeface="宋体"/>
              </a:rPr>
              <a:t>随着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  <a:ea typeface="宋体"/>
              </a:rPr>
              <a:t>的增大而增大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. 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  <a:ea typeface="宋体"/>
              </a:rPr>
              <a:t>在对称轴的右侧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, y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  <a:ea typeface="宋体"/>
              </a:rPr>
              <a:t>随着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  <a:ea typeface="宋体"/>
              </a:rPr>
              <a:t>的增大而减小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Picture 82" descr="1"/>
          <p:cNvPicPr/>
          <p:nvPr/>
        </p:nvPicPr>
        <p:blipFill>
          <a:blip r:embed="rId1"/>
          <a:srcRect l="6227" t="0" r="53276" b="44699"/>
          <a:stretch/>
        </p:blipFill>
        <p:spPr>
          <a:xfrm>
            <a:off x="1371600" y="762120"/>
            <a:ext cx="1905120" cy="1950840"/>
          </a:xfrm>
          <a:prstGeom prst="rect">
            <a:avLst/>
          </a:prstGeom>
          <a:ln w="0">
            <a:noFill/>
          </a:ln>
        </p:spPr>
      </p:pic>
      <p:sp>
        <p:nvSpPr>
          <p:cNvPr id="492" name="Line 83"/>
          <p:cNvSpPr/>
          <p:nvPr/>
        </p:nvSpPr>
        <p:spPr>
          <a:xfrm>
            <a:off x="2057400" y="533520"/>
            <a:ext cx="46080" cy="2361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Picture 84" descr="1"/>
          <p:cNvPicPr/>
          <p:nvPr/>
        </p:nvPicPr>
        <p:blipFill>
          <a:blip r:embed="rId2"/>
          <a:srcRect l="13686" t="25222" r="42732" b="18249"/>
          <a:stretch/>
        </p:blipFill>
        <p:spPr>
          <a:xfrm>
            <a:off x="5715000" y="762120"/>
            <a:ext cx="1981080" cy="1927080"/>
          </a:xfrm>
          <a:prstGeom prst="rect">
            <a:avLst/>
          </a:prstGeom>
          <a:ln w="0">
            <a:noFill/>
          </a:ln>
        </p:spPr>
      </p:pic>
      <p:sp>
        <p:nvSpPr>
          <p:cNvPr id="494" name="Line 85"/>
          <p:cNvSpPr/>
          <p:nvPr/>
        </p:nvSpPr>
        <p:spPr>
          <a:xfrm>
            <a:off x="6858000" y="533520"/>
            <a:ext cx="46080" cy="228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3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76320"/>
            <a:ext cx="92962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指出下列函数图象的开口方向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对称轴和顶点坐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Object 26" descr=""/>
          <p:cNvPicPr/>
          <p:nvPr/>
        </p:nvPicPr>
        <p:blipFill>
          <a:blip r:embed="rId1"/>
          <a:stretch/>
        </p:blipFill>
        <p:spPr>
          <a:xfrm>
            <a:off x="-73080" y="1295280"/>
            <a:ext cx="3390840" cy="701640"/>
          </a:xfrm>
          <a:prstGeom prst="rect">
            <a:avLst/>
          </a:prstGeom>
          <a:ln w="0">
            <a:noFill/>
          </a:ln>
        </p:spPr>
      </p:pic>
      <p:pic>
        <p:nvPicPr>
          <p:cNvPr id="497" name="Object 27" descr=""/>
          <p:cNvPicPr/>
          <p:nvPr/>
        </p:nvPicPr>
        <p:blipFill>
          <a:blip r:embed="rId2"/>
          <a:stretch/>
        </p:blipFill>
        <p:spPr>
          <a:xfrm>
            <a:off x="-73080" y="2209680"/>
            <a:ext cx="3281400" cy="687600"/>
          </a:xfrm>
          <a:prstGeom prst="rect">
            <a:avLst/>
          </a:prstGeom>
          <a:ln w="0">
            <a:noFill/>
          </a:ln>
        </p:spPr>
      </p:pic>
      <p:pic>
        <p:nvPicPr>
          <p:cNvPr id="498" name="Object 28" descr=""/>
          <p:cNvPicPr/>
          <p:nvPr/>
        </p:nvPicPr>
        <p:blipFill>
          <a:blip r:embed="rId3"/>
          <a:stretch/>
        </p:blipFill>
        <p:spPr>
          <a:xfrm>
            <a:off x="-73080" y="2965320"/>
            <a:ext cx="2790720" cy="1073160"/>
          </a:xfrm>
          <a:prstGeom prst="rect">
            <a:avLst/>
          </a:prstGeom>
          <a:ln w="0">
            <a:noFill/>
          </a:ln>
        </p:spPr>
      </p:pic>
      <p:pic>
        <p:nvPicPr>
          <p:cNvPr id="499" name="Object 29" descr=""/>
          <p:cNvPicPr/>
          <p:nvPr/>
        </p:nvPicPr>
        <p:blipFill>
          <a:blip r:embed="rId4"/>
          <a:stretch/>
        </p:blipFill>
        <p:spPr>
          <a:xfrm>
            <a:off x="-73080" y="4030560"/>
            <a:ext cx="3467160" cy="693720"/>
          </a:xfrm>
          <a:prstGeom prst="rect">
            <a:avLst/>
          </a:prstGeom>
          <a:ln w="0">
            <a:noFill/>
          </a:ln>
        </p:spPr>
      </p:pic>
      <p:pic>
        <p:nvPicPr>
          <p:cNvPr id="500" name="Object 30" descr=""/>
          <p:cNvPicPr/>
          <p:nvPr/>
        </p:nvPicPr>
        <p:blipFill>
          <a:blip r:embed="rId5"/>
          <a:stretch/>
        </p:blipFill>
        <p:spPr>
          <a:xfrm>
            <a:off x="-73080" y="4859280"/>
            <a:ext cx="3846600" cy="703440"/>
          </a:xfrm>
          <a:prstGeom prst="rect">
            <a:avLst/>
          </a:prstGeom>
          <a:ln w="0">
            <a:noFill/>
          </a:ln>
        </p:spPr>
      </p:pic>
      <p:pic>
        <p:nvPicPr>
          <p:cNvPr id="501" name="Object 31" descr=""/>
          <p:cNvPicPr/>
          <p:nvPr/>
        </p:nvPicPr>
        <p:blipFill>
          <a:blip r:embed="rId6"/>
          <a:stretch/>
        </p:blipFill>
        <p:spPr>
          <a:xfrm>
            <a:off x="-73080" y="5638680"/>
            <a:ext cx="3056040" cy="1068480"/>
          </a:xfrm>
          <a:prstGeom prst="rect">
            <a:avLst/>
          </a:prstGeom>
          <a:ln w="0">
            <a:noFill/>
          </a:ln>
        </p:spPr>
      </p:pic>
      <p:sp>
        <p:nvSpPr>
          <p:cNvPr id="502" name="Line 33"/>
          <p:cNvSpPr/>
          <p:nvPr/>
        </p:nvSpPr>
        <p:spPr>
          <a:xfrm>
            <a:off x="0" y="3962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34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35"/>
          <p:cNvSpPr/>
          <p:nvPr/>
        </p:nvSpPr>
        <p:spPr>
          <a:xfrm>
            <a:off x="0" y="5638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36"/>
          <p:cNvSpPr/>
          <p:nvPr/>
        </p:nvSpPr>
        <p:spPr>
          <a:xfrm>
            <a:off x="0" y="3048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Line 37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38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Line 39"/>
          <p:cNvSpPr/>
          <p:nvPr/>
        </p:nvSpPr>
        <p:spPr>
          <a:xfrm>
            <a:off x="3733920" y="685800"/>
            <a:ext cx="0" cy="61722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40"/>
          <p:cNvSpPr/>
          <p:nvPr/>
        </p:nvSpPr>
        <p:spPr>
          <a:xfrm>
            <a:off x="5181480" y="685800"/>
            <a:ext cx="0" cy="61722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41"/>
          <p:cNvSpPr/>
          <p:nvPr/>
        </p:nvSpPr>
        <p:spPr>
          <a:xfrm>
            <a:off x="7238880" y="685800"/>
            <a:ext cx="0" cy="61722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42"/>
          <p:cNvSpPr/>
          <p:nvPr/>
        </p:nvSpPr>
        <p:spPr>
          <a:xfrm>
            <a:off x="4655880" y="639720"/>
            <a:ext cx="36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开口      对称轴      顶点坐标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43"/>
          <p:cNvSpPr/>
          <p:nvPr/>
        </p:nvSpPr>
        <p:spPr>
          <a:xfrm>
            <a:off x="4118400" y="1363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向上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44"/>
          <p:cNvSpPr/>
          <p:nvPr/>
        </p:nvSpPr>
        <p:spPr>
          <a:xfrm>
            <a:off x="5450400" y="1398600"/>
            <a:ext cx="14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直线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=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45"/>
          <p:cNvSpPr/>
          <p:nvPr/>
        </p:nvSpPr>
        <p:spPr>
          <a:xfrm>
            <a:off x="7520760" y="1352520"/>
            <a:ext cx="116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3,–5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46"/>
          <p:cNvSpPr/>
          <p:nvPr/>
        </p:nvSpPr>
        <p:spPr>
          <a:xfrm>
            <a:off x="4128120" y="22971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向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47"/>
          <p:cNvSpPr/>
          <p:nvPr/>
        </p:nvSpPr>
        <p:spPr>
          <a:xfrm>
            <a:off x="5373360" y="2332080"/>
            <a:ext cx="171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宋体"/>
              </a:rPr>
              <a:t>直线</a:t>
            </a:r>
            <a:r>
              <a:rPr b="1" i="1" lang="en-US" sz="3200" spc="-1" strike="noStrike">
                <a:solidFill>
                  <a:srgbClr val="0033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= –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48"/>
          <p:cNvSpPr/>
          <p:nvPr/>
        </p:nvSpPr>
        <p:spPr>
          <a:xfrm>
            <a:off x="7530480" y="2286000"/>
            <a:ext cx="116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(–1,0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49"/>
          <p:cNvSpPr/>
          <p:nvPr/>
        </p:nvSpPr>
        <p:spPr>
          <a:xfrm>
            <a:off x="4128120" y="32115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向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50"/>
          <p:cNvSpPr/>
          <p:nvPr/>
        </p:nvSpPr>
        <p:spPr>
          <a:xfrm>
            <a:off x="5459760" y="3246480"/>
            <a:ext cx="14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直线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=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51"/>
          <p:cNvSpPr/>
          <p:nvPr/>
        </p:nvSpPr>
        <p:spPr>
          <a:xfrm>
            <a:off x="7530480" y="3200400"/>
            <a:ext cx="116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0,–1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52"/>
          <p:cNvSpPr/>
          <p:nvPr/>
        </p:nvSpPr>
        <p:spPr>
          <a:xfrm>
            <a:off x="4137480" y="41259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向上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53"/>
          <p:cNvSpPr/>
          <p:nvPr/>
        </p:nvSpPr>
        <p:spPr>
          <a:xfrm>
            <a:off x="5469120" y="4160880"/>
            <a:ext cx="14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宋体"/>
              </a:rPr>
              <a:t>直线</a:t>
            </a:r>
            <a:r>
              <a:rPr b="1" i="1" lang="en-US" sz="3200" spc="-1" strike="noStrike">
                <a:solidFill>
                  <a:srgbClr val="0033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=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54"/>
          <p:cNvSpPr/>
          <p:nvPr/>
        </p:nvSpPr>
        <p:spPr>
          <a:xfrm>
            <a:off x="7540200" y="4114800"/>
            <a:ext cx="106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(2, 5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55"/>
          <p:cNvSpPr/>
          <p:nvPr/>
        </p:nvSpPr>
        <p:spPr>
          <a:xfrm>
            <a:off x="4109040" y="4888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向上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56"/>
          <p:cNvSpPr/>
          <p:nvPr/>
        </p:nvSpPr>
        <p:spPr>
          <a:xfrm>
            <a:off x="5220720" y="4923000"/>
            <a:ext cx="181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直线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= – 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57"/>
          <p:cNvSpPr/>
          <p:nvPr/>
        </p:nvSpPr>
        <p:spPr>
          <a:xfrm>
            <a:off x="7511040" y="4876920"/>
            <a:ext cx="126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– 4,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58"/>
          <p:cNvSpPr/>
          <p:nvPr/>
        </p:nvSpPr>
        <p:spPr>
          <a:xfrm>
            <a:off x="4118400" y="5821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向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59"/>
          <p:cNvSpPr/>
          <p:nvPr/>
        </p:nvSpPr>
        <p:spPr>
          <a:xfrm>
            <a:off x="5450400" y="5856120"/>
            <a:ext cx="14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宋体"/>
              </a:rPr>
              <a:t>直线</a:t>
            </a:r>
            <a:r>
              <a:rPr b="1" i="1" lang="en-US" sz="3200" spc="-1" strike="noStrike">
                <a:solidFill>
                  <a:srgbClr val="0033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=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60"/>
          <p:cNvSpPr/>
          <p:nvPr/>
        </p:nvSpPr>
        <p:spPr>
          <a:xfrm>
            <a:off x="7521480" y="5810400"/>
            <a:ext cx="96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(3,0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6"/>
          <p:cNvSpPr/>
          <p:nvPr/>
        </p:nvSpPr>
        <p:spPr>
          <a:xfrm>
            <a:off x="1146240" y="1558080"/>
            <a:ext cx="7035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．抛物线的上下平移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把二次函数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1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图像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沿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轴向上平移３个单位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得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图像；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把二次函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图像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沿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轴向下平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个单位，得到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图像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15"/>
          <p:cNvSpPr/>
          <p:nvPr/>
        </p:nvSpPr>
        <p:spPr>
          <a:xfrm>
            <a:off x="-301680" y="21240"/>
            <a:ext cx="9140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楷体"/>
                <a:ea typeface="楷体"/>
              </a:rPr>
              <a:t>考考你学的怎么样</a:t>
            </a:r>
            <a:r>
              <a:rPr b="1" lang="zh-CN" sz="6000" spc="-1" strike="noStrike">
                <a:solidFill>
                  <a:srgbClr val="000099"/>
                </a:solidFill>
                <a:latin typeface="Calibri"/>
                <a:ea typeface="楷体"/>
              </a:rPr>
              <a:t>：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矩形 3"/>
          <p:cNvSpPr/>
          <p:nvPr/>
        </p:nvSpPr>
        <p:spPr>
          <a:xfrm>
            <a:off x="1388880" y="3200400"/>
            <a:ext cx="20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=(x+1)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矩形 4"/>
          <p:cNvSpPr/>
          <p:nvPr/>
        </p:nvSpPr>
        <p:spPr>
          <a:xfrm>
            <a:off x="4358880" y="3733920"/>
            <a:ext cx="137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=x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6" dur="8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7" dur="8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8" dur="8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3" dur="8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4" dur="8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5" dur="8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2"/>
          <p:cNvSpPr/>
          <p:nvPr/>
        </p:nvSpPr>
        <p:spPr>
          <a:xfrm>
            <a:off x="1120680" y="1413720"/>
            <a:ext cx="7061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．抛物线的左右平移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把二次函数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1)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图像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沿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轴向左平移３个单位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得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图像；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把二次函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图像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沿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轴向右平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个单位，得到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图像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矩形 2"/>
          <p:cNvSpPr/>
          <p:nvPr/>
        </p:nvSpPr>
        <p:spPr>
          <a:xfrm>
            <a:off x="1615680" y="2971800"/>
            <a:ext cx="164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=(x+4)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矩形 3"/>
          <p:cNvSpPr/>
          <p:nvPr/>
        </p:nvSpPr>
        <p:spPr>
          <a:xfrm>
            <a:off x="4132080" y="3657600"/>
            <a:ext cx="20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=(x+2)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2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3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4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9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0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1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2"/>
          <p:cNvSpPr/>
          <p:nvPr/>
        </p:nvSpPr>
        <p:spPr>
          <a:xfrm>
            <a:off x="1112400" y="982800"/>
            <a:ext cx="6836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．抛物线的平移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把二次函数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图像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先沿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轴向左平移３个单位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再沿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轴向下平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个单位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得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图像；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把二次函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图像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先沿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轴向下平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个单位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再沿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轴向右平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个单位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得到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-3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3)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图像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矩形 2"/>
          <p:cNvSpPr/>
          <p:nvPr/>
        </p:nvSpPr>
        <p:spPr>
          <a:xfrm>
            <a:off x="1465200" y="3124080"/>
            <a:ext cx="21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=3(x+3)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矩形 3"/>
          <p:cNvSpPr/>
          <p:nvPr/>
        </p:nvSpPr>
        <p:spPr>
          <a:xfrm>
            <a:off x="4359600" y="3733920"/>
            <a:ext cx="198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=-3(x+6)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0" dur="8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5" dur="8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6" dur="8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7" dur="8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13"/>
          <p:cNvGrpSpPr/>
          <p:nvPr/>
        </p:nvGrpSpPr>
        <p:grpSpPr>
          <a:xfrm>
            <a:off x="495360" y="1197000"/>
            <a:ext cx="7741440" cy="819000"/>
            <a:chOff x="495360" y="1197000"/>
            <a:chExt cx="7741440" cy="819000"/>
          </a:xfrm>
        </p:grpSpPr>
        <p:pic>
          <p:nvPicPr>
            <p:cNvPr id="541" name="Object 3" descr=""/>
            <p:cNvPicPr/>
            <p:nvPr/>
          </p:nvPicPr>
          <p:blipFill>
            <a:blip r:embed="rId1"/>
            <a:stretch/>
          </p:blipFill>
          <p:spPr>
            <a:xfrm>
              <a:off x="2195640" y="1197000"/>
              <a:ext cx="1655640" cy="78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Rectangle 5"/>
            <p:cNvSpPr/>
            <p:nvPr/>
          </p:nvSpPr>
          <p:spPr>
            <a:xfrm>
              <a:off x="495360" y="1373400"/>
              <a:ext cx="150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宋体"/>
                </a:rPr>
                <a:t>4.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抛物线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Rectangle 6"/>
            <p:cNvSpPr/>
            <p:nvPr/>
          </p:nvSpPr>
          <p:spPr>
            <a:xfrm>
              <a:off x="4417200" y="1255320"/>
              <a:ext cx="38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749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顶点坐标是</a:t>
              </a: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宋体"/>
                </a:rPr>
                <a:t>________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；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Group 12"/>
          <p:cNvGrpSpPr/>
          <p:nvPr/>
        </p:nvGrpSpPr>
        <p:grpSpPr>
          <a:xfrm>
            <a:off x="508320" y="2204640"/>
            <a:ext cx="7655400" cy="1191240"/>
            <a:chOff x="508320" y="2204640"/>
            <a:chExt cx="7655400" cy="1191240"/>
          </a:xfrm>
        </p:grpSpPr>
        <p:pic>
          <p:nvPicPr>
            <p:cNvPr id="545" name="Object 7" descr=""/>
            <p:cNvPicPr/>
            <p:nvPr/>
          </p:nvPicPr>
          <p:blipFill>
            <a:blip r:embed="rId2"/>
            <a:stretch/>
          </p:blipFill>
          <p:spPr>
            <a:xfrm>
              <a:off x="2195640" y="2205000"/>
              <a:ext cx="1584360" cy="7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Rectangle 7"/>
            <p:cNvSpPr/>
            <p:nvPr/>
          </p:nvSpPr>
          <p:spPr>
            <a:xfrm>
              <a:off x="4344120" y="2204640"/>
              <a:ext cx="3819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749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向上平移</a:t>
              </a:r>
              <a:r>
                <a:rPr b="1" lang="en-US" sz="36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单位后，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749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顶点的坐标是</a:t>
              </a: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宋体"/>
                </a:rPr>
                <a:t>________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；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Rectangle 9"/>
            <p:cNvSpPr/>
            <p:nvPr/>
          </p:nvSpPr>
          <p:spPr>
            <a:xfrm>
              <a:off x="508320" y="2275920"/>
              <a:ext cx="150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宋体"/>
                </a:rPr>
                <a:t>5.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抛物线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Group 11"/>
          <p:cNvGrpSpPr/>
          <p:nvPr/>
        </p:nvGrpSpPr>
        <p:grpSpPr>
          <a:xfrm>
            <a:off x="581040" y="3716280"/>
            <a:ext cx="7212240" cy="835200"/>
            <a:chOff x="581040" y="3716280"/>
            <a:chExt cx="7212240" cy="835200"/>
          </a:xfrm>
        </p:grpSpPr>
        <p:pic>
          <p:nvPicPr>
            <p:cNvPr id="549" name="Object 11" descr=""/>
            <p:cNvPicPr/>
            <p:nvPr/>
          </p:nvPicPr>
          <p:blipFill>
            <a:blip r:embed="rId3"/>
            <a:stretch/>
          </p:blipFill>
          <p:spPr>
            <a:xfrm>
              <a:off x="2339640" y="3716280"/>
              <a:ext cx="223164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Rectangle 8"/>
            <p:cNvSpPr/>
            <p:nvPr/>
          </p:nvSpPr>
          <p:spPr>
            <a:xfrm>
              <a:off x="5063040" y="3788640"/>
              <a:ext cx="2730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749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对称轴是</a:t>
              </a: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宋体"/>
                </a:rPr>
                <a:t>_____</a:t>
              </a:r>
              <a:r>
                <a:rPr b="1" lang="en-US" sz="36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Rectangle 10"/>
            <p:cNvSpPr/>
            <p:nvPr/>
          </p:nvSpPr>
          <p:spPr>
            <a:xfrm>
              <a:off x="581040" y="3860280"/>
              <a:ext cx="150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宋体"/>
                </a:rPr>
                <a:t>6.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抛物线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矩形 13"/>
          <p:cNvSpPr/>
          <p:nvPr/>
        </p:nvSpPr>
        <p:spPr>
          <a:xfrm>
            <a:off x="6862680" y="1143000"/>
            <a:ext cx="12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-1,0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矩形 14"/>
          <p:cNvSpPr/>
          <p:nvPr/>
        </p:nvSpPr>
        <p:spPr>
          <a:xfrm>
            <a:off x="6939000" y="2743200"/>
            <a:ext cx="12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-1,3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矩形 15"/>
          <p:cNvSpPr/>
          <p:nvPr/>
        </p:nvSpPr>
        <p:spPr>
          <a:xfrm>
            <a:off x="7090920" y="3733920"/>
            <a:ext cx="95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=-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4" dur="8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5" dur="8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6" dur="8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1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2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3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8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9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0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2"/>
          <p:cNvSpPr/>
          <p:nvPr/>
        </p:nvSpPr>
        <p:spPr>
          <a:xfrm>
            <a:off x="38160" y="1205640"/>
            <a:ext cx="8800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．把二次函数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4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图像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沿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轴向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平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个单位，得到图像的对称轴是直线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3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．把抛物线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2)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，先沿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轴向右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平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个单位，再沿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轴向下平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个单位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得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图像．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．把二次函数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图像，先沿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轴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向左平移３个单位，再沿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轴向下平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个单位，得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图像的顶点坐标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矩形 14"/>
          <p:cNvSpPr/>
          <p:nvPr/>
        </p:nvSpPr>
        <p:spPr>
          <a:xfrm>
            <a:off x="35640" y="1523880"/>
            <a:ext cx="62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右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矩形 15"/>
          <p:cNvSpPr/>
          <p:nvPr/>
        </p:nvSpPr>
        <p:spPr>
          <a:xfrm>
            <a:off x="1526760" y="1447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矩形 16"/>
          <p:cNvSpPr/>
          <p:nvPr/>
        </p:nvSpPr>
        <p:spPr>
          <a:xfrm>
            <a:off x="1691280" y="3657600"/>
            <a:ext cx="161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=-3x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矩形 17"/>
          <p:cNvSpPr/>
          <p:nvPr/>
        </p:nvSpPr>
        <p:spPr>
          <a:xfrm>
            <a:off x="6634080" y="5334120"/>
            <a:ext cx="12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-3,-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7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9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4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5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6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1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2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3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8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9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0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0"/>
          <p:cNvSpPr/>
          <p:nvPr/>
        </p:nvSpPr>
        <p:spPr>
          <a:xfrm>
            <a:off x="3505320" y="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楷体"/>
                <a:ea typeface="楷体"/>
              </a:rPr>
              <a:t>1.</a:t>
            </a:r>
            <a:r>
              <a:rPr b="1" lang="zh-CN" sz="4800" spc="-1" strike="noStrike">
                <a:solidFill>
                  <a:srgbClr val="800000"/>
                </a:solidFill>
                <a:latin typeface="楷体"/>
                <a:ea typeface="楷体"/>
              </a:rPr>
              <a:t>填表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WordArt 11" descr=""/>
          <p:cNvPicPr/>
          <p:nvPr/>
        </p:nvPicPr>
        <p:blipFill>
          <a:blip r:embed="rId1"/>
          <a:stretch/>
        </p:blipFill>
        <p:spPr>
          <a:xfrm>
            <a:off x="-3240" y="-3240"/>
            <a:ext cx="2752920" cy="722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6" name=""/>
          <p:cNvGraphicFramePr/>
          <p:nvPr/>
        </p:nvGraphicFramePr>
        <p:xfrm>
          <a:off x="0" y="609480"/>
          <a:ext cx="9144000" cy="61117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4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抛物线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4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开口方向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4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对称轴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4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顶点坐标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2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2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2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2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2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27" name="Object 46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2016000" cy="830160"/>
          </a:xfrm>
          <a:prstGeom prst="rect">
            <a:avLst/>
          </a:prstGeom>
          <a:ln w="0">
            <a:noFill/>
          </a:ln>
        </p:spPr>
      </p:pic>
      <p:pic>
        <p:nvPicPr>
          <p:cNvPr id="128" name="Object 47" descr=""/>
          <p:cNvPicPr/>
          <p:nvPr/>
        </p:nvPicPr>
        <p:blipFill>
          <a:blip r:embed="rId3"/>
          <a:stretch/>
        </p:blipFill>
        <p:spPr>
          <a:xfrm>
            <a:off x="152280" y="2743200"/>
            <a:ext cx="2132280" cy="641520"/>
          </a:xfrm>
          <a:prstGeom prst="rect">
            <a:avLst/>
          </a:prstGeom>
          <a:ln w="0">
            <a:noFill/>
          </a:ln>
        </p:spPr>
      </p:pic>
      <p:pic>
        <p:nvPicPr>
          <p:cNvPr id="129" name="Object 48" descr=""/>
          <p:cNvPicPr/>
          <p:nvPr/>
        </p:nvPicPr>
        <p:blipFill>
          <a:blip r:embed="rId4"/>
          <a:stretch/>
        </p:blipFill>
        <p:spPr>
          <a:xfrm>
            <a:off x="152280" y="3581280"/>
            <a:ext cx="2133720" cy="701640"/>
          </a:xfrm>
          <a:prstGeom prst="rect">
            <a:avLst/>
          </a:prstGeom>
          <a:ln w="0">
            <a:noFill/>
          </a:ln>
        </p:spPr>
      </p:pic>
      <p:pic>
        <p:nvPicPr>
          <p:cNvPr id="130" name="Object 49" descr=""/>
          <p:cNvPicPr/>
          <p:nvPr/>
        </p:nvPicPr>
        <p:blipFill>
          <a:blip r:embed="rId5"/>
          <a:stretch/>
        </p:blipFill>
        <p:spPr>
          <a:xfrm>
            <a:off x="304920" y="4572000"/>
            <a:ext cx="1728720" cy="798480"/>
          </a:xfrm>
          <a:prstGeom prst="rect">
            <a:avLst/>
          </a:prstGeom>
          <a:ln w="0">
            <a:noFill/>
          </a:ln>
        </p:spPr>
      </p:pic>
      <p:pic>
        <p:nvPicPr>
          <p:cNvPr id="131" name="Object 50" descr=""/>
          <p:cNvPicPr/>
          <p:nvPr/>
        </p:nvPicPr>
        <p:blipFill>
          <a:blip r:embed="rId6"/>
          <a:stretch/>
        </p:blipFill>
        <p:spPr>
          <a:xfrm>
            <a:off x="304920" y="5257800"/>
            <a:ext cx="1871640" cy="687240"/>
          </a:xfrm>
          <a:prstGeom prst="rect">
            <a:avLst/>
          </a:prstGeom>
          <a:ln w="0">
            <a:noFill/>
          </a:ln>
        </p:spPr>
      </p:pic>
      <p:pic>
        <p:nvPicPr>
          <p:cNvPr id="132" name="Object 51" descr=""/>
          <p:cNvPicPr/>
          <p:nvPr/>
        </p:nvPicPr>
        <p:blipFill>
          <a:blip r:embed="rId7"/>
          <a:stretch/>
        </p:blipFill>
        <p:spPr>
          <a:xfrm>
            <a:off x="0" y="6019920"/>
            <a:ext cx="2301840" cy="6681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47"/>
          <p:cNvSpPr/>
          <p:nvPr/>
        </p:nvSpPr>
        <p:spPr>
          <a:xfrm>
            <a:off x="7315200" y="45720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0, 0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47"/>
          <p:cNvSpPr/>
          <p:nvPr/>
        </p:nvSpPr>
        <p:spPr>
          <a:xfrm>
            <a:off x="7467480" y="533412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1, 0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47"/>
          <p:cNvSpPr/>
          <p:nvPr/>
        </p:nvSpPr>
        <p:spPr>
          <a:xfrm>
            <a:off x="7086600" y="6095880"/>
            <a:ext cx="14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- 1, 0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47"/>
          <p:cNvSpPr/>
          <p:nvPr/>
        </p:nvSpPr>
        <p:spPr>
          <a:xfrm>
            <a:off x="7238880" y="20574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0, 0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47"/>
          <p:cNvSpPr/>
          <p:nvPr/>
        </p:nvSpPr>
        <p:spPr>
          <a:xfrm>
            <a:off x="7315200" y="27432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0, 1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47"/>
          <p:cNvSpPr/>
          <p:nvPr/>
        </p:nvSpPr>
        <p:spPr>
          <a:xfrm>
            <a:off x="7086600" y="3657600"/>
            <a:ext cx="15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0, - 1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69"/>
          <p:cNvSpPr/>
          <p:nvPr/>
        </p:nvSpPr>
        <p:spPr>
          <a:xfrm>
            <a:off x="3141360" y="2133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向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70"/>
          <p:cNvSpPr/>
          <p:nvPr/>
        </p:nvSpPr>
        <p:spPr>
          <a:xfrm>
            <a:off x="3217680" y="2819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向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71"/>
          <p:cNvSpPr/>
          <p:nvPr/>
        </p:nvSpPr>
        <p:spPr>
          <a:xfrm>
            <a:off x="3141360" y="3733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向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72"/>
          <p:cNvSpPr/>
          <p:nvPr/>
        </p:nvSpPr>
        <p:spPr>
          <a:xfrm>
            <a:off x="3217680" y="4648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向上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Box 73"/>
          <p:cNvSpPr/>
          <p:nvPr/>
        </p:nvSpPr>
        <p:spPr>
          <a:xfrm>
            <a:off x="3065400" y="5334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向上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Box 75"/>
          <p:cNvSpPr/>
          <p:nvPr/>
        </p:nvSpPr>
        <p:spPr>
          <a:xfrm>
            <a:off x="5490360" y="1981080"/>
            <a:ext cx="82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x=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Box 76"/>
          <p:cNvSpPr/>
          <p:nvPr/>
        </p:nvSpPr>
        <p:spPr>
          <a:xfrm>
            <a:off x="5490360" y="2743200"/>
            <a:ext cx="82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x=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Box 77"/>
          <p:cNvSpPr/>
          <p:nvPr/>
        </p:nvSpPr>
        <p:spPr>
          <a:xfrm>
            <a:off x="5490360" y="3657600"/>
            <a:ext cx="82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x=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78"/>
          <p:cNvSpPr/>
          <p:nvPr/>
        </p:nvSpPr>
        <p:spPr>
          <a:xfrm>
            <a:off x="5490360" y="4648320"/>
            <a:ext cx="82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x=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79"/>
          <p:cNvSpPr/>
          <p:nvPr/>
        </p:nvSpPr>
        <p:spPr>
          <a:xfrm>
            <a:off x="5334120" y="5410080"/>
            <a:ext cx="8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x=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Box 80"/>
          <p:cNvSpPr/>
          <p:nvPr/>
        </p:nvSpPr>
        <p:spPr>
          <a:xfrm>
            <a:off x="5338800" y="6095880"/>
            <a:ext cx="116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x= - 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Box 73"/>
          <p:cNvSpPr/>
          <p:nvPr/>
        </p:nvSpPr>
        <p:spPr>
          <a:xfrm>
            <a:off x="3141360" y="6095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向上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4"/>
          <p:cNvSpPr/>
          <p:nvPr/>
        </p:nvSpPr>
        <p:spPr>
          <a:xfrm>
            <a:off x="991440" y="197280"/>
            <a:ext cx="574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0.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如图所示的抛物线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当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x=_____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时，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y=0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；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当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x&lt;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或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x&gt;0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时，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y_____0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；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当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在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_____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范围内时，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y&gt;0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；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当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x=_____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时，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有最大值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_____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1" name="图片 4" descr="http://file.qlteacher.com/upload/cz2010/images/1008/10/125758761.GIF"/>
          <p:cNvPicPr/>
          <p:nvPr/>
        </p:nvPicPr>
        <p:blipFill>
          <a:blip r:embed="rId1"/>
          <a:stretch/>
        </p:blipFill>
        <p:spPr>
          <a:xfrm>
            <a:off x="762120" y="3475080"/>
            <a:ext cx="4800600" cy="3382920"/>
          </a:xfrm>
          <a:prstGeom prst="rect">
            <a:avLst/>
          </a:prstGeom>
          <a:ln w="0">
            <a:noFill/>
          </a:ln>
        </p:spPr>
      </p:pic>
      <p:sp>
        <p:nvSpPr>
          <p:cNvPr id="562" name="Rectangle 5"/>
          <p:cNvSpPr/>
          <p:nvPr/>
        </p:nvSpPr>
        <p:spPr>
          <a:xfrm>
            <a:off x="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Box 5"/>
          <p:cNvSpPr/>
          <p:nvPr/>
        </p:nvSpPr>
        <p:spPr>
          <a:xfrm>
            <a:off x="274608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矩形 6"/>
          <p:cNvSpPr/>
          <p:nvPr/>
        </p:nvSpPr>
        <p:spPr>
          <a:xfrm>
            <a:off x="1667160" y="838080"/>
            <a:ext cx="126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或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矩形 8"/>
          <p:cNvSpPr/>
          <p:nvPr/>
        </p:nvSpPr>
        <p:spPr>
          <a:xfrm>
            <a:off x="5032800" y="1447920"/>
            <a:ext cx="3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&lt;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矩形 9"/>
          <p:cNvSpPr/>
          <p:nvPr/>
        </p:nvSpPr>
        <p:spPr>
          <a:xfrm>
            <a:off x="1873440" y="1905120"/>
            <a:ext cx="170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2 &lt; x&lt;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矩形 10"/>
          <p:cNvSpPr/>
          <p:nvPr/>
        </p:nvSpPr>
        <p:spPr>
          <a:xfrm>
            <a:off x="2136600" y="2514600"/>
            <a:ext cx="51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-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矩形 11"/>
          <p:cNvSpPr/>
          <p:nvPr/>
        </p:nvSpPr>
        <p:spPr>
          <a:xfrm>
            <a:off x="6404400" y="251460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7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8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9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4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5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6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1" dur="8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2" dur="8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3" dur="8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8" dur="8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9" dur="8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0" dur="8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5" dur="8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6" dur="8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7" dur="8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矩形 1"/>
          <p:cNvSpPr/>
          <p:nvPr/>
        </p:nvSpPr>
        <p:spPr>
          <a:xfrm>
            <a:off x="228600" y="380880"/>
            <a:ext cx="8915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、试分别说明将抛物线的图象通过怎样的平移得到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y=x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的图象：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(1) y=(x-3)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+2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；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(2)y=(x+4)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－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矩形 3"/>
          <p:cNvSpPr/>
          <p:nvPr/>
        </p:nvSpPr>
        <p:spPr>
          <a:xfrm>
            <a:off x="380880" y="4419720"/>
            <a:ext cx="87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2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与抛物线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形状相同，顶点为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）的抛物线解析式为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矩形 4"/>
          <p:cNvSpPr/>
          <p:nvPr/>
        </p:nvSpPr>
        <p:spPr>
          <a:xfrm>
            <a:off x="457200" y="25146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先向左平移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个单位，再向下平移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个单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矩形 5"/>
          <p:cNvSpPr/>
          <p:nvPr/>
        </p:nvSpPr>
        <p:spPr>
          <a:xfrm>
            <a:off x="533520" y="3809880"/>
            <a:ext cx="929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先向右平移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个单位，再向上平移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个单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矩形 6"/>
          <p:cNvSpPr/>
          <p:nvPr/>
        </p:nvSpPr>
        <p:spPr>
          <a:xfrm>
            <a:off x="1237680" y="5638680"/>
            <a:ext cx="48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= - 4(x-2)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3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或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= 4(x-2)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4" dur="8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5" dur="8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6" dur="8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1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2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3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8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9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0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6"/>
          <p:cNvSpPr/>
          <p:nvPr/>
        </p:nvSpPr>
        <p:spPr>
          <a:xfrm>
            <a:off x="380880" y="228600"/>
            <a:ext cx="8305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已知二次函数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图象如图所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求解析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Picture 8" descr=""/>
          <p:cNvPicPr/>
          <p:nvPr/>
        </p:nvPicPr>
        <p:blipFill>
          <a:blip r:embed="rId1"/>
          <a:stretch/>
        </p:blipFill>
        <p:spPr>
          <a:xfrm>
            <a:off x="4419720" y="2895480"/>
            <a:ext cx="4495680" cy="3614760"/>
          </a:xfrm>
          <a:prstGeom prst="rect">
            <a:avLst/>
          </a:prstGeom>
          <a:ln w="0">
            <a:noFill/>
          </a:ln>
        </p:spPr>
      </p:pic>
      <p:sp>
        <p:nvSpPr>
          <p:cNvPr id="576" name="TextBox 4"/>
          <p:cNvSpPr/>
          <p:nvPr/>
        </p:nvSpPr>
        <p:spPr>
          <a:xfrm>
            <a:off x="6862320" y="5715000"/>
            <a:ext cx="109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,-1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Box 5"/>
          <p:cNvSpPr/>
          <p:nvPr/>
        </p:nvSpPr>
        <p:spPr>
          <a:xfrm>
            <a:off x="5109120" y="4952880"/>
            <a:ext cx="96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0,0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Box 6"/>
          <p:cNvSpPr/>
          <p:nvPr/>
        </p:nvSpPr>
        <p:spPr>
          <a:xfrm>
            <a:off x="7699680" y="4952880"/>
            <a:ext cx="96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,0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矩形 7"/>
          <p:cNvSpPr/>
          <p:nvPr/>
        </p:nvSpPr>
        <p:spPr>
          <a:xfrm>
            <a:off x="626760" y="6273720"/>
            <a:ext cx="475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﹤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矩形 8"/>
          <p:cNvSpPr/>
          <p:nvPr/>
        </p:nvSpPr>
        <p:spPr>
          <a:xfrm>
            <a:off x="801720" y="5791320"/>
            <a:ext cx="42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0;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矩形 9"/>
          <p:cNvSpPr/>
          <p:nvPr/>
        </p:nvSpPr>
        <p:spPr>
          <a:xfrm>
            <a:off x="380880" y="4419720"/>
            <a:ext cx="4572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根据图象回答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0;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5"/>
          <p:cNvSpPr/>
          <p:nvPr/>
        </p:nvSpPr>
        <p:spPr>
          <a:xfrm>
            <a:off x="1300320" y="1536120"/>
            <a:ext cx="4188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解：∵二次函数图象的顶点是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(1,-1)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∴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设抛物线解析式是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y=a(x-1)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-1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∵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其图象过点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(0,0)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∴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0= a(0-1)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-1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∴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=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∴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y= (x-1)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矩形 11"/>
          <p:cNvSpPr/>
          <p:nvPr/>
        </p:nvSpPr>
        <p:spPr>
          <a:xfrm>
            <a:off x="1519560" y="5029200"/>
            <a:ext cx="18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x&lt;0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或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x&gt;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矩形 12"/>
          <p:cNvSpPr/>
          <p:nvPr/>
        </p:nvSpPr>
        <p:spPr>
          <a:xfrm>
            <a:off x="1837440" y="6273720"/>
            <a:ext cx="12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0&lt; x&lt;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Box 13"/>
          <p:cNvSpPr/>
          <p:nvPr/>
        </p:nvSpPr>
        <p:spPr>
          <a:xfrm>
            <a:off x="1591920" y="5715000"/>
            <a:ext cx="146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=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或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7" dur="5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0" dur="500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500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6" dur="500"/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9" dur="500"/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2" dur="500"/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7" dur="8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8" dur="8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9" dur="8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4" dur="8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5" dur="8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6" dur="8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1" dur="8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2" dur="8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3" dur="8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2" descr="katong1_020"/>
          <p:cNvPicPr/>
          <p:nvPr/>
        </p:nvPicPr>
        <p:blipFill>
          <a:blip r:embed="rId1"/>
          <a:stretch/>
        </p:blipFill>
        <p:spPr>
          <a:xfrm>
            <a:off x="0" y="4486320"/>
            <a:ext cx="1752480" cy="2371680"/>
          </a:xfrm>
          <a:prstGeom prst="rect">
            <a:avLst/>
          </a:prstGeom>
          <a:ln w="0">
            <a:noFill/>
          </a:ln>
        </p:spPr>
      </p:pic>
      <p:grpSp>
        <p:nvGrpSpPr>
          <p:cNvPr id="587" name="Group 4"/>
          <p:cNvGrpSpPr/>
          <p:nvPr/>
        </p:nvGrpSpPr>
        <p:grpSpPr>
          <a:xfrm>
            <a:off x="1523880" y="0"/>
            <a:ext cx="8152200" cy="6018840"/>
            <a:chOff x="1523880" y="0"/>
            <a:chExt cx="8152200" cy="6018840"/>
          </a:xfrm>
        </p:grpSpPr>
        <p:pic>
          <p:nvPicPr>
            <p:cNvPr id="588" name="Picture 5" descr="gif1450"/>
            <p:cNvPicPr/>
            <p:nvPr/>
          </p:nvPicPr>
          <p:blipFill>
            <a:blip r:embed="rId2"/>
            <a:stretch/>
          </p:blipFill>
          <p:spPr>
            <a:xfrm>
              <a:off x="5984280" y="0"/>
              <a:ext cx="3691800" cy="6018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9" name="Group 6"/>
            <p:cNvGrpSpPr/>
            <p:nvPr/>
          </p:nvGrpSpPr>
          <p:grpSpPr>
            <a:xfrm>
              <a:off x="1523880" y="166320"/>
              <a:ext cx="5164560" cy="4635000"/>
              <a:chOff x="1523880" y="166320"/>
              <a:chExt cx="5164560" cy="4635000"/>
            </a:xfrm>
          </p:grpSpPr>
          <p:sp>
            <p:nvSpPr>
              <p:cNvPr id="590" name="AutoShape 7"/>
              <p:cNvSpPr/>
              <p:nvPr/>
            </p:nvSpPr>
            <p:spPr>
              <a:xfrm>
                <a:off x="1523880" y="261720"/>
                <a:ext cx="5047200" cy="45396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Text Box 8"/>
              <p:cNvSpPr/>
              <p:nvPr/>
            </p:nvSpPr>
            <p:spPr>
              <a:xfrm>
                <a:off x="1581840" y="166320"/>
                <a:ext cx="5106600" cy="225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Text Box 9"/>
            <p:cNvSpPr/>
            <p:nvPr/>
          </p:nvSpPr>
          <p:spPr>
            <a:xfrm>
              <a:off x="2207880" y="1752840"/>
              <a:ext cx="46958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下课了</a:t>
              </a:r>
              <a:r>
                <a:rPr b="1" lang="en-US" sz="96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!</a:t>
              </a:r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2"/>
          <p:cNvGrpSpPr/>
          <p:nvPr/>
        </p:nvGrpSpPr>
        <p:grpSpPr>
          <a:xfrm>
            <a:off x="914400" y="1550880"/>
            <a:ext cx="7584120" cy="5307120"/>
            <a:chOff x="914400" y="1550880"/>
            <a:chExt cx="7584120" cy="5307120"/>
          </a:xfrm>
        </p:grpSpPr>
        <p:grpSp>
          <p:nvGrpSpPr>
            <p:cNvPr id="152" name="Group 3"/>
            <p:cNvGrpSpPr/>
            <p:nvPr/>
          </p:nvGrpSpPr>
          <p:grpSpPr>
            <a:xfrm>
              <a:off x="914400" y="1550880"/>
              <a:ext cx="7238520" cy="5307120"/>
              <a:chOff x="914400" y="1550880"/>
              <a:chExt cx="7238520" cy="5307120"/>
            </a:xfrm>
          </p:grpSpPr>
          <p:pic>
            <p:nvPicPr>
              <p:cNvPr id="153" name="Picture 4" descr=""/>
              <p:cNvPicPr/>
              <p:nvPr/>
            </p:nvPicPr>
            <p:blipFill>
              <a:blip r:embed="rId1"/>
              <a:srcRect l="20548" t="0" r="0" b="0"/>
              <a:stretch/>
            </p:blipFill>
            <p:spPr>
              <a:xfrm>
                <a:off x="914400" y="1550880"/>
                <a:ext cx="3498480" cy="312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" name="Picture 5" descr=""/>
              <p:cNvPicPr/>
              <p:nvPr/>
            </p:nvPicPr>
            <p:blipFill>
              <a:blip r:embed="rId2"/>
              <a:srcRect l="0" t="0" r="12330" b="0"/>
              <a:stretch/>
            </p:blipFill>
            <p:spPr>
              <a:xfrm>
                <a:off x="4292280" y="1550880"/>
                <a:ext cx="3860640" cy="312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" name="Picture 6" descr=""/>
              <p:cNvPicPr/>
              <p:nvPr/>
            </p:nvPicPr>
            <p:blipFill>
              <a:blip r:embed="rId3"/>
              <a:srcRect l="20548" t="0" r="0" b="25509"/>
              <a:stretch/>
            </p:blipFill>
            <p:spPr>
              <a:xfrm>
                <a:off x="914400" y="4532760"/>
                <a:ext cx="3498480" cy="232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Picture 7" descr=""/>
              <p:cNvPicPr/>
              <p:nvPr/>
            </p:nvPicPr>
            <p:blipFill>
              <a:blip r:embed="rId4"/>
              <a:srcRect l="0" t="0" r="12330" b="25509"/>
              <a:stretch/>
            </p:blipFill>
            <p:spPr>
              <a:xfrm>
                <a:off x="4292280" y="4532760"/>
                <a:ext cx="3860640" cy="23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Line 8"/>
              <p:cNvSpPr/>
              <p:nvPr/>
            </p:nvSpPr>
            <p:spPr>
              <a:xfrm>
                <a:off x="914400" y="4575600"/>
                <a:ext cx="7238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9"/>
              <p:cNvSpPr/>
              <p:nvPr/>
            </p:nvSpPr>
            <p:spPr>
              <a:xfrm flipV="1">
                <a:off x="4352400" y="1656360"/>
                <a:ext cx="0" cy="4776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Text Box 10"/>
            <p:cNvSpPr/>
            <p:nvPr/>
          </p:nvSpPr>
          <p:spPr>
            <a:xfrm>
              <a:off x="3942360" y="45226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11"/>
            <p:cNvSpPr/>
            <p:nvPr/>
          </p:nvSpPr>
          <p:spPr>
            <a:xfrm>
              <a:off x="8113680" y="42674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12"/>
            <p:cNvSpPr/>
            <p:nvPr/>
          </p:nvSpPr>
          <p:spPr>
            <a:xfrm>
              <a:off x="4436640" y="15508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13"/>
            <p:cNvSpPr/>
            <p:nvPr/>
          </p:nvSpPr>
          <p:spPr>
            <a:xfrm>
              <a:off x="4602240" y="4546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14"/>
            <p:cNvSpPr/>
            <p:nvPr/>
          </p:nvSpPr>
          <p:spPr>
            <a:xfrm>
              <a:off x="5014800" y="4546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15"/>
            <p:cNvSpPr/>
            <p:nvPr/>
          </p:nvSpPr>
          <p:spPr>
            <a:xfrm>
              <a:off x="5436720" y="4546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16"/>
            <p:cNvSpPr/>
            <p:nvPr/>
          </p:nvSpPr>
          <p:spPr>
            <a:xfrm>
              <a:off x="5859000" y="4546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17"/>
            <p:cNvSpPr/>
            <p:nvPr/>
          </p:nvSpPr>
          <p:spPr>
            <a:xfrm>
              <a:off x="6281640" y="4546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18"/>
            <p:cNvSpPr/>
            <p:nvPr/>
          </p:nvSpPr>
          <p:spPr>
            <a:xfrm>
              <a:off x="3999240" y="40471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19"/>
            <p:cNvSpPr/>
            <p:nvPr/>
          </p:nvSpPr>
          <p:spPr>
            <a:xfrm>
              <a:off x="4011840" y="36439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20"/>
            <p:cNvSpPr/>
            <p:nvPr/>
          </p:nvSpPr>
          <p:spPr>
            <a:xfrm>
              <a:off x="4011840" y="32724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21"/>
            <p:cNvSpPr/>
            <p:nvPr/>
          </p:nvSpPr>
          <p:spPr>
            <a:xfrm>
              <a:off x="4011840" y="29005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22"/>
            <p:cNvSpPr/>
            <p:nvPr/>
          </p:nvSpPr>
          <p:spPr>
            <a:xfrm>
              <a:off x="4011840" y="2529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23"/>
            <p:cNvSpPr/>
            <p:nvPr/>
          </p:nvSpPr>
          <p:spPr>
            <a:xfrm>
              <a:off x="1939680" y="454356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5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24"/>
            <p:cNvSpPr/>
            <p:nvPr/>
          </p:nvSpPr>
          <p:spPr>
            <a:xfrm>
              <a:off x="2378160" y="454356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4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25"/>
            <p:cNvSpPr/>
            <p:nvPr/>
          </p:nvSpPr>
          <p:spPr>
            <a:xfrm>
              <a:off x="2800440" y="454356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3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26"/>
            <p:cNvSpPr/>
            <p:nvPr/>
          </p:nvSpPr>
          <p:spPr>
            <a:xfrm>
              <a:off x="3222720" y="454356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2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27"/>
            <p:cNvSpPr/>
            <p:nvPr/>
          </p:nvSpPr>
          <p:spPr>
            <a:xfrm>
              <a:off x="3645000" y="454356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1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Text Box 28"/>
            <p:cNvSpPr/>
            <p:nvPr/>
          </p:nvSpPr>
          <p:spPr>
            <a:xfrm>
              <a:off x="3886200" y="624204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5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29"/>
            <p:cNvSpPr/>
            <p:nvPr/>
          </p:nvSpPr>
          <p:spPr>
            <a:xfrm>
              <a:off x="3886200" y="587052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4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30"/>
            <p:cNvSpPr/>
            <p:nvPr/>
          </p:nvSpPr>
          <p:spPr>
            <a:xfrm>
              <a:off x="3886200" y="549900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3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31"/>
            <p:cNvSpPr/>
            <p:nvPr/>
          </p:nvSpPr>
          <p:spPr>
            <a:xfrm>
              <a:off x="3886200" y="512748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2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32"/>
            <p:cNvSpPr/>
            <p:nvPr/>
          </p:nvSpPr>
          <p:spPr>
            <a:xfrm>
              <a:off x="3886200" y="475596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1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Freeform 35"/>
          <p:cNvSpPr/>
          <p:nvPr/>
        </p:nvSpPr>
        <p:spPr>
          <a:xfrm flipV="1">
            <a:off x="2209680" y="4571280"/>
            <a:ext cx="4319640" cy="2849400"/>
          </a:xfrm>
          <a:custGeom>
            <a:avLst/>
            <a:gdLst/>
            <a:ahLst/>
            <a:rect l="l" t="t" r="r" b="b"/>
            <a:pathLst>
              <a:path w="1837" h="2922">
                <a:moveTo>
                  <a:pt x="0" y="18"/>
                </a:moveTo>
                <a:lnTo>
                  <a:pt x="6" y="60"/>
                </a:lnTo>
                <a:lnTo>
                  <a:pt x="12" y="102"/>
                </a:lnTo>
                <a:lnTo>
                  <a:pt x="24" y="144"/>
                </a:lnTo>
                <a:lnTo>
                  <a:pt x="30" y="186"/>
                </a:lnTo>
                <a:lnTo>
                  <a:pt x="36" y="228"/>
                </a:lnTo>
                <a:lnTo>
                  <a:pt x="42" y="270"/>
                </a:lnTo>
                <a:lnTo>
                  <a:pt x="48" y="312"/>
                </a:lnTo>
                <a:lnTo>
                  <a:pt x="54" y="354"/>
                </a:lnTo>
                <a:lnTo>
                  <a:pt x="60" y="396"/>
                </a:lnTo>
                <a:lnTo>
                  <a:pt x="72" y="432"/>
                </a:lnTo>
                <a:lnTo>
                  <a:pt x="78" y="474"/>
                </a:lnTo>
                <a:lnTo>
                  <a:pt x="84" y="516"/>
                </a:lnTo>
                <a:lnTo>
                  <a:pt x="90" y="552"/>
                </a:lnTo>
                <a:lnTo>
                  <a:pt x="96" y="594"/>
                </a:lnTo>
                <a:lnTo>
                  <a:pt x="102" y="630"/>
                </a:lnTo>
                <a:lnTo>
                  <a:pt x="108" y="672"/>
                </a:lnTo>
                <a:lnTo>
                  <a:pt x="120" y="708"/>
                </a:lnTo>
                <a:lnTo>
                  <a:pt x="126" y="744"/>
                </a:lnTo>
                <a:lnTo>
                  <a:pt x="132" y="780"/>
                </a:lnTo>
                <a:lnTo>
                  <a:pt x="138" y="822"/>
                </a:lnTo>
                <a:lnTo>
                  <a:pt x="144" y="858"/>
                </a:lnTo>
                <a:lnTo>
                  <a:pt x="150" y="894"/>
                </a:lnTo>
                <a:lnTo>
                  <a:pt x="156" y="930"/>
                </a:lnTo>
                <a:lnTo>
                  <a:pt x="168" y="966"/>
                </a:lnTo>
                <a:lnTo>
                  <a:pt x="174" y="1002"/>
                </a:lnTo>
                <a:lnTo>
                  <a:pt x="180" y="1038"/>
                </a:lnTo>
                <a:lnTo>
                  <a:pt x="186" y="1068"/>
                </a:lnTo>
                <a:lnTo>
                  <a:pt x="192" y="1104"/>
                </a:lnTo>
                <a:lnTo>
                  <a:pt x="198" y="1140"/>
                </a:lnTo>
                <a:lnTo>
                  <a:pt x="204" y="1170"/>
                </a:lnTo>
                <a:lnTo>
                  <a:pt x="216" y="1206"/>
                </a:lnTo>
                <a:lnTo>
                  <a:pt x="222" y="1242"/>
                </a:lnTo>
                <a:lnTo>
                  <a:pt x="228" y="1272"/>
                </a:lnTo>
                <a:lnTo>
                  <a:pt x="234" y="1302"/>
                </a:lnTo>
                <a:lnTo>
                  <a:pt x="240" y="1338"/>
                </a:lnTo>
                <a:lnTo>
                  <a:pt x="246" y="1368"/>
                </a:lnTo>
                <a:lnTo>
                  <a:pt x="252" y="1398"/>
                </a:lnTo>
                <a:lnTo>
                  <a:pt x="264" y="1434"/>
                </a:lnTo>
                <a:lnTo>
                  <a:pt x="270" y="1464"/>
                </a:lnTo>
                <a:lnTo>
                  <a:pt x="276" y="1494"/>
                </a:lnTo>
                <a:lnTo>
                  <a:pt x="282" y="1524"/>
                </a:lnTo>
                <a:lnTo>
                  <a:pt x="288" y="1554"/>
                </a:lnTo>
                <a:lnTo>
                  <a:pt x="294" y="1584"/>
                </a:lnTo>
                <a:lnTo>
                  <a:pt x="300" y="1614"/>
                </a:lnTo>
                <a:lnTo>
                  <a:pt x="312" y="1644"/>
                </a:lnTo>
                <a:lnTo>
                  <a:pt x="318" y="1668"/>
                </a:lnTo>
                <a:lnTo>
                  <a:pt x="324" y="1698"/>
                </a:lnTo>
                <a:lnTo>
                  <a:pt x="330" y="1728"/>
                </a:lnTo>
                <a:lnTo>
                  <a:pt x="336" y="1752"/>
                </a:lnTo>
                <a:lnTo>
                  <a:pt x="342" y="1782"/>
                </a:lnTo>
                <a:lnTo>
                  <a:pt x="348" y="1806"/>
                </a:lnTo>
                <a:lnTo>
                  <a:pt x="360" y="1836"/>
                </a:lnTo>
                <a:lnTo>
                  <a:pt x="366" y="1860"/>
                </a:lnTo>
                <a:lnTo>
                  <a:pt x="372" y="1890"/>
                </a:lnTo>
                <a:lnTo>
                  <a:pt x="378" y="1914"/>
                </a:lnTo>
                <a:lnTo>
                  <a:pt x="384" y="1938"/>
                </a:lnTo>
                <a:lnTo>
                  <a:pt x="390" y="1962"/>
                </a:lnTo>
                <a:lnTo>
                  <a:pt x="396" y="1986"/>
                </a:lnTo>
                <a:lnTo>
                  <a:pt x="408" y="2010"/>
                </a:lnTo>
                <a:lnTo>
                  <a:pt x="414" y="2040"/>
                </a:lnTo>
                <a:lnTo>
                  <a:pt x="420" y="2058"/>
                </a:lnTo>
                <a:lnTo>
                  <a:pt x="426" y="2082"/>
                </a:lnTo>
                <a:lnTo>
                  <a:pt x="432" y="2106"/>
                </a:lnTo>
                <a:lnTo>
                  <a:pt x="438" y="2130"/>
                </a:lnTo>
                <a:lnTo>
                  <a:pt x="444" y="2154"/>
                </a:lnTo>
                <a:lnTo>
                  <a:pt x="456" y="2172"/>
                </a:lnTo>
                <a:lnTo>
                  <a:pt x="462" y="2196"/>
                </a:lnTo>
                <a:lnTo>
                  <a:pt x="468" y="2220"/>
                </a:lnTo>
                <a:lnTo>
                  <a:pt x="474" y="2238"/>
                </a:lnTo>
                <a:lnTo>
                  <a:pt x="480" y="2262"/>
                </a:lnTo>
                <a:lnTo>
                  <a:pt x="486" y="2280"/>
                </a:lnTo>
                <a:lnTo>
                  <a:pt x="492" y="2304"/>
                </a:lnTo>
                <a:lnTo>
                  <a:pt x="504" y="2322"/>
                </a:lnTo>
                <a:lnTo>
                  <a:pt x="510" y="2340"/>
                </a:lnTo>
                <a:lnTo>
                  <a:pt x="516" y="2358"/>
                </a:lnTo>
                <a:lnTo>
                  <a:pt x="522" y="2376"/>
                </a:lnTo>
                <a:lnTo>
                  <a:pt x="528" y="2400"/>
                </a:lnTo>
                <a:lnTo>
                  <a:pt x="534" y="2418"/>
                </a:lnTo>
                <a:lnTo>
                  <a:pt x="540" y="2436"/>
                </a:lnTo>
                <a:lnTo>
                  <a:pt x="552" y="2454"/>
                </a:lnTo>
                <a:lnTo>
                  <a:pt x="558" y="2466"/>
                </a:lnTo>
                <a:lnTo>
                  <a:pt x="564" y="2484"/>
                </a:lnTo>
                <a:lnTo>
                  <a:pt x="570" y="2502"/>
                </a:lnTo>
                <a:lnTo>
                  <a:pt x="576" y="2520"/>
                </a:lnTo>
                <a:lnTo>
                  <a:pt x="582" y="2532"/>
                </a:lnTo>
                <a:lnTo>
                  <a:pt x="588" y="2550"/>
                </a:lnTo>
                <a:lnTo>
                  <a:pt x="600" y="2568"/>
                </a:lnTo>
                <a:lnTo>
                  <a:pt x="606" y="2580"/>
                </a:lnTo>
                <a:lnTo>
                  <a:pt x="612" y="2592"/>
                </a:lnTo>
                <a:lnTo>
                  <a:pt x="618" y="2610"/>
                </a:lnTo>
                <a:lnTo>
                  <a:pt x="624" y="2622"/>
                </a:lnTo>
                <a:lnTo>
                  <a:pt x="630" y="2640"/>
                </a:lnTo>
                <a:lnTo>
                  <a:pt x="636" y="2652"/>
                </a:lnTo>
                <a:lnTo>
                  <a:pt x="648" y="2664"/>
                </a:lnTo>
                <a:lnTo>
                  <a:pt x="654" y="2676"/>
                </a:lnTo>
                <a:lnTo>
                  <a:pt x="660" y="2688"/>
                </a:lnTo>
                <a:lnTo>
                  <a:pt x="666" y="2700"/>
                </a:lnTo>
                <a:lnTo>
                  <a:pt x="672" y="2712"/>
                </a:lnTo>
                <a:lnTo>
                  <a:pt x="678" y="2724"/>
                </a:lnTo>
                <a:lnTo>
                  <a:pt x="684" y="2736"/>
                </a:lnTo>
                <a:lnTo>
                  <a:pt x="696" y="2748"/>
                </a:lnTo>
                <a:lnTo>
                  <a:pt x="702" y="2754"/>
                </a:lnTo>
                <a:lnTo>
                  <a:pt x="708" y="2766"/>
                </a:lnTo>
                <a:lnTo>
                  <a:pt x="714" y="2778"/>
                </a:lnTo>
                <a:lnTo>
                  <a:pt x="720" y="2784"/>
                </a:lnTo>
                <a:lnTo>
                  <a:pt x="726" y="2796"/>
                </a:lnTo>
                <a:lnTo>
                  <a:pt x="732" y="2802"/>
                </a:lnTo>
                <a:lnTo>
                  <a:pt x="744" y="2814"/>
                </a:lnTo>
                <a:lnTo>
                  <a:pt x="750" y="2820"/>
                </a:lnTo>
                <a:lnTo>
                  <a:pt x="756" y="2826"/>
                </a:lnTo>
                <a:lnTo>
                  <a:pt x="762" y="2838"/>
                </a:lnTo>
                <a:lnTo>
                  <a:pt x="768" y="2844"/>
                </a:lnTo>
                <a:lnTo>
                  <a:pt x="774" y="2850"/>
                </a:lnTo>
                <a:lnTo>
                  <a:pt x="780" y="2856"/>
                </a:lnTo>
                <a:lnTo>
                  <a:pt x="792" y="2862"/>
                </a:lnTo>
                <a:lnTo>
                  <a:pt x="798" y="2868"/>
                </a:lnTo>
                <a:lnTo>
                  <a:pt x="804" y="2874"/>
                </a:lnTo>
                <a:lnTo>
                  <a:pt x="810" y="2880"/>
                </a:lnTo>
                <a:lnTo>
                  <a:pt x="816" y="2886"/>
                </a:lnTo>
                <a:lnTo>
                  <a:pt x="822" y="2892"/>
                </a:lnTo>
                <a:lnTo>
                  <a:pt x="828" y="2892"/>
                </a:lnTo>
                <a:lnTo>
                  <a:pt x="834" y="2898"/>
                </a:lnTo>
                <a:lnTo>
                  <a:pt x="846" y="2904"/>
                </a:lnTo>
                <a:lnTo>
                  <a:pt x="852" y="2904"/>
                </a:lnTo>
                <a:lnTo>
                  <a:pt x="858" y="2910"/>
                </a:lnTo>
                <a:lnTo>
                  <a:pt x="864" y="2910"/>
                </a:lnTo>
                <a:lnTo>
                  <a:pt x="870" y="2916"/>
                </a:lnTo>
                <a:lnTo>
                  <a:pt x="876" y="2916"/>
                </a:lnTo>
                <a:lnTo>
                  <a:pt x="882" y="2916"/>
                </a:lnTo>
                <a:lnTo>
                  <a:pt x="894" y="2916"/>
                </a:lnTo>
                <a:lnTo>
                  <a:pt x="900" y="2922"/>
                </a:lnTo>
                <a:lnTo>
                  <a:pt x="906" y="2922"/>
                </a:lnTo>
                <a:lnTo>
                  <a:pt x="912" y="2922"/>
                </a:lnTo>
                <a:lnTo>
                  <a:pt x="918" y="2922"/>
                </a:lnTo>
                <a:lnTo>
                  <a:pt x="925" y="2922"/>
                </a:lnTo>
                <a:lnTo>
                  <a:pt x="931" y="2922"/>
                </a:lnTo>
                <a:lnTo>
                  <a:pt x="943" y="2922"/>
                </a:lnTo>
                <a:lnTo>
                  <a:pt x="949" y="2916"/>
                </a:lnTo>
                <a:lnTo>
                  <a:pt x="955" y="2916"/>
                </a:lnTo>
                <a:lnTo>
                  <a:pt x="961" y="2916"/>
                </a:lnTo>
                <a:lnTo>
                  <a:pt x="967" y="2910"/>
                </a:lnTo>
                <a:lnTo>
                  <a:pt x="973" y="2910"/>
                </a:lnTo>
                <a:lnTo>
                  <a:pt x="979" y="2910"/>
                </a:lnTo>
                <a:lnTo>
                  <a:pt x="991" y="2904"/>
                </a:lnTo>
                <a:lnTo>
                  <a:pt x="997" y="2898"/>
                </a:lnTo>
                <a:lnTo>
                  <a:pt x="1003" y="2898"/>
                </a:lnTo>
                <a:lnTo>
                  <a:pt x="1009" y="2892"/>
                </a:lnTo>
                <a:lnTo>
                  <a:pt x="1015" y="2886"/>
                </a:lnTo>
                <a:lnTo>
                  <a:pt x="1021" y="2886"/>
                </a:lnTo>
                <a:lnTo>
                  <a:pt x="1027" y="2880"/>
                </a:lnTo>
                <a:lnTo>
                  <a:pt x="1039" y="2874"/>
                </a:lnTo>
                <a:lnTo>
                  <a:pt x="1045" y="2868"/>
                </a:lnTo>
                <a:lnTo>
                  <a:pt x="1051" y="2862"/>
                </a:lnTo>
                <a:lnTo>
                  <a:pt x="1057" y="2856"/>
                </a:lnTo>
                <a:lnTo>
                  <a:pt x="1063" y="2850"/>
                </a:lnTo>
                <a:lnTo>
                  <a:pt x="1069" y="2844"/>
                </a:lnTo>
                <a:lnTo>
                  <a:pt x="1075" y="2832"/>
                </a:lnTo>
                <a:lnTo>
                  <a:pt x="1087" y="2826"/>
                </a:lnTo>
                <a:lnTo>
                  <a:pt x="1093" y="2820"/>
                </a:lnTo>
                <a:lnTo>
                  <a:pt x="1099" y="2808"/>
                </a:lnTo>
                <a:lnTo>
                  <a:pt x="1105" y="2802"/>
                </a:lnTo>
                <a:lnTo>
                  <a:pt x="1111" y="2790"/>
                </a:lnTo>
                <a:lnTo>
                  <a:pt x="1117" y="2784"/>
                </a:lnTo>
                <a:lnTo>
                  <a:pt x="1123" y="2772"/>
                </a:lnTo>
                <a:lnTo>
                  <a:pt x="1135" y="2766"/>
                </a:lnTo>
                <a:lnTo>
                  <a:pt x="1141" y="2754"/>
                </a:lnTo>
                <a:lnTo>
                  <a:pt x="1147" y="2742"/>
                </a:lnTo>
                <a:lnTo>
                  <a:pt x="1153" y="2730"/>
                </a:lnTo>
                <a:lnTo>
                  <a:pt x="1159" y="2718"/>
                </a:lnTo>
                <a:lnTo>
                  <a:pt x="1165" y="2706"/>
                </a:lnTo>
                <a:lnTo>
                  <a:pt x="1171" y="2694"/>
                </a:lnTo>
                <a:lnTo>
                  <a:pt x="1183" y="2682"/>
                </a:lnTo>
                <a:lnTo>
                  <a:pt x="1189" y="2670"/>
                </a:lnTo>
                <a:lnTo>
                  <a:pt x="1195" y="2658"/>
                </a:lnTo>
                <a:lnTo>
                  <a:pt x="1201" y="2646"/>
                </a:lnTo>
                <a:lnTo>
                  <a:pt x="1207" y="2634"/>
                </a:lnTo>
                <a:lnTo>
                  <a:pt x="1213" y="2616"/>
                </a:lnTo>
                <a:lnTo>
                  <a:pt x="1219" y="2604"/>
                </a:lnTo>
                <a:lnTo>
                  <a:pt x="1231" y="2592"/>
                </a:lnTo>
                <a:lnTo>
                  <a:pt x="1237" y="2574"/>
                </a:lnTo>
                <a:lnTo>
                  <a:pt x="1243" y="2562"/>
                </a:lnTo>
                <a:lnTo>
                  <a:pt x="1249" y="2544"/>
                </a:lnTo>
                <a:lnTo>
                  <a:pt x="1255" y="2526"/>
                </a:lnTo>
                <a:lnTo>
                  <a:pt x="1261" y="2514"/>
                </a:lnTo>
                <a:lnTo>
                  <a:pt x="1267" y="2496"/>
                </a:lnTo>
                <a:lnTo>
                  <a:pt x="1279" y="2478"/>
                </a:lnTo>
                <a:lnTo>
                  <a:pt x="1285" y="2460"/>
                </a:lnTo>
                <a:lnTo>
                  <a:pt x="1291" y="2442"/>
                </a:lnTo>
                <a:lnTo>
                  <a:pt x="1297" y="2430"/>
                </a:lnTo>
                <a:lnTo>
                  <a:pt x="1303" y="2412"/>
                </a:lnTo>
                <a:lnTo>
                  <a:pt x="1309" y="2388"/>
                </a:lnTo>
                <a:lnTo>
                  <a:pt x="1315" y="2370"/>
                </a:lnTo>
                <a:lnTo>
                  <a:pt x="1327" y="2352"/>
                </a:lnTo>
                <a:lnTo>
                  <a:pt x="1333" y="2334"/>
                </a:lnTo>
                <a:lnTo>
                  <a:pt x="1339" y="2316"/>
                </a:lnTo>
                <a:lnTo>
                  <a:pt x="1345" y="2292"/>
                </a:lnTo>
                <a:lnTo>
                  <a:pt x="1351" y="2274"/>
                </a:lnTo>
                <a:lnTo>
                  <a:pt x="1357" y="2250"/>
                </a:lnTo>
                <a:lnTo>
                  <a:pt x="1363" y="2232"/>
                </a:lnTo>
                <a:lnTo>
                  <a:pt x="1375" y="2208"/>
                </a:lnTo>
                <a:lnTo>
                  <a:pt x="1381" y="2190"/>
                </a:lnTo>
                <a:lnTo>
                  <a:pt x="1387" y="2166"/>
                </a:lnTo>
                <a:lnTo>
                  <a:pt x="1393" y="2142"/>
                </a:lnTo>
                <a:lnTo>
                  <a:pt x="1399" y="2124"/>
                </a:lnTo>
                <a:lnTo>
                  <a:pt x="1405" y="2100"/>
                </a:lnTo>
                <a:lnTo>
                  <a:pt x="1411" y="2076"/>
                </a:lnTo>
                <a:lnTo>
                  <a:pt x="1423" y="2052"/>
                </a:lnTo>
                <a:lnTo>
                  <a:pt x="1429" y="2028"/>
                </a:lnTo>
                <a:lnTo>
                  <a:pt x="1435" y="2004"/>
                </a:lnTo>
                <a:lnTo>
                  <a:pt x="1441" y="1980"/>
                </a:lnTo>
                <a:lnTo>
                  <a:pt x="1447" y="1956"/>
                </a:lnTo>
                <a:lnTo>
                  <a:pt x="1453" y="1932"/>
                </a:lnTo>
                <a:lnTo>
                  <a:pt x="1459" y="1902"/>
                </a:lnTo>
                <a:lnTo>
                  <a:pt x="1471" y="1878"/>
                </a:lnTo>
                <a:lnTo>
                  <a:pt x="1477" y="1854"/>
                </a:lnTo>
                <a:lnTo>
                  <a:pt x="1483" y="1824"/>
                </a:lnTo>
                <a:lnTo>
                  <a:pt x="1489" y="1800"/>
                </a:lnTo>
                <a:lnTo>
                  <a:pt x="1495" y="1770"/>
                </a:lnTo>
                <a:lnTo>
                  <a:pt x="1501" y="1746"/>
                </a:lnTo>
                <a:lnTo>
                  <a:pt x="1507" y="1716"/>
                </a:lnTo>
                <a:lnTo>
                  <a:pt x="1519" y="1686"/>
                </a:lnTo>
                <a:lnTo>
                  <a:pt x="1525" y="1662"/>
                </a:lnTo>
                <a:lnTo>
                  <a:pt x="1531" y="1632"/>
                </a:lnTo>
                <a:lnTo>
                  <a:pt x="1537" y="1602"/>
                </a:lnTo>
                <a:lnTo>
                  <a:pt x="1543" y="1572"/>
                </a:lnTo>
                <a:lnTo>
                  <a:pt x="1549" y="1542"/>
                </a:lnTo>
                <a:lnTo>
                  <a:pt x="1555" y="1512"/>
                </a:lnTo>
                <a:lnTo>
                  <a:pt x="1567" y="1482"/>
                </a:lnTo>
                <a:lnTo>
                  <a:pt x="1573" y="1452"/>
                </a:lnTo>
                <a:lnTo>
                  <a:pt x="1579" y="1422"/>
                </a:lnTo>
                <a:lnTo>
                  <a:pt x="1585" y="1392"/>
                </a:lnTo>
                <a:lnTo>
                  <a:pt x="1591" y="1356"/>
                </a:lnTo>
                <a:lnTo>
                  <a:pt x="1597" y="1326"/>
                </a:lnTo>
                <a:lnTo>
                  <a:pt x="1603" y="1296"/>
                </a:lnTo>
                <a:lnTo>
                  <a:pt x="1615" y="1260"/>
                </a:lnTo>
                <a:lnTo>
                  <a:pt x="1621" y="1230"/>
                </a:lnTo>
                <a:lnTo>
                  <a:pt x="1627" y="1194"/>
                </a:lnTo>
                <a:lnTo>
                  <a:pt x="1633" y="1158"/>
                </a:lnTo>
                <a:lnTo>
                  <a:pt x="1639" y="1128"/>
                </a:lnTo>
                <a:lnTo>
                  <a:pt x="1645" y="1092"/>
                </a:lnTo>
                <a:lnTo>
                  <a:pt x="1651" y="1056"/>
                </a:lnTo>
                <a:lnTo>
                  <a:pt x="1663" y="1026"/>
                </a:lnTo>
                <a:lnTo>
                  <a:pt x="1669" y="990"/>
                </a:lnTo>
                <a:lnTo>
                  <a:pt x="1675" y="954"/>
                </a:lnTo>
                <a:lnTo>
                  <a:pt x="1681" y="918"/>
                </a:lnTo>
                <a:lnTo>
                  <a:pt x="1687" y="882"/>
                </a:lnTo>
                <a:lnTo>
                  <a:pt x="1693" y="846"/>
                </a:lnTo>
                <a:lnTo>
                  <a:pt x="1699" y="804"/>
                </a:lnTo>
                <a:lnTo>
                  <a:pt x="1711" y="768"/>
                </a:lnTo>
                <a:lnTo>
                  <a:pt x="1717" y="732"/>
                </a:lnTo>
                <a:lnTo>
                  <a:pt x="1723" y="696"/>
                </a:lnTo>
                <a:lnTo>
                  <a:pt x="1729" y="654"/>
                </a:lnTo>
                <a:lnTo>
                  <a:pt x="1735" y="618"/>
                </a:lnTo>
                <a:lnTo>
                  <a:pt x="1741" y="576"/>
                </a:lnTo>
                <a:lnTo>
                  <a:pt x="1747" y="540"/>
                </a:lnTo>
                <a:lnTo>
                  <a:pt x="1759" y="498"/>
                </a:lnTo>
                <a:lnTo>
                  <a:pt x="1765" y="462"/>
                </a:lnTo>
                <a:lnTo>
                  <a:pt x="1771" y="420"/>
                </a:lnTo>
                <a:lnTo>
                  <a:pt x="1777" y="378"/>
                </a:lnTo>
                <a:lnTo>
                  <a:pt x="1783" y="342"/>
                </a:lnTo>
                <a:lnTo>
                  <a:pt x="1789" y="300"/>
                </a:lnTo>
                <a:lnTo>
                  <a:pt x="1795" y="258"/>
                </a:lnTo>
                <a:lnTo>
                  <a:pt x="1807" y="216"/>
                </a:lnTo>
                <a:lnTo>
                  <a:pt x="1813" y="174"/>
                </a:lnTo>
                <a:lnTo>
                  <a:pt x="1819" y="132"/>
                </a:lnTo>
                <a:lnTo>
                  <a:pt x="1825" y="90"/>
                </a:lnTo>
                <a:lnTo>
                  <a:pt x="1831" y="42"/>
                </a:lnTo>
                <a:lnTo>
                  <a:pt x="1837" y="0"/>
                </a:lnTo>
              </a:path>
            </a:pathLst>
          </a:cu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Object 36" descr=""/>
          <p:cNvPicPr/>
          <p:nvPr/>
        </p:nvPicPr>
        <p:blipFill>
          <a:blip r:embed="rId5"/>
          <a:stretch/>
        </p:blipFill>
        <p:spPr>
          <a:xfrm>
            <a:off x="6400800" y="5470560"/>
            <a:ext cx="1700280" cy="1054080"/>
          </a:xfrm>
          <a:prstGeom prst="rect">
            <a:avLst/>
          </a:prstGeom>
          <a:ln w="0">
            <a:noFill/>
          </a:ln>
        </p:spPr>
      </p:pic>
      <p:sp>
        <p:nvSpPr>
          <p:cNvPr id="184" name="Freeform 37"/>
          <p:cNvSpPr/>
          <p:nvPr/>
        </p:nvSpPr>
        <p:spPr>
          <a:xfrm flipV="1">
            <a:off x="2209680" y="4571280"/>
            <a:ext cx="4319640" cy="2849400"/>
          </a:xfrm>
          <a:custGeom>
            <a:avLst/>
            <a:gdLst/>
            <a:ahLst/>
            <a:rect l="l" t="t" r="r" b="b"/>
            <a:pathLst>
              <a:path w="1837" h="2922">
                <a:moveTo>
                  <a:pt x="0" y="18"/>
                </a:moveTo>
                <a:lnTo>
                  <a:pt x="6" y="60"/>
                </a:lnTo>
                <a:lnTo>
                  <a:pt x="12" y="102"/>
                </a:lnTo>
                <a:lnTo>
                  <a:pt x="24" y="144"/>
                </a:lnTo>
                <a:lnTo>
                  <a:pt x="30" y="186"/>
                </a:lnTo>
                <a:lnTo>
                  <a:pt x="36" y="228"/>
                </a:lnTo>
                <a:lnTo>
                  <a:pt x="42" y="270"/>
                </a:lnTo>
                <a:lnTo>
                  <a:pt x="48" y="312"/>
                </a:lnTo>
                <a:lnTo>
                  <a:pt x="54" y="354"/>
                </a:lnTo>
                <a:lnTo>
                  <a:pt x="60" y="396"/>
                </a:lnTo>
                <a:lnTo>
                  <a:pt x="72" y="432"/>
                </a:lnTo>
                <a:lnTo>
                  <a:pt x="78" y="474"/>
                </a:lnTo>
                <a:lnTo>
                  <a:pt x="84" y="516"/>
                </a:lnTo>
                <a:lnTo>
                  <a:pt x="90" y="552"/>
                </a:lnTo>
                <a:lnTo>
                  <a:pt x="96" y="594"/>
                </a:lnTo>
                <a:lnTo>
                  <a:pt x="102" y="630"/>
                </a:lnTo>
                <a:lnTo>
                  <a:pt x="108" y="672"/>
                </a:lnTo>
                <a:lnTo>
                  <a:pt x="120" y="708"/>
                </a:lnTo>
                <a:lnTo>
                  <a:pt x="126" y="744"/>
                </a:lnTo>
                <a:lnTo>
                  <a:pt x="132" y="780"/>
                </a:lnTo>
                <a:lnTo>
                  <a:pt x="138" y="822"/>
                </a:lnTo>
                <a:lnTo>
                  <a:pt x="144" y="858"/>
                </a:lnTo>
                <a:lnTo>
                  <a:pt x="150" y="894"/>
                </a:lnTo>
                <a:lnTo>
                  <a:pt x="156" y="930"/>
                </a:lnTo>
                <a:lnTo>
                  <a:pt x="168" y="966"/>
                </a:lnTo>
                <a:lnTo>
                  <a:pt x="174" y="1002"/>
                </a:lnTo>
                <a:lnTo>
                  <a:pt x="180" y="1038"/>
                </a:lnTo>
                <a:lnTo>
                  <a:pt x="186" y="1068"/>
                </a:lnTo>
                <a:lnTo>
                  <a:pt x="192" y="1104"/>
                </a:lnTo>
                <a:lnTo>
                  <a:pt x="198" y="1140"/>
                </a:lnTo>
                <a:lnTo>
                  <a:pt x="204" y="1170"/>
                </a:lnTo>
                <a:lnTo>
                  <a:pt x="216" y="1206"/>
                </a:lnTo>
                <a:lnTo>
                  <a:pt x="222" y="1242"/>
                </a:lnTo>
                <a:lnTo>
                  <a:pt x="228" y="1272"/>
                </a:lnTo>
                <a:lnTo>
                  <a:pt x="234" y="1302"/>
                </a:lnTo>
                <a:lnTo>
                  <a:pt x="240" y="1338"/>
                </a:lnTo>
                <a:lnTo>
                  <a:pt x="246" y="1368"/>
                </a:lnTo>
                <a:lnTo>
                  <a:pt x="252" y="1398"/>
                </a:lnTo>
                <a:lnTo>
                  <a:pt x="264" y="1434"/>
                </a:lnTo>
                <a:lnTo>
                  <a:pt x="270" y="1464"/>
                </a:lnTo>
                <a:lnTo>
                  <a:pt x="276" y="1494"/>
                </a:lnTo>
                <a:lnTo>
                  <a:pt x="282" y="1524"/>
                </a:lnTo>
                <a:lnTo>
                  <a:pt x="288" y="1554"/>
                </a:lnTo>
                <a:lnTo>
                  <a:pt x="294" y="1584"/>
                </a:lnTo>
                <a:lnTo>
                  <a:pt x="300" y="1614"/>
                </a:lnTo>
                <a:lnTo>
                  <a:pt x="312" y="1644"/>
                </a:lnTo>
                <a:lnTo>
                  <a:pt x="318" y="1668"/>
                </a:lnTo>
                <a:lnTo>
                  <a:pt x="324" y="1698"/>
                </a:lnTo>
                <a:lnTo>
                  <a:pt x="330" y="1728"/>
                </a:lnTo>
                <a:lnTo>
                  <a:pt x="336" y="1752"/>
                </a:lnTo>
                <a:lnTo>
                  <a:pt x="342" y="1782"/>
                </a:lnTo>
                <a:lnTo>
                  <a:pt x="348" y="1806"/>
                </a:lnTo>
                <a:lnTo>
                  <a:pt x="360" y="1836"/>
                </a:lnTo>
                <a:lnTo>
                  <a:pt x="366" y="1860"/>
                </a:lnTo>
                <a:lnTo>
                  <a:pt x="372" y="1890"/>
                </a:lnTo>
                <a:lnTo>
                  <a:pt x="378" y="1914"/>
                </a:lnTo>
                <a:lnTo>
                  <a:pt x="384" y="1938"/>
                </a:lnTo>
                <a:lnTo>
                  <a:pt x="390" y="1962"/>
                </a:lnTo>
                <a:lnTo>
                  <a:pt x="396" y="1986"/>
                </a:lnTo>
                <a:lnTo>
                  <a:pt x="408" y="2010"/>
                </a:lnTo>
                <a:lnTo>
                  <a:pt x="414" y="2040"/>
                </a:lnTo>
                <a:lnTo>
                  <a:pt x="420" y="2058"/>
                </a:lnTo>
                <a:lnTo>
                  <a:pt x="426" y="2082"/>
                </a:lnTo>
                <a:lnTo>
                  <a:pt x="432" y="2106"/>
                </a:lnTo>
                <a:lnTo>
                  <a:pt x="438" y="2130"/>
                </a:lnTo>
                <a:lnTo>
                  <a:pt x="444" y="2154"/>
                </a:lnTo>
                <a:lnTo>
                  <a:pt x="456" y="2172"/>
                </a:lnTo>
                <a:lnTo>
                  <a:pt x="462" y="2196"/>
                </a:lnTo>
                <a:lnTo>
                  <a:pt x="468" y="2220"/>
                </a:lnTo>
                <a:lnTo>
                  <a:pt x="474" y="2238"/>
                </a:lnTo>
                <a:lnTo>
                  <a:pt x="480" y="2262"/>
                </a:lnTo>
                <a:lnTo>
                  <a:pt x="486" y="2280"/>
                </a:lnTo>
                <a:lnTo>
                  <a:pt x="492" y="2304"/>
                </a:lnTo>
                <a:lnTo>
                  <a:pt x="504" y="2322"/>
                </a:lnTo>
                <a:lnTo>
                  <a:pt x="510" y="2340"/>
                </a:lnTo>
                <a:lnTo>
                  <a:pt x="516" y="2358"/>
                </a:lnTo>
                <a:lnTo>
                  <a:pt x="522" y="2376"/>
                </a:lnTo>
                <a:lnTo>
                  <a:pt x="528" y="2400"/>
                </a:lnTo>
                <a:lnTo>
                  <a:pt x="534" y="2418"/>
                </a:lnTo>
                <a:lnTo>
                  <a:pt x="540" y="2436"/>
                </a:lnTo>
                <a:lnTo>
                  <a:pt x="552" y="2454"/>
                </a:lnTo>
                <a:lnTo>
                  <a:pt x="558" y="2466"/>
                </a:lnTo>
                <a:lnTo>
                  <a:pt x="564" y="2484"/>
                </a:lnTo>
                <a:lnTo>
                  <a:pt x="570" y="2502"/>
                </a:lnTo>
                <a:lnTo>
                  <a:pt x="576" y="2520"/>
                </a:lnTo>
                <a:lnTo>
                  <a:pt x="582" y="2532"/>
                </a:lnTo>
                <a:lnTo>
                  <a:pt x="588" y="2550"/>
                </a:lnTo>
                <a:lnTo>
                  <a:pt x="600" y="2568"/>
                </a:lnTo>
                <a:lnTo>
                  <a:pt x="606" y="2580"/>
                </a:lnTo>
                <a:lnTo>
                  <a:pt x="612" y="2592"/>
                </a:lnTo>
                <a:lnTo>
                  <a:pt x="618" y="2610"/>
                </a:lnTo>
                <a:lnTo>
                  <a:pt x="624" y="2622"/>
                </a:lnTo>
                <a:lnTo>
                  <a:pt x="630" y="2640"/>
                </a:lnTo>
                <a:lnTo>
                  <a:pt x="636" y="2652"/>
                </a:lnTo>
                <a:lnTo>
                  <a:pt x="648" y="2664"/>
                </a:lnTo>
                <a:lnTo>
                  <a:pt x="654" y="2676"/>
                </a:lnTo>
                <a:lnTo>
                  <a:pt x="660" y="2688"/>
                </a:lnTo>
                <a:lnTo>
                  <a:pt x="666" y="2700"/>
                </a:lnTo>
                <a:lnTo>
                  <a:pt x="672" y="2712"/>
                </a:lnTo>
                <a:lnTo>
                  <a:pt x="678" y="2724"/>
                </a:lnTo>
                <a:lnTo>
                  <a:pt x="684" y="2736"/>
                </a:lnTo>
                <a:lnTo>
                  <a:pt x="696" y="2748"/>
                </a:lnTo>
                <a:lnTo>
                  <a:pt x="702" y="2754"/>
                </a:lnTo>
                <a:lnTo>
                  <a:pt x="708" y="2766"/>
                </a:lnTo>
                <a:lnTo>
                  <a:pt x="714" y="2778"/>
                </a:lnTo>
                <a:lnTo>
                  <a:pt x="720" y="2784"/>
                </a:lnTo>
                <a:lnTo>
                  <a:pt x="726" y="2796"/>
                </a:lnTo>
                <a:lnTo>
                  <a:pt x="732" y="2802"/>
                </a:lnTo>
                <a:lnTo>
                  <a:pt x="744" y="2814"/>
                </a:lnTo>
                <a:lnTo>
                  <a:pt x="750" y="2820"/>
                </a:lnTo>
                <a:lnTo>
                  <a:pt x="756" y="2826"/>
                </a:lnTo>
                <a:lnTo>
                  <a:pt x="762" y="2838"/>
                </a:lnTo>
                <a:lnTo>
                  <a:pt x="768" y="2844"/>
                </a:lnTo>
                <a:lnTo>
                  <a:pt x="774" y="2850"/>
                </a:lnTo>
                <a:lnTo>
                  <a:pt x="780" y="2856"/>
                </a:lnTo>
                <a:lnTo>
                  <a:pt x="792" y="2862"/>
                </a:lnTo>
                <a:lnTo>
                  <a:pt x="798" y="2868"/>
                </a:lnTo>
                <a:lnTo>
                  <a:pt x="804" y="2874"/>
                </a:lnTo>
                <a:lnTo>
                  <a:pt x="810" y="2880"/>
                </a:lnTo>
                <a:lnTo>
                  <a:pt x="816" y="2886"/>
                </a:lnTo>
                <a:lnTo>
                  <a:pt x="822" y="2892"/>
                </a:lnTo>
                <a:lnTo>
                  <a:pt x="828" y="2892"/>
                </a:lnTo>
                <a:lnTo>
                  <a:pt x="834" y="2898"/>
                </a:lnTo>
                <a:lnTo>
                  <a:pt x="846" y="2904"/>
                </a:lnTo>
                <a:lnTo>
                  <a:pt x="852" y="2904"/>
                </a:lnTo>
                <a:lnTo>
                  <a:pt x="858" y="2910"/>
                </a:lnTo>
                <a:lnTo>
                  <a:pt x="864" y="2910"/>
                </a:lnTo>
                <a:lnTo>
                  <a:pt x="870" y="2916"/>
                </a:lnTo>
                <a:lnTo>
                  <a:pt x="876" y="2916"/>
                </a:lnTo>
                <a:lnTo>
                  <a:pt x="882" y="2916"/>
                </a:lnTo>
                <a:lnTo>
                  <a:pt x="894" y="2916"/>
                </a:lnTo>
                <a:lnTo>
                  <a:pt x="900" y="2922"/>
                </a:lnTo>
                <a:lnTo>
                  <a:pt x="906" y="2922"/>
                </a:lnTo>
                <a:lnTo>
                  <a:pt x="912" y="2922"/>
                </a:lnTo>
                <a:lnTo>
                  <a:pt x="918" y="2922"/>
                </a:lnTo>
                <a:lnTo>
                  <a:pt x="925" y="2922"/>
                </a:lnTo>
                <a:lnTo>
                  <a:pt x="931" y="2922"/>
                </a:lnTo>
                <a:lnTo>
                  <a:pt x="943" y="2922"/>
                </a:lnTo>
                <a:lnTo>
                  <a:pt x="949" y="2916"/>
                </a:lnTo>
                <a:lnTo>
                  <a:pt x="955" y="2916"/>
                </a:lnTo>
                <a:lnTo>
                  <a:pt x="961" y="2916"/>
                </a:lnTo>
                <a:lnTo>
                  <a:pt x="967" y="2910"/>
                </a:lnTo>
                <a:lnTo>
                  <a:pt x="973" y="2910"/>
                </a:lnTo>
                <a:lnTo>
                  <a:pt x="979" y="2910"/>
                </a:lnTo>
                <a:lnTo>
                  <a:pt x="991" y="2904"/>
                </a:lnTo>
                <a:lnTo>
                  <a:pt x="997" y="2898"/>
                </a:lnTo>
                <a:lnTo>
                  <a:pt x="1003" y="2898"/>
                </a:lnTo>
                <a:lnTo>
                  <a:pt x="1009" y="2892"/>
                </a:lnTo>
                <a:lnTo>
                  <a:pt x="1015" y="2886"/>
                </a:lnTo>
                <a:lnTo>
                  <a:pt x="1021" y="2886"/>
                </a:lnTo>
                <a:lnTo>
                  <a:pt x="1027" y="2880"/>
                </a:lnTo>
                <a:lnTo>
                  <a:pt x="1039" y="2874"/>
                </a:lnTo>
                <a:lnTo>
                  <a:pt x="1045" y="2868"/>
                </a:lnTo>
                <a:lnTo>
                  <a:pt x="1051" y="2862"/>
                </a:lnTo>
                <a:lnTo>
                  <a:pt x="1057" y="2856"/>
                </a:lnTo>
                <a:lnTo>
                  <a:pt x="1063" y="2850"/>
                </a:lnTo>
                <a:lnTo>
                  <a:pt x="1069" y="2844"/>
                </a:lnTo>
                <a:lnTo>
                  <a:pt x="1075" y="2832"/>
                </a:lnTo>
                <a:lnTo>
                  <a:pt x="1087" y="2826"/>
                </a:lnTo>
                <a:lnTo>
                  <a:pt x="1093" y="2820"/>
                </a:lnTo>
                <a:lnTo>
                  <a:pt x="1099" y="2808"/>
                </a:lnTo>
                <a:lnTo>
                  <a:pt x="1105" y="2802"/>
                </a:lnTo>
                <a:lnTo>
                  <a:pt x="1111" y="2790"/>
                </a:lnTo>
                <a:lnTo>
                  <a:pt x="1117" y="2784"/>
                </a:lnTo>
                <a:lnTo>
                  <a:pt x="1123" y="2772"/>
                </a:lnTo>
                <a:lnTo>
                  <a:pt x="1135" y="2766"/>
                </a:lnTo>
                <a:lnTo>
                  <a:pt x="1141" y="2754"/>
                </a:lnTo>
                <a:lnTo>
                  <a:pt x="1147" y="2742"/>
                </a:lnTo>
                <a:lnTo>
                  <a:pt x="1153" y="2730"/>
                </a:lnTo>
                <a:lnTo>
                  <a:pt x="1159" y="2718"/>
                </a:lnTo>
                <a:lnTo>
                  <a:pt x="1165" y="2706"/>
                </a:lnTo>
                <a:lnTo>
                  <a:pt x="1171" y="2694"/>
                </a:lnTo>
                <a:lnTo>
                  <a:pt x="1183" y="2682"/>
                </a:lnTo>
                <a:lnTo>
                  <a:pt x="1189" y="2670"/>
                </a:lnTo>
                <a:lnTo>
                  <a:pt x="1195" y="2658"/>
                </a:lnTo>
                <a:lnTo>
                  <a:pt x="1201" y="2646"/>
                </a:lnTo>
                <a:lnTo>
                  <a:pt x="1207" y="2634"/>
                </a:lnTo>
                <a:lnTo>
                  <a:pt x="1213" y="2616"/>
                </a:lnTo>
                <a:lnTo>
                  <a:pt x="1219" y="2604"/>
                </a:lnTo>
                <a:lnTo>
                  <a:pt x="1231" y="2592"/>
                </a:lnTo>
                <a:lnTo>
                  <a:pt x="1237" y="2574"/>
                </a:lnTo>
                <a:lnTo>
                  <a:pt x="1243" y="2562"/>
                </a:lnTo>
                <a:lnTo>
                  <a:pt x="1249" y="2544"/>
                </a:lnTo>
                <a:lnTo>
                  <a:pt x="1255" y="2526"/>
                </a:lnTo>
                <a:lnTo>
                  <a:pt x="1261" y="2514"/>
                </a:lnTo>
                <a:lnTo>
                  <a:pt x="1267" y="2496"/>
                </a:lnTo>
                <a:lnTo>
                  <a:pt x="1279" y="2478"/>
                </a:lnTo>
                <a:lnTo>
                  <a:pt x="1285" y="2460"/>
                </a:lnTo>
                <a:lnTo>
                  <a:pt x="1291" y="2442"/>
                </a:lnTo>
                <a:lnTo>
                  <a:pt x="1297" y="2430"/>
                </a:lnTo>
                <a:lnTo>
                  <a:pt x="1303" y="2412"/>
                </a:lnTo>
                <a:lnTo>
                  <a:pt x="1309" y="2388"/>
                </a:lnTo>
                <a:lnTo>
                  <a:pt x="1315" y="2370"/>
                </a:lnTo>
                <a:lnTo>
                  <a:pt x="1327" y="2352"/>
                </a:lnTo>
                <a:lnTo>
                  <a:pt x="1333" y="2334"/>
                </a:lnTo>
                <a:lnTo>
                  <a:pt x="1339" y="2316"/>
                </a:lnTo>
                <a:lnTo>
                  <a:pt x="1345" y="2292"/>
                </a:lnTo>
                <a:lnTo>
                  <a:pt x="1351" y="2274"/>
                </a:lnTo>
                <a:lnTo>
                  <a:pt x="1357" y="2250"/>
                </a:lnTo>
                <a:lnTo>
                  <a:pt x="1363" y="2232"/>
                </a:lnTo>
                <a:lnTo>
                  <a:pt x="1375" y="2208"/>
                </a:lnTo>
                <a:lnTo>
                  <a:pt x="1381" y="2190"/>
                </a:lnTo>
                <a:lnTo>
                  <a:pt x="1387" y="2166"/>
                </a:lnTo>
                <a:lnTo>
                  <a:pt x="1393" y="2142"/>
                </a:lnTo>
                <a:lnTo>
                  <a:pt x="1399" y="2124"/>
                </a:lnTo>
                <a:lnTo>
                  <a:pt x="1405" y="2100"/>
                </a:lnTo>
                <a:lnTo>
                  <a:pt x="1411" y="2076"/>
                </a:lnTo>
                <a:lnTo>
                  <a:pt x="1423" y="2052"/>
                </a:lnTo>
                <a:lnTo>
                  <a:pt x="1429" y="2028"/>
                </a:lnTo>
                <a:lnTo>
                  <a:pt x="1435" y="2004"/>
                </a:lnTo>
                <a:lnTo>
                  <a:pt x="1441" y="1980"/>
                </a:lnTo>
                <a:lnTo>
                  <a:pt x="1447" y="1956"/>
                </a:lnTo>
                <a:lnTo>
                  <a:pt x="1453" y="1932"/>
                </a:lnTo>
                <a:lnTo>
                  <a:pt x="1459" y="1902"/>
                </a:lnTo>
                <a:lnTo>
                  <a:pt x="1471" y="1878"/>
                </a:lnTo>
                <a:lnTo>
                  <a:pt x="1477" y="1854"/>
                </a:lnTo>
                <a:lnTo>
                  <a:pt x="1483" y="1824"/>
                </a:lnTo>
                <a:lnTo>
                  <a:pt x="1489" y="1800"/>
                </a:lnTo>
                <a:lnTo>
                  <a:pt x="1495" y="1770"/>
                </a:lnTo>
                <a:lnTo>
                  <a:pt x="1501" y="1746"/>
                </a:lnTo>
                <a:lnTo>
                  <a:pt x="1507" y="1716"/>
                </a:lnTo>
                <a:lnTo>
                  <a:pt x="1519" y="1686"/>
                </a:lnTo>
                <a:lnTo>
                  <a:pt x="1525" y="1662"/>
                </a:lnTo>
                <a:lnTo>
                  <a:pt x="1531" y="1632"/>
                </a:lnTo>
                <a:lnTo>
                  <a:pt x="1537" y="1602"/>
                </a:lnTo>
                <a:lnTo>
                  <a:pt x="1543" y="1572"/>
                </a:lnTo>
                <a:lnTo>
                  <a:pt x="1549" y="1542"/>
                </a:lnTo>
                <a:lnTo>
                  <a:pt x="1555" y="1512"/>
                </a:lnTo>
                <a:lnTo>
                  <a:pt x="1567" y="1482"/>
                </a:lnTo>
                <a:lnTo>
                  <a:pt x="1573" y="1452"/>
                </a:lnTo>
                <a:lnTo>
                  <a:pt x="1579" y="1422"/>
                </a:lnTo>
                <a:lnTo>
                  <a:pt x="1585" y="1392"/>
                </a:lnTo>
                <a:lnTo>
                  <a:pt x="1591" y="1356"/>
                </a:lnTo>
                <a:lnTo>
                  <a:pt x="1597" y="1326"/>
                </a:lnTo>
                <a:lnTo>
                  <a:pt x="1603" y="1296"/>
                </a:lnTo>
                <a:lnTo>
                  <a:pt x="1615" y="1260"/>
                </a:lnTo>
                <a:lnTo>
                  <a:pt x="1621" y="1230"/>
                </a:lnTo>
                <a:lnTo>
                  <a:pt x="1627" y="1194"/>
                </a:lnTo>
                <a:lnTo>
                  <a:pt x="1633" y="1158"/>
                </a:lnTo>
                <a:lnTo>
                  <a:pt x="1639" y="1128"/>
                </a:lnTo>
                <a:lnTo>
                  <a:pt x="1645" y="1092"/>
                </a:lnTo>
                <a:lnTo>
                  <a:pt x="1651" y="1056"/>
                </a:lnTo>
                <a:lnTo>
                  <a:pt x="1663" y="1026"/>
                </a:lnTo>
                <a:lnTo>
                  <a:pt x="1669" y="990"/>
                </a:lnTo>
                <a:lnTo>
                  <a:pt x="1675" y="954"/>
                </a:lnTo>
                <a:lnTo>
                  <a:pt x="1681" y="918"/>
                </a:lnTo>
                <a:lnTo>
                  <a:pt x="1687" y="882"/>
                </a:lnTo>
                <a:lnTo>
                  <a:pt x="1693" y="846"/>
                </a:lnTo>
                <a:lnTo>
                  <a:pt x="1699" y="804"/>
                </a:lnTo>
                <a:lnTo>
                  <a:pt x="1711" y="768"/>
                </a:lnTo>
                <a:lnTo>
                  <a:pt x="1717" y="732"/>
                </a:lnTo>
                <a:lnTo>
                  <a:pt x="1723" y="696"/>
                </a:lnTo>
                <a:lnTo>
                  <a:pt x="1729" y="654"/>
                </a:lnTo>
                <a:lnTo>
                  <a:pt x="1735" y="618"/>
                </a:lnTo>
                <a:lnTo>
                  <a:pt x="1741" y="576"/>
                </a:lnTo>
                <a:lnTo>
                  <a:pt x="1747" y="540"/>
                </a:lnTo>
                <a:lnTo>
                  <a:pt x="1759" y="498"/>
                </a:lnTo>
                <a:lnTo>
                  <a:pt x="1765" y="462"/>
                </a:lnTo>
                <a:lnTo>
                  <a:pt x="1771" y="420"/>
                </a:lnTo>
                <a:lnTo>
                  <a:pt x="1777" y="378"/>
                </a:lnTo>
                <a:lnTo>
                  <a:pt x="1783" y="342"/>
                </a:lnTo>
                <a:lnTo>
                  <a:pt x="1789" y="300"/>
                </a:lnTo>
                <a:lnTo>
                  <a:pt x="1795" y="258"/>
                </a:lnTo>
                <a:lnTo>
                  <a:pt x="1807" y="216"/>
                </a:lnTo>
                <a:lnTo>
                  <a:pt x="1813" y="174"/>
                </a:lnTo>
                <a:lnTo>
                  <a:pt x="1819" y="132"/>
                </a:lnTo>
                <a:lnTo>
                  <a:pt x="1825" y="90"/>
                </a:lnTo>
                <a:lnTo>
                  <a:pt x="1831" y="42"/>
                </a:lnTo>
                <a:lnTo>
                  <a:pt x="1837" y="0"/>
                </a:ln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reeform 45"/>
          <p:cNvSpPr/>
          <p:nvPr/>
        </p:nvSpPr>
        <p:spPr>
          <a:xfrm flipV="1">
            <a:off x="2209680" y="4571280"/>
            <a:ext cx="4319640" cy="2849400"/>
          </a:xfrm>
          <a:custGeom>
            <a:avLst/>
            <a:gdLst/>
            <a:ahLst/>
            <a:rect l="l" t="t" r="r" b="b"/>
            <a:pathLst>
              <a:path w="1837" h="2922">
                <a:moveTo>
                  <a:pt x="0" y="18"/>
                </a:moveTo>
                <a:lnTo>
                  <a:pt x="6" y="60"/>
                </a:lnTo>
                <a:lnTo>
                  <a:pt x="12" y="102"/>
                </a:lnTo>
                <a:lnTo>
                  <a:pt x="24" y="144"/>
                </a:lnTo>
                <a:lnTo>
                  <a:pt x="30" y="186"/>
                </a:lnTo>
                <a:lnTo>
                  <a:pt x="36" y="228"/>
                </a:lnTo>
                <a:lnTo>
                  <a:pt x="42" y="270"/>
                </a:lnTo>
                <a:lnTo>
                  <a:pt x="48" y="312"/>
                </a:lnTo>
                <a:lnTo>
                  <a:pt x="54" y="354"/>
                </a:lnTo>
                <a:lnTo>
                  <a:pt x="60" y="396"/>
                </a:lnTo>
                <a:lnTo>
                  <a:pt x="72" y="432"/>
                </a:lnTo>
                <a:lnTo>
                  <a:pt x="78" y="474"/>
                </a:lnTo>
                <a:lnTo>
                  <a:pt x="84" y="516"/>
                </a:lnTo>
                <a:lnTo>
                  <a:pt x="90" y="552"/>
                </a:lnTo>
                <a:lnTo>
                  <a:pt x="96" y="594"/>
                </a:lnTo>
                <a:lnTo>
                  <a:pt x="102" y="630"/>
                </a:lnTo>
                <a:lnTo>
                  <a:pt x="108" y="672"/>
                </a:lnTo>
                <a:lnTo>
                  <a:pt x="120" y="708"/>
                </a:lnTo>
                <a:lnTo>
                  <a:pt x="126" y="744"/>
                </a:lnTo>
                <a:lnTo>
                  <a:pt x="132" y="780"/>
                </a:lnTo>
                <a:lnTo>
                  <a:pt x="138" y="822"/>
                </a:lnTo>
                <a:lnTo>
                  <a:pt x="144" y="858"/>
                </a:lnTo>
                <a:lnTo>
                  <a:pt x="150" y="894"/>
                </a:lnTo>
                <a:lnTo>
                  <a:pt x="156" y="930"/>
                </a:lnTo>
                <a:lnTo>
                  <a:pt x="168" y="966"/>
                </a:lnTo>
                <a:lnTo>
                  <a:pt x="174" y="1002"/>
                </a:lnTo>
                <a:lnTo>
                  <a:pt x="180" y="1038"/>
                </a:lnTo>
                <a:lnTo>
                  <a:pt x="186" y="1068"/>
                </a:lnTo>
                <a:lnTo>
                  <a:pt x="192" y="1104"/>
                </a:lnTo>
                <a:lnTo>
                  <a:pt x="198" y="1140"/>
                </a:lnTo>
                <a:lnTo>
                  <a:pt x="204" y="1170"/>
                </a:lnTo>
                <a:lnTo>
                  <a:pt x="216" y="1206"/>
                </a:lnTo>
                <a:lnTo>
                  <a:pt x="222" y="1242"/>
                </a:lnTo>
                <a:lnTo>
                  <a:pt x="228" y="1272"/>
                </a:lnTo>
                <a:lnTo>
                  <a:pt x="234" y="1302"/>
                </a:lnTo>
                <a:lnTo>
                  <a:pt x="240" y="1338"/>
                </a:lnTo>
                <a:lnTo>
                  <a:pt x="246" y="1368"/>
                </a:lnTo>
                <a:lnTo>
                  <a:pt x="252" y="1398"/>
                </a:lnTo>
                <a:lnTo>
                  <a:pt x="264" y="1434"/>
                </a:lnTo>
                <a:lnTo>
                  <a:pt x="270" y="1464"/>
                </a:lnTo>
                <a:lnTo>
                  <a:pt x="276" y="1494"/>
                </a:lnTo>
                <a:lnTo>
                  <a:pt x="282" y="1524"/>
                </a:lnTo>
                <a:lnTo>
                  <a:pt x="288" y="1554"/>
                </a:lnTo>
                <a:lnTo>
                  <a:pt x="294" y="1584"/>
                </a:lnTo>
                <a:lnTo>
                  <a:pt x="300" y="1614"/>
                </a:lnTo>
                <a:lnTo>
                  <a:pt x="312" y="1644"/>
                </a:lnTo>
                <a:lnTo>
                  <a:pt x="318" y="1668"/>
                </a:lnTo>
                <a:lnTo>
                  <a:pt x="324" y="1698"/>
                </a:lnTo>
                <a:lnTo>
                  <a:pt x="330" y="1728"/>
                </a:lnTo>
                <a:lnTo>
                  <a:pt x="336" y="1752"/>
                </a:lnTo>
                <a:lnTo>
                  <a:pt x="342" y="1782"/>
                </a:lnTo>
                <a:lnTo>
                  <a:pt x="348" y="1806"/>
                </a:lnTo>
                <a:lnTo>
                  <a:pt x="360" y="1836"/>
                </a:lnTo>
                <a:lnTo>
                  <a:pt x="366" y="1860"/>
                </a:lnTo>
                <a:lnTo>
                  <a:pt x="372" y="1890"/>
                </a:lnTo>
                <a:lnTo>
                  <a:pt x="378" y="1914"/>
                </a:lnTo>
                <a:lnTo>
                  <a:pt x="384" y="1938"/>
                </a:lnTo>
                <a:lnTo>
                  <a:pt x="390" y="1962"/>
                </a:lnTo>
                <a:lnTo>
                  <a:pt x="396" y="1986"/>
                </a:lnTo>
                <a:lnTo>
                  <a:pt x="408" y="2010"/>
                </a:lnTo>
                <a:lnTo>
                  <a:pt x="414" y="2040"/>
                </a:lnTo>
                <a:lnTo>
                  <a:pt x="420" y="2058"/>
                </a:lnTo>
                <a:lnTo>
                  <a:pt x="426" y="2082"/>
                </a:lnTo>
                <a:lnTo>
                  <a:pt x="432" y="2106"/>
                </a:lnTo>
                <a:lnTo>
                  <a:pt x="438" y="2130"/>
                </a:lnTo>
                <a:lnTo>
                  <a:pt x="444" y="2154"/>
                </a:lnTo>
                <a:lnTo>
                  <a:pt x="456" y="2172"/>
                </a:lnTo>
                <a:lnTo>
                  <a:pt x="462" y="2196"/>
                </a:lnTo>
                <a:lnTo>
                  <a:pt x="468" y="2220"/>
                </a:lnTo>
                <a:lnTo>
                  <a:pt x="474" y="2238"/>
                </a:lnTo>
                <a:lnTo>
                  <a:pt x="480" y="2262"/>
                </a:lnTo>
                <a:lnTo>
                  <a:pt x="486" y="2280"/>
                </a:lnTo>
                <a:lnTo>
                  <a:pt x="492" y="2304"/>
                </a:lnTo>
                <a:lnTo>
                  <a:pt x="504" y="2322"/>
                </a:lnTo>
                <a:lnTo>
                  <a:pt x="510" y="2340"/>
                </a:lnTo>
                <a:lnTo>
                  <a:pt x="516" y="2358"/>
                </a:lnTo>
                <a:lnTo>
                  <a:pt x="522" y="2376"/>
                </a:lnTo>
                <a:lnTo>
                  <a:pt x="528" y="2400"/>
                </a:lnTo>
                <a:lnTo>
                  <a:pt x="534" y="2418"/>
                </a:lnTo>
                <a:lnTo>
                  <a:pt x="540" y="2436"/>
                </a:lnTo>
                <a:lnTo>
                  <a:pt x="552" y="2454"/>
                </a:lnTo>
                <a:lnTo>
                  <a:pt x="558" y="2466"/>
                </a:lnTo>
                <a:lnTo>
                  <a:pt x="564" y="2484"/>
                </a:lnTo>
                <a:lnTo>
                  <a:pt x="570" y="2502"/>
                </a:lnTo>
                <a:lnTo>
                  <a:pt x="576" y="2520"/>
                </a:lnTo>
                <a:lnTo>
                  <a:pt x="582" y="2532"/>
                </a:lnTo>
                <a:lnTo>
                  <a:pt x="588" y="2550"/>
                </a:lnTo>
                <a:lnTo>
                  <a:pt x="600" y="2568"/>
                </a:lnTo>
                <a:lnTo>
                  <a:pt x="606" y="2580"/>
                </a:lnTo>
                <a:lnTo>
                  <a:pt x="612" y="2592"/>
                </a:lnTo>
                <a:lnTo>
                  <a:pt x="618" y="2610"/>
                </a:lnTo>
                <a:lnTo>
                  <a:pt x="624" y="2622"/>
                </a:lnTo>
                <a:lnTo>
                  <a:pt x="630" y="2640"/>
                </a:lnTo>
                <a:lnTo>
                  <a:pt x="636" y="2652"/>
                </a:lnTo>
                <a:lnTo>
                  <a:pt x="648" y="2664"/>
                </a:lnTo>
                <a:lnTo>
                  <a:pt x="654" y="2676"/>
                </a:lnTo>
                <a:lnTo>
                  <a:pt x="660" y="2688"/>
                </a:lnTo>
                <a:lnTo>
                  <a:pt x="666" y="2700"/>
                </a:lnTo>
                <a:lnTo>
                  <a:pt x="672" y="2712"/>
                </a:lnTo>
                <a:lnTo>
                  <a:pt x="678" y="2724"/>
                </a:lnTo>
                <a:lnTo>
                  <a:pt x="684" y="2736"/>
                </a:lnTo>
                <a:lnTo>
                  <a:pt x="696" y="2748"/>
                </a:lnTo>
                <a:lnTo>
                  <a:pt x="702" y="2754"/>
                </a:lnTo>
                <a:lnTo>
                  <a:pt x="708" y="2766"/>
                </a:lnTo>
                <a:lnTo>
                  <a:pt x="714" y="2778"/>
                </a:lnTo>
                <a:lnTo>
                  <a:pt x="720" y="2784"/>
                </a:lnTo>
                <a:lnTo>
                  <a:pt x="726" y="2796"/>
                </a:lnTo>
                <a:lnTo>
                  <a:pt x="732" y="2802"/>
                </a:lnTo>
                <a:lnTo>
                  <a:pt x="744" y="2814"/>
                </a:lnTo>
                <a:lnTo>
                  <a:pt x="750" y="2820"/>
                </a:lnTo>
                <a:lnTo>
                  <a:pt x="756" y="2826"/>
                </a:lnTo>
                <a:lnTo>
                  <a:pt x="762" y="2838"/>
                </a:lnTo>
                <a:lnTo>
                  <a:pt x="768" y="2844"/>
                </a:lnTo>
                <a:lnTo>
                  <a:pt x="774" y="2850"/>
                </a:lnTo>
                <a:lnTo>
                  <a:pt x="780" y="2856"/>
                </a:lnTo>
                <a:lnTo>
                  <a:pt x="792" y="2862"/>
                </a:lnTo>
                <a:lnTo>
                  <a:pt x="798" y="2868"/>
                </a:lnTo>
                <a:lnTo>
                  <a:pt x="804" y="2874"/>
                </a:lnTo>
                <a:lnTo>
                  <a:pt x="810" y="2880"/>
                </a:lnTo>
                <a:lnTo>
                  <a:pt x="816" y="2886"/>
                </a:lnTo>
                <a:lnTo>
                  <a:pt x="822" y="2892"/>
                </a:lnTo>
                <a:lnTo>
                  <a:pt x="828" y="2892"/>
                </a:lnTo>
                <a:lnTo>
                  <a:pt x="834" y="2898"/>
                </a:lnTo>
                <a:lnTo>
                  <a:pt x="846" y="2904"/>
                </a:lnTo>
                <a:lnTo>
                  <a:pt x="852" y="2904"/>
                </a:lnTo>
                <a:lnTo>
                  <a:pt x="858" y="2910"/>
                </a:lnTo>
                <a:lnTo>
                  <a:pt x="864" y="2910"/>
                </a:lnTo>
                <a:lnTo>
                  <a:pt x="870" y="2916"/>
                </a:lnTo>
                <a:lnTo>
                  <a:pt x="876" y="2916"/>
                </a:lnTo>
                <a:lnTo>
                  <a:pt x="882" y="2916"/>
                </a:lnTo>
                <a:lnTo>
                  <a:pt x="894" y="2916"/>
                </a:lnTo>
                <a:lnTo>
                  <a:pt x="900" y="2922"/>
                </a:lnTo>
                <a:lnTo>
                  <a:pt x="906" y="2922"/>
                </a:lnTo>
                <a:lnTo>
                  <a:pt x="912" y="2922"/>
                </a:lnTo>
                <a:lnTo>
                  <a:pt x="918" y="2922"/>
                </a:lnTo>
                <a:lnTo>
                  <a:pt x="925" y="2922"/>
                </a:lnTo>
                <a:lnTo>
                  <a:pt x="931" y="2922"/>
                </a:lnTo>
                <a:lnTo>
                  <a:pt x="943" y="2922"/>
                </a:lnTo>
                <a:lnTo>
                  <a:pt x="949" y="2916"/>
                </a:lnTo>
                <a:lnTo>
                  <a:pt x="955" y="2916"/>
                </a:lnTo>
                <a:lnTo>
                  <a:pt x="961" y="2916"/>
                </a:lnTo>
                <a:lnTo>
                  <a:pt x="967" y="2910"/>
                </a:lnTo>
                <a:lnTo>
                  <a:pt x="973" y="2910"/>
                </a:lnTo>
                <a:lnTo>
                  <a:pt x="979" y="2910"/>
                </a:lnTo>
                <a:lnTo>
                  <a:pt x="991" y="2904"/>
                </a:lnTo>
                <a:lnTo>
                  <a:pt x="997" y="2898"/>
                </a:lnTo>
                <a:lnTo>
                  <a:pt x="1003" y="2898"/>
                </a:lnTo>
                <a:lnTo>
                  <a:pt x="1009" y="2892"/>
                </a:lnTo>
                <a:lnTo>
                  <a:pt x="1015" y="2886"/>
                </a:lnTo>
                <a:lnTo>
                  <a:pt x="1021" y="2886"/>
                </a:lnTo>
                <a:lnTo>
                  <a:pt x="1027" y="2880"/>
                </a:lnTo>
                <a:lnTo>
                  <a:pt x="1039" y="2874"/>
                </a:lnTo>
                <a:lnTo>
                  <a:pt x="1045" y="2868"/>
                </a:lnTo>
                <a:lnTo>
                  <a:pt x="1051" y="2862"/>
                </a:lnTo>
                <a:lnTo>
                  <a:pt x="1057" y="2856"/>
                </a:lnTo>
                <a:lnTo>
                  <a:pt x="1063" y="2850"/>
                </a:lnTo>
                <a:lnTo>
                  <a:pt x="1069" y="2844"/>
                </a:lnTo>
                <a:lnTo>
                  <a:pt x="1075" y="2832"/>
                </a:lnTo>
                <a:lnTo>
                  <a:pt x="1087" y="2826"/>
                </a:lnTo>
                <a:lnTo>
                  <a:pt x="1093" y="2820"/>
                </a:lnTo>
                <a:lnTo>
                  <a:pt x="1099" y="2808"/>
                </a:lnTo>
                <a:lnTo>
                  <a:pt x="1105" y="2802"/>
                </a:lnTo>
                <a:lnTo>
                  <a:pt x="1111" y="2790"/>
                </a:lnTo>
                <a:lnTo>
                  <a:pt x="1117" y="2784"/>
                </a:lnTo>
                <a:lnTo>
                  <a:pt x="1123" y="2772"/>
                </a:lnTo>
                <a:lnTo>
                  <a:pt x="1135" y="2766"/>
                </a:lnTo>
                <a:lnTo>
                  <a:pt x="1141" y="2754"/>
                </a:lnTo>
                <a:lnTo>
                  <a:pt x="1147" y="2742"/>
                </a:lnTo>
                <a:lnTo>
                  <a:pt x="1153" y="2730"/>
                </a:lnTo>
                <a:lnTo>
                  <a:pt x="1159" y="2718"/>
                </a:lnTo>
                <a:lnTo>
                  <a:pt x="1165" y="2706"/>
                </a:lnTo>
                <a:lnTo>
                  <a:pt x="1171" y="2694"/>
                </a:lnTo>
                <a:lnTo>
                  <a:pt x="1183" y="2682"/>
                </a:lnTo>
                <a:lnTo>
                  <a:pt x="1189" y="2670"/>
                </a:lnTo>
                <a:lnTo>
                  <a:pt x="1195" y="2658"/>
                </a:lnTo>
                <a:lnTo>
                  <a:pt x="1201" y="2646"/>
                </a:lnTo>
                <a:lnTo>
                  <a:pt x="1207" y="2634"/>
                </a:lnTo>
                <a:lnTo>
                  <a:pt x="1213" y="2616"/>
                </a:lnTo>
                <a:lnTo>
                  <a:pt x="1219" y="2604"/>
                </a:lnTo>
                <a:lnTo>
                  <a:pt x="1231" y="2592"/>
                </a:lnTo>
                <a:lnTo>
                  <a:pt x="1237" y="2574"/>
                </a:lnTo>
                <a:lnTo>
                  <a:pt x="1243" y="2562"/>
                </a:lnTo>
                <a:lnTo>
                  <a:pt x="1249" y="2544"/>
                </a:lnTo>
                <a:lnTo>
                  <a:pt x="1255" y="2526"/>
                </a:lnTo>
                <a:lnTo>
                  <a:pt x="1261" y="2514"/>
                </a:lnTo>
                <a:lnTo>
                  <a:pt x="1267" y="2496"/>
                </a:lnTo>
                <a:lnTo>
                  <a:pt x="1279" y="2478"/>
                </a:lnTo>
                <a:lnTo>
                  <a:pt x="1285" y="2460"/>
                </a:lnTo>
                <a:lnTo>
                  <a:pt x="1291" y="2442"/>
                </a:lnTo>
                <a:lnTo>
                  <a:pt x="1297" y="2430"/>
                </a:lnTo>
                <a:lnTo>
                  <a:pt x="1303" y="2412"/>
                </a:lnTo>
                <a:lnTo>
                  <a:pt x="1309" y="2388"/>
                </a:lnTo>
                <a:lnTo>
                  <a:pt x="1315" y="2370"/>
                </a:lnTo>
                <a:lnTo>
                  <a:pt x="1327" y="2352"/>
                </a:lnTo>
                <a:lnTo>
                  <a:pt x="1333" y="2334"/>
                </a:lnTo>
                <a:lnTo>
                  <a:pt x="1339" y="2316"/>
                </a:lnTo>
                <a:lnTo>
                  <a:pt x="1345" y="2292"/>
                </a:lnTo>
                <a:lnTo>
                  <a:pt x="1351" y="2274"/>
                </a:lnTo>
                <a:lnTo>
                  <a:pt x="1357" y="2250"/>
                </a:lnTo>
                <a:lnTo>
                  <a:pt x="1363" y="2232"/>
                </a:lnTo>
                <a:lnTo>
                  <a:pt x="1375" y="2208"/>
                </a:lnTo>
                <a:lnTo>
                  <a:pt x="1381" y="2190"/>
                </a:lnTo>
                <a:lnTo>
                  <a:pt x="1387" y="2166"/>
                </a:lnTo>
                <a:lnTo>
                  <a:pt x="1393" y="2142"/>
                </a:lnTo>
                <a:lnTo>
                  <a:pt x="1399" y="2124"/>
                </a:lnTo>
                <a:lnTo>
                  <a:pt x="1405" y="2100"/>
                </a:lnTo>
                <a:lnTo>
                  <a:pt x="1411" y="2076"/>
                </a:lnTo>
                <a:lnTo>
                  <a:pt x="1423" y="2052"/>
                </a:lnTo>
                <a:lnTo>
                  <a:pt x="1429" y="2028"/>
                </a:lnTo>
                <a:lnTo>
                  <a:pt x="1435" y="2004"/>
                </a:lnTo>
                <a:lnTo>
                  <a:pt x="1441" y="1980"/>
                </a:lnTo>
                <a:lnTo>
                  <a:pt x="1447" y="1956"/>
                </a:lnTo>
                <a:lnTo>
                  <a:pt x="1453" y="1932"/>
                </a:lnTo>
                <a:lnTo>
                  <a:pt x="1459" y="1902"/>
                </a:lnTo>
                <a:lnTo>
                  <a:pt x="1471" y="1878"/>
                </a:lnTo>
                <a:lnTo>
                  <a:pt x="1477" y="1854"/>
                </a:lnTo>
                <a:lnTo>
                  <a:pt x="1483" y="1824"/>
                </a:lnTo>
                <a:lnTo>
                  <a:pt x="1489" y="1800"/>
                </a:lnTo>
                <a:lnTo>
                  <a:pt x="1495" y="1770"/>
                </a:lnTo>
                <a:lnTo>
                  <a:pt x="1501" y="1746"/>
                </a:lnTo>
                <a:lnTo>
                  <a:pt x="1507" y="1716"/>
                </a:lnTo>
                <a:lnTo>
                  <a:pt x="1519" y="1686"/>
                </a:lnTo>
                <a:lnTo>
                  <a:pt x="1525" y="1662"/>
                </a:lnTo>
                <a:lnTo>
                  <a:pt x="1531" y="1632"/>
                </a:lnTo>
                <a:lnTo>
                  <a:pt x="1537" y="1602"/>
                </a:lnTo>
                <a:lnTo>
                  <a:pt x="1543" y="1572"/>
                </a:lnTo>
                <a:lnTo>
                  <a:pt x="1549" y="1542"/>
                </a:lnTo>
                <a:lnTo>
                  <a:pt x="1555" y="1512"/>
                </a:lnTo>
                <a:lnTo>
                  <a:pt x="1567" y="1482"/>
                </a:lnTo>
                <a:lnTo>
                  <a:pt x="1573" y="1452"/>
                </a:lnTo>
                <a:lnTo>
                  <a:pt x="1579" y="1422"/>
                </a:lnTo>
                <a:lnTo>
                  <a:pt x="1585" y="1392"/>
                </a:lnTo>
                <a:lnTo>
                  <a:pt x="1591" y="1356"/>
                </a:lnTo>
                <a:lnTo>
                  <a:pt x="1597" y="1326"/>
                </a:lnTo>
                <a:lnTo>
                  <a:pt x="1603" y="1296"/>
                </a:lnTo>
                <a:lnTo>
                  <a:pt x="1615" y="1260"/>
                </a:lnTo>
                <a:lnTo>
                  <a:pt x="1621" y="1230"/>
                </a:lnTo>
                <a:lnTo>
                  <a:pt x="1627" y="1194"/>
                </a:lnTo>
                <a:lnTo>
                  <a:pt x="1633" y="1158"/>
                </a:lnTo>
                <a:lnTo>
                  <a:pt x="1639" y="1128"/>
                </a:lnTo>
                <a:lnTo>
                  <a:pt x="1645" y="1092"/>
                </a:lnTo>
                <a:lnTo>
                  <a:pt x="1651" y="1056"/>
                </a:lnTo>
                <a:lnTo>
                  <a:pt x="1663" y="1026"/>
                </a:lnTo>
                <a:lnTo>
                  <a:pt x="1669" y="990"/>
                </a:lnTo>
                <a:lnTo>
                  <a:pt x="1675" y="954"/>
                </a:lnTo>
                <a:lnTo>
                  <a:pt x="1681" y="918"/>
                </a:lnTo>
                <a:lnTo>
                  <a:pt x="1687" y="882"/>
                </a:lnTo>
                <a:lnTo>
                  <a:pt x="1693" y="846"/>
                </a:lnTo>
                <a:lnTo>
                  <a:pt x="1699" y="804"/>
                </a:lnTo>
                <a:lnTo>
                  <a:pt x="1711" y="768"/>
                </a:lnTo>
                <a:lnTo>
                  <a:pt x="1717" y="732"/>
                </a:lnTo>
                <a:lnTo>
                  <a:pt x="1723" y="696"/>
                </a:lnTo>
                <a:lnTo>
                  <a:pt x="1729" y="654"/>
                </a:lnTo>
                <a:lnTo>
                  <a:pt x="1735" y="618"/>
                </a:lnTo>
                <a:lnTo>
                  <a:pt x="1741" y="576"/>
                </a:lnTo>
                <a:lnTo>
                  <a:pt x="1747" y="540"/>
                </a:lnTo>
                <a:lnTo>
                  <a:pt x="1759" y="498"/>
                </a:lnTo>
                <a:lnTo>
                  <a:pt x="1765" y="462"/>
                </a:lnTo>
                <a:lnTo>
                  <a:pt x="1771" y="420"/>
                </a:lnTo>
                <a:lnTo>
                  <a:pt x="1777" y="378"/>
                </a:lnTo>
                <a:lnTo>
                  <a:pt x="1783" y="342"/>
                </a:lnTo>
                <a:lnTo>
                  <a:pt x="1789" y="300"/>
                </a:lnTo>
                <a:lnTo>
                  <a:pt x="1795" y="258"/>
                </a:lnTo>
                <a:lnTo>
                  <a:pt x="1807" y="216"/>
                </a:lnTo>
                <a:lnTo>
                  <a:pt x="1813" y="174"/>
                </a:lnTo>
                <a:lnTo>
                  <a:pt x="1819" y="132"/>
                </a:lnTo>
                <a:lnTo>
                  <a:pt x="1825" y="90"/>
                </a:lnTo>
                <a:lnTo>
                  <a:pt x="1831" y="42"/>
                </a:lnTo>
                <a:lnTo>
                  <a:pt x="1837" y="0"/>
                </a:lnTo>
              </a:path>
            </a:pathLst>
          </a:cu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Box 44"/>
          <p:cNvSpPr/>
          <p:nvPr/>
        </p:nvSpPr>
        <p:spPr>
          <a:xfrm>
            <a:off x="4264920" y="2971800"/>
            <a:ext cx="137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0,3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Box 45"/>
          <p:cNvSpPr/>
          <p:nvPr/>
        </p:nvSpPr>
        <p:spPr>
          <a:xfrm>
            <a:off x="4265280" y="5181480"/>
            <a:ext cx="150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0,-3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矩形 83"/>
          <p:cNvSpPr/>
          <p:nvPr/>
        </p:nvSpPr>
        <p:spPr>
          <a:xfrm>
            <a:off x="2684520" y="22860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如何由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Object 40" descr=""/>
          <p:cNvPicPr/>
          <p:nvPr/>
        </p:nvPicPr>
        <p:blipFill>
          <a:blip r:embed="rId6"/>
          <a:stretch/>
        </p:blipFill>
        <p:spPr>
          <a:xfrm>
            <a:off x="3886200" y="0"/>
            <a:ext cx="1905120" cy="933480"/>
          </a:xfrm>
          <a:prstGeom prst="rect">
            <a:avLst/>
          </a:prstGeom>
          <a:ln w="0">
            <a:noFill/>
          </a:ln>
        </p:spPr>
      </p:pic>
      <p:sp>
        <p:nvSpPr>
          <p:cNvPr id="190" name="矩形 85"/>
          <p:cNvSpPr/>
          <p:nvPr/>
        </p:nvSpPr>
        <p:spPr>
          <a:xfrm>
            <a:off x="6364080" y="228600"/>
            <a:ext cx="15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图象得到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Object 42" descr=""/>
          <p:cNvPicPr/>
          <p:nvPr/>
        </p:nvPicPr>
        <p:blipFill>
          <a:blip r:embed="rId7"/>
          <a:stretch/>
        </p:blipFill>
        <p:spPr>
          <a:xfrm>
            <a:off x="2378160" y="762120"/>
            <a:ext cx="2112840" cy="914400"/>
          </a:xfrm>
          <a:prstGeom prst="rect">
            <a:avLst/>
          </a:prstGeom>
          <a:ln w="0">
            <a:noFill/>
          </a:ln>
        </p:spPr>
      </p:pic>
      <p:pic>
        <p:nvPicPr>
          <p:cNvPr id="192" name="Object 43" descr=""/>
          <p:cNvPicPr/>
          <p:nvPr/>
        </p:nvPicPr>
        <p:blipFill>
          <a:blip r:embed="rId8"/>
          <a:stretch/>
        </p:blipFill>
        <p:spPr>
          <a:xfrm>
            <a:off x="4665600" y="685800"/>
            <a:ext cx="2327400" cy="1006560"/>
          </a:xfrm>
          <a:prstGeom prst="rect">
            <a:avLst/>
          </a:prstGeom>
          <a:ln w="0">
            <a:noFill/>
          </a:ln>
        </p:spPr>
      </p:pic>
      <p:sp>
        <p:nvSpPr>
          <p:cNvPr id="193" name="矩形 88"/>
          <p:cNvSpPr/>
          <p:nvPr/>
        </p:nvSpPr>
        <p:spPr>
          <a:xfrm>
            <a:off x="708660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图象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Box 89"/>
          <p:cNvSpPr/>
          <p:nvPr/>
        </p:nvSpPr>
        <p:spPr>
          <a:xfrm>
            <a:off x="0" y="0"/>
            <a:ext cx="213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楷体"/>
                <a:ea typeface="楷体"/>
              </a:rPr>
              <a:t>2.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上下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平移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矩形 90"/>
          <p:cNvSpPr/>
          <p:nvPr/>
        </p:nvSpPr>
        <p:spPr>
          <a:xfrm>
            <a:off x="4534920" y="8380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54"/>
          <p:cNvGrpSpPr/>
          <p:nvPr/>
        </p:nvGrpSpPr>
        <p:grpSpPr>
          <a:xfrm>
            <a:off x="838080" y="5703840"/>
            <a:ext cx="2254320" cy="1087920"/>
            <a:chOff x="838080" y="5703840"/>
            <a:chExt cx="2254320" cy="1087920"/>
          </a:xfrm>
        </p:grpSpPr>
        <p:sp>
          <p:nvSpPr>
            <p:cNvPr id="197" name="AutoShape 53"/>
            <p:cNvSpPr/>
            <p:nvPr/>
          </p:nvSpPr>
          <p:spPr>
            <a:xfrm>
              <a:off x="838080" y="5703840"/>
              <a:ext cx="2254320" cy="10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55"/>
            <p:cNvSpPr/>
            <p:nvPr/>
          </p:nvSpPr>
          <p:spPr>
            <a:xfrm>
              <a:off x="1815840" y="6246720"/>
              <a:ext cx="21780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56"/>
            <p:cNvSpPr/>
            <p:nvPr/>
          </p:nvSpPr>
          <p:spPr>
            <a:xfrm>
              <a:off x="2840040" y="59850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Rectangle 57"/>
            <p:cNvSpPr/>
            <p:nvPr/>
          </p:nvSpPr>
          <p:spPr>
            <a:xfrm>
              <a:off x="1913400" y="63039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3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58"/>
            <p:cNvSpPr/>
            <p:nvPr/>
          </p:nvSpPr>
          <p:spPr>
            <a:xfrm>
              <a:off x="1906920" y="57294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1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59"/>
            <p:cNvSpPr/>
            <p:nvPr/>
          </p:nvSpPr>
          <p:spPr>
            <a:xfrm>
              <a:off x="2372040" y="595296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2</a:t>
              </a:r>
              <a:endParaRPr b="1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60"/>
            <p:cNvSpPr/>
            <p:nvPr/>
          </p:nvSpPr>
          <p:spPr>
            <a:xfrm>
              <a:off x="2720160" y="593892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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61"/>
            <p:cNvSpPr/>
            <p:nvPr/>
          </p:nvSpPr>
          <p:spPr>
            <a:xfrm>
              <a:off x="1702440" y="593892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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62"/>
            <p:cNvSpPr/>
            <p:nvPr/>
          </p:nvSpPr>
          <p:spPr>
            <a:xfrm>
              <a:off x="1294560" y="5938920"/>
              <a:ext cx="323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63"/>
            <p:cNvSpPr/>
            <p:nvPr/>
          </p:nvSpPr>
          <p:spPr>
            <a:xfrm>
              <a:off x="2195280" y="59850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x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64"/>
            <p:cNvSpPr/>
            <p:nvPr/>
          </p:nvSpPr>
          <p:spPr>
            <a:xfrm>
              <a:off x="1020600" y="598500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y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Group 67"/>
          <p:cNvGrpSpPr/>
          <p:nvPr/>
        </p:nvGrpSpPr>
        <p:grpSpPr>
          <a:xfrm>
            <a:off x="5638680" y="2971800"/>
            <a:ext cx="2254320" cy="1087920"/>
            <a:chOff x="5638680" y="2971800"/>
            <a:chExt cx="2254320" cy="1087920"/>
          </a:xfrm>
        </p:grpSpPr>
        <p:sp>
          <p:nvSpPr>
            <p:cNvPr id="209" name="AutoShape 66"/>
            <p:cNvSpPr/>
            <p:nvPr/>
          </p:nvSpPr>
          <p:spPr>
            <a:xfrm>
              <a:off x="5638680" y="2971800"/>
              <a:ext cx="2254320" cy="10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68"/>
            <p:cNvSpPr/>
            <p:nvPr/>
          </p:nvSpPr>
          <p:spPr>
            <a:xfrm>
              <a:off x="6616440" y="3514680"/>
              <a:ext cx="217800" cy="1800"/>
            </a:xfrm>
            <a:prstGeom prst="line">
              <a:avLst/>
            </a:prstGeom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69"/>
            <p:cNvSpPr/>
            <p:nvPr/>
          </p:nvSpPr>
          <p:spPr>
            <a:xfrm>
              <a:off x="7646760" y="32529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00"/>
                  </a:solidFill>
                  <a:latin typeface="Times New Roman"/>
                </a:rPr>
                <a:t>3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70"/>
            <p:cNvSpPr/>
            <p:nvPr/>
          </p:nvSpPr>
          <p:spPr>
            <a:xfrm>
              <a:off x="6714000" y="357192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00"/>
                  </a:solidFill>
                  <a:latin typeface="Times New Roman"/>
                  <a:ea typeface="宋体"/>
                </a:rPr>
                <a:t>3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71"/>
            <p:cNvSpPr/>
            <p:nvPr/>
          </p:nvSpPr>
          <p:spPr>
            <a:xfrm>
              <a:off x="6707520" y="29973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00"/>
                  </a:solidFill>
                  <a:latin typeface="Times New Roman"/>
                  <a:ea typeface="宋体"/>
                </a:rPr>
                <a:t>1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72"/>
            <p:cNvSpPr/>
            <p:nvPr/>
          </p:nvSpPr>
          <p:spPr>
            <a:xfrm>
              <a:off x="7172640" y="32209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06600"/>
                  </a:solidFill>
                  <a:latin typeface="Times New Roman"/>
                  <a:ea typeface="宋体"/>
                </a:rPr>
                <a:t>2</a:t>
              </a:r>
              <a:endParaRPr b="1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73"/>
            <p:cNvSpPr/>
            <p:nvPr/>
          </p:nvSpPr>
          <p:spPr>
            <a:xfrm>
              <a:off x="7469640" y="3206880"/>
              <a:ext cx="238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00"/>
                  </a:solidFill>
                  <a:latin typeface="Symbol"/>
                  <a:ea typeface="Symbol"/>
                </a:rPr>
                <a:t>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74"/>
            <p:cNvSpPr/>
            <p:nvPr/>
          </p:nvSpPr>
          <p:spPr>
            <a:xfrm>
              <a:off x="6503040" y="320688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00"/>
                  </a:solidFill>
                  <a:latin typeface="Symbol"/>
                  <a:ea typeface="Symbol"/>
                </a:rPr>
                <a:t>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75"/>
            <p:cNvSpPr/>
            <p:nvPr/>
          </p:nvSpPr>
          <p:spPr>
            <a:xfrm>
              <a:off x="6095160" y="3206880"/>
              <a:ext cx="323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00"/>
                  </a:solidFill>
                  <a:latin typeface="Symbol"/>
                  <a:ea typeface="Symbol"/>
                </a:rPr>
                <a:t>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76"/>
            <p:cNvSpPr/>
            <p:nvPr/>
          </p:nvSpPr>
          <p:spPr>
            <a:xfrm>
              <a:off x="6995880" y="32529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6600"/>
                  </a:solidFill>
                  <a:latin typeface="Times New Roman"/>
                  <a:ea typeface="宋体"/>
                </a:rPr>
                <a:t>x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77"/>
            <p:cNvSpPr/>
            <p:nvPr/>
          </p:nvSpPr>
          <p:spPr>
            <a:xfrm>
              <a:off x="5821200" y="325296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6600"/>
                  </a:solidFill>
                  <a:latin typeface="Times New Roman"/>
                  <a:ea typeface="宋体"/>
                </a:rPr>
                <a:t>y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"/>
                            </p:stCondLst>
                            <p:childTnLst>
                              <p:par>
                                <p:cTn id="156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0.00185 L 4.72222E-006 0.16597 E">
                                      <p:cBhvr>
                                        <p:cTn id="157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"/>
                            </p:stCondLst>
                            <p:childTnLst>
                              <p:par>
                                <p:cTn id="175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0208 L 0.00017 -0.14907 E">
                                      <p:cBhvr>
                                        <p:cTn id="176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533520" y="1219320"/>
            <a:ext cx="8106120" cy="5637960"/>
            <a:chOff x="533520" y="1219320"/>
            <a:chExt cx="8106120" cy="5637960"/>
          </a:xfrm>
        </p:grpSpPr>
        <p:grpSp>
          <p:nvGrpSpPr>
            <p:cNvPr id="221" name="Group 3"/>
            <p:cNvGrpSpPr/>
            <p:nvPr/>
          </p:nvGrpSpPr>
          <p:grpSpPr>
            <a:xfrm>
              <a:off x="533520" y="1295640"/>
              <a:ext cx="7696080" cy="5561640"/>
              <a:chOff x="533520" y="1295640"/>
              <a:chExt cx="7696080" cy="5561640"/>
            </a:xfrm>
          </p:grpSpPr>
          <p:pic>
            <p:nvPicPr>
              <p:cNvPr id="222" name="Picture 4" descr=""/>
              <p:cNvPicPr/>
              <p:nvPr/>
            </p:nvPicPr>
            <p:blipFill>
              <a:blip r:embed="rId1"/>
              <a:srcRect l="20548" t="0" r="0" b="0"/>
              <a:stretch/>
            </p:blipFill>
            <p:spPr>
              <a:xfrm>
                <a:off x="533520" y="1295640"/>
                <a:ext cx="3719880" cy="3270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" name="Picture 5" descr=""/>
              <p:cNvPicPr/>
              <p:nvPr/>
            </p:nvPicPr>
            <p:blipFill>
              <a:blip r:embed="rId2"/>
              <a:srcRect l="0" t="0" r="12330" b="0"/>
              <a:stretch/>
            </p:blipFill>
            <p:spPr>
              <a:xfrm>
                <a:off x="4124880" y="1295640"/>
                <a:ext cx="4104360" cy="3270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4" name="Picture 6" descr=""/>
              <p:cNvPicPr/>
              <p:nvPr/>
            </p:nvPicPr>
            <p:blipFill>
              <a:blip r:embed="rId3"/>
              <a:srcRect l="20548" t="0" r="0" b="25509"/>
              <a:stretch/>
            </p:blipFill>
            <p:spPr>
              <a:xfrm>
                <a:off x="533520" y="4420440"/>
                <a:ext cx="3719880" cy="2436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5" name="Picture 7" descr=""/>
              <p:cNvPicPr/>
              <p:nvPr/>
            </p:nvPicPr>
            <p:blipFill>
              <a:blip r:embed="rId4"/>
              <a:srcRect l="0" t="0" r="12330" b="25509"/>
              <a:stretch/>
            </p:blipFill>
            <p:spPr>
              <a:xfrm>
                <a:off x="4124880" y="4420440"/>
                <a:ext cx="4104360" cy="243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" name="Line 8"/>
              <p:cNvSpPr/>
              <p:nvPr/>
            </p:nvSpPr>
            <p:spPr>
              <a:xfrm>
                <a:off x="533520" y="4465800"/>
                <a:ext cx="7696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Line 9"/>
              <p:cNvSpPr/>
              <p:nvPr/>
            </p:nvSpPr>
            <p:spPr>
              <a:xfrm flipV="1">
                <a:off x="4188960" y="1406160"/>
                <a:ext cx="0" cy="500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Text Box 10"/>
            <p:cNvSpPr/>
            <p:nvPr/>
          </p:nvSpPr>
          <p:spPr>
            <a:xfrm>
              <a:off x="3767760" y="44103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11"/>
            <p:cNvSpPr/>
            <p:nvPr/>
          </p:nvSpPr>
          <p:spPr>
            <a:xfrm>
              <a:off x="8254800" y="41914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 Box 12"/>
            <p:cNvSpPr/>
            <p:nvPr/>
          </p:nvSpPr>
          <p:spPr>
            <a:xfrm>
              <a:off x="4239360" y="12193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13"/>
            <p:cNvSpPr/>
            <p:nvPr/>
          </p:nvSpPr>
          <p:spPr>
            <a:xfrm>
              <a:off x="4466880" y="44348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14"/>
            <p:cNvSpPr/>
            <p:nvPr/>
          </p:nvSpPr>
          <p:spPr>
            <a:xfrm>
              <a:off x="4905000" y="44348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15"/>
            <p:cNvSpPr/>
            <p:nvPr/>
          </p:nvSpPr>
          <p:spPr>
            <a:xfrm>
              <a:off x="5353920" y="44348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16"/>
            <p:cNvSpPr/>
            <p:nvPr/>
          </p:nvSpPr>
          <p:spPr>
            <a:xfrm>
              <a:off x="5802840" y="44348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17"/>
            <p:cNvSpPr/>
            <p:nvPr/>
          </p:nvSpPr>
          <p:spPr>
            <a:xfrm>
              <a:off x="6252120" y="44348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18"/>
            <p:cNvSpPr/>
            <p:nvPr/>
          </p:nvSpPr>
          <p:spPr>
            <a:xfrm>
              <a:off x="3825720" y="39121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19"/>
            <p:cNvSpPr/>
            <p:nvPr/>
          </p:nvSpPr>
          <p:spPr>
            <a:xfrm>
              <a:off x="3839040" y="34894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Text Box 20"/>
            <p:cNvSpPr/>
            <p:nvPr/>
          </p:nvSpPr>
          <p:spPr>
            <a:xfrm>
              <a:off x="3839040" y="30999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Text Box 21"/>
            <p:cNvSpPr/>
            <p:nvPr/>
          </p:nvSpPr>
          <p:spPr>
            <a:xfrm>
              <a:off x="3839040" y="27104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Text Box 22"/>
            <p:cNvSpPr/>
            <p:nvPr/>
          </p:nvSpPr>
          <p:spPr>
            <a:xfrm>
              <a:off x="3839040" y="2321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Text Box 23"/>
            <p:cNvSpPr/>
            <p:nvPr/>
          </p:nvSpPr>
          <p:spPr>
            <a:xfrm>
              <a:off x="1623600" y="4432320"/>
              <a:ext cx="68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5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Text Box 24"/>
            <p:cNvSpPr/>
            <p:nvPr/>
          </p:nvSpPr>
          <p:spPr>
            <a:xfrm>
              <a:off x="2089800" y="4432320"/>
              <a:ext cx="68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4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25"/>
            <p:cNvSpPr/>
            <p:nvPr/>
          </p:nvSpPr>
          <p:spPr>
            <a:xfrm>
              <a:off x="2538720" y="4432320"/>
              <a:ext cx="68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3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26"/>
            <p:cNvSpPr/>
            <p:nvPr/>
          </p:nvSpPr>
          <p:spPr>
            <a:xfrm>
              <a:off x="2988000" y="4432320"/>
              <a:ext cx="68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2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27"/>
            <p:cNvSpPr/>
            <p:nvPr/>
          </p:nvSpPr>
          <p:spPr>
            <a:xfrm>
              <a:off x="3436560" y="4432320"/>
              <a:ext cx="68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1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 Box 28"/>
            <p:cNvSpPr/>
            <p:nvPr/>
          </p:nvSpPr>
          <p:spPr>
            <a:xfrm>
              <a:off x="3693240" y="6212160"/>
              <a:ext cx="68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5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29"/>
            <p:cNvSpPr/>
            <p:nvPr/>
          </p:nvSpPr>
          <p:spPr>
            <a:xfrm>
              <a:off x="3693240" y="5823000"/>
              <a:ext cx="68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4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30"/>
            <p:cNvSpPr/>
            <p:nvPr/>
          </p:nvSpPr>
          <p:spPr>
            <a:xfrm>
              <a:off x="3693240" y="5433480"/>
              <a:ext cx="68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3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31"/>
            <p:cNvSpPr/>
            <p:nvPr/>
          </p:nvSpPr>
          <p:spPr>
            <a:xfrm>
              <a:off x="3693240" y="5044320"/>
              <a:ext cx="68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2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32"/>
            <p:cNvSpPr/>
            <p:nvPr/>
          </p:nvSpPr>
          <p:spPr>
            <a:xfrm>
              <a:off x="3693240" y="4655160"/>
              <a:ext cx="68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1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Freeform 35"/>
          <p:cNvSpPr/>
          <p:nvPr/>
        </p:nvSpPr>
        <p:spPr>
          <a:xfrm flipV="1">
            <a:off x="1981080" y="4495680"/>
            <a:ext cx="4319640" cy="2849760"/>
          </a:xfrm>
          <a:custGeom>
            <a:avLst/>
            <a:gdLst/>
            <a:ahLst/>
            <a:rect l="l" t="t" r="r" b="b"/>
            <a:pathLst>
              <a:path w="1837" h="2922">
                <a:moveTo>
                  <a:pt x="0" y="18"/>
                </a:moveTo>
                <a:lnTo>
                  <a:pt x="6" y="60"/>
                </a:lnTo>
                <a:lnTo>
                  <a:pt x="12" y="102"/>
                </a:lnTo>
                <a:lnTo>
                  <a:pt x="24" y="144"/>
                </a:lnTo>
                <a:lnTo>
                  <a:pt x="30" y="186"/>
                </a:lnTo>
                <a:lnTo>
                  <a:pt x="36" y="228"/>
                </a:lnTo>
                <a:lnTo>
                  <a:pt x="42" y="270"/>
                </a:lnTo>
                <a:lnTo>
                  <a:pt x="48" y="312"/>
                </a:lnTo>
                <a:lnTo>
                  <a:pt x="54" y="354"/>
                </a:lnTo>
                <a:lnTo>
                  <a:pt x="60" y="396"/>
                </a:lnTo>
                <a:lnTo>
                  <a:pt x="72" y="432"/>
                </a:lnTo>
                <a:lnTo>
                  <a:pt x="78" y="474"/>
                </a:lnTo>
                <a:lnTo>
                  <a:pt x="84" y="516"/>
                </a:lnTo>
                <a:lnTo>
                  <a:pt x="90" y="552"/>
                </a:lnTo>
                <a:lnTo>
                  <a:pt x="96" y="594"/>
                </a:lnTo>
                <a:lnTo>
                  <a:pt x="102" y="630"/>
                </a:lnTo>
                <a:lnTo>
                  <a:pt x="108" y="672"/>
                </a:lnTo>
                <a:lnTo>
                  <a:pt x="120" y="708"/>
                </a:lnTo>
                <a:lnTo>
                  <a:pt x="126" y="744"/>
                </a:lnTo>
                <a:lnTo>
                  <a:pt x="132" y="780"/>
                </a:lnTo>
                <a:lnTo>
                  <a:pt x="138" y="822"/>
                </a:lnTo>
                <a:lnTo>
                  <a:pt x="144" y="858"/>
                </a:lnTo>
                <a:lnTo>
                  <a:pt x="150" y="894"/>
                </a:lnTo>
                <a:lnTo>
                  <a:pt x="156" y="930"/>
                </a:lnTo>
                <a:lnTo>
                  <a:pt x="168" y="966"/>
                </a:lnTo>
                <a:lnTo>
                  <a:pt x="174" y="1002"/>
                </a:lnTo>
                <a:lnTo>
                  <a:pt x="180" y="1038"/>
                </a:lnTo>
                <a:lnTo>
                  <a:pt x="186" y="1068"/>
                </a:lnTo>
                <a:lnTo>
                  <a:pt x="192" y="1104"/>
                </a:lnTo>
                <a:lnTo>
                  <a:pt x="198" y="1140"/>
                </a:lnTo>
                <a:lnTo>
                  <a:pt x="204" y="1170"/>
                </a:lnTo>
                <a:lnTo>
                  <a:pt x="216" y="1206"/>
                </a:lnTo>
                <a:lnTo>
                  <a:pt x="222" y="1242"/>
                </a:lnTo>
                <a:lnTo>
                  <a:pt x="228" y="1272"/>
                </a:lnTo>
                <a:lnTo>
                  <a:pt x="234" y="1302"/>
                </a:lnTo>
                <a:lnTo>
                  <a:pt x="240" y="1338"/>
                </a:lnTo>
                <a:lnTo>
                  <a:pt x="246" y="1368"/>
                </a:lnTo>
                <a:lnTo>
                  <a:pt x="252" y="1398"/>
                </a:lnTo>
                <a:lnTo>
                  <a:pt x="264" y="1434"/>
                </a:lnTo>
                <a:lnTo>
                  <a:pt x="270" y="1464"/>
                </a:lnTo>
                <a:lnTo>
                  <a:pt x="276" y="1494"/>
                </a:lnTo>
                <a:lnTo>
                  <a:pt x="282" y="1524"/>
                </a:lnTo>
                <a:lnTo>
                  <a:pt x="288" y="1554"/>
                </a:lnTo>
                <a:lnTo>
                  <a:pt x="294" y="1584"/>
                </a:lnTo>
                <a:lnTo>
                  <a:pt x="300" y="1614"/>
                </a:lnTo>
                <a:lnTo>
                  <a:pt x="312" y="1644"/>
                </a:lnTo>
                <a:lnTo>
                  <a:pt x="318" y="1668"/>
                </a:lnTo>
                <a:lnTo>
                  <a:pt x="324" y="1698"/>
                </a:lnTo>
                <a:lnTo>
                  <a:pt x="330" y="1728"/>
                </a:lnTo>
                <a:lnTo>
                  <a:pt x="336" y="1752"/>
                </a:lnTo>
                <a:lnTo>
                  <a:pt x="342" y="1782"/>
                </a:lnTo>
                <a:lnTo>
                  <a:pt x="348" y="1806"/>
                </a:lnTo>
                <a:lnTo>
                  <a:pt x="360" y="1836"/>
                </a:lnTo>
                <a:lnTo>
                  <a:pt x="366" y="1860"/>
                </a:lnTo>
                <a:lnTo>
                  <a:pt x="372" y="1890"/>
                </a:lnTo>
                <a:lnTo>
                  <a:pt x="378" y="1914"/>
                </a:lnTo>
                <a:lnTo>
                  <a:pt x="384" y="1938"/>
                </a:lnTo>
                <a:lnTo>
                  <a:pt x="390" y="1962"/>
                </a:lnTo>
                <a:lnTo>
                  <a:pt x="396" y="1986"/>
                </a:lnTo>
                <a:lnTo>
                  <a:pt x="408" y="2010"/>
                </a:lnTo>
                <a:lnTo>
                  <a:pt x="414" y="2040"/>
                </a:lnTo>
                <a:lnTo>
                  <a:pt x="420" y="2058"/>
                </a:lnTo>
                <a:lnTo>
                  <a:pt x="426" y="2082"/>
                </a:lnTo>
                <a:lnTo>
                  <a:pt x="432" y="2106"/>
                </a:lnTo>
                <a:lnTo>
                  <a:pt x="438" y="2130"/>
                </a:lnTo>
                <a:lnTo>
                  <a:pt x="444" y="2154"/>
                </a:lnTo>
                <a:lnTo>
                  <a:pt x="456" y="2172"/>
                </a:lnTo>
                <a:lnTo>
                  <a:pt x="462" y="2196"/>
                </a:lnTo>
                <a:lnTo>
                  <a:pt x="468" y="2220"/>
                </a:lnTo>
                <a:lnTo>
                  <a:pt x="474" y="2238"/>
                </a:lnTo>
                <a:lnTo>
                  <a:pt x="480" y="2262"/>
                </a:lnTo>
                <a:lnTo>
                  <a:pt x="486" y="2280"/>
                </a:lnTo>
                <a:lnTo>
                  <a:pt x="492" y="2304"/>
                </a:lnTo>
                <a:lnTo>
                  <a:pt x="504" y="2322"/>
                </a:lnTo>
                <a:lnTo>
                  <a:pt x="510" y="2340"/>
                </a:lnTo>
                <a:lnTo>
                  <a:pt x="516" y="2358"/>
                </a:lnTo>
                <a:lnTo>
                  <a:pt x="522" y="2376"/>
                </a:lnTo>
                <a:lnTo>
                  <a:pt x="528" y="2400"/>
                </a:lnTo>
                <a:lnTo>
                  <a:pt x="534" y="2418"/>
                </a:lnTo>
                <a:lnTo>
                  <a:pt x="540" y="2436"/>
                </a:lnTo>
                <a:lnTo>
                  <a:pt x="552" y="2454"/>
                </a:lnTo>
                <a:lnTo>
                  <a:pt x="558" y="2466"/>
                </a:lnTo>
                <a:lnTo>
                  <a:pt x="564" y="2484"/>
                </a:lnTo>
                <a:lnTo>
                  <a:pt x="570" y="2502"/>
                </a:lnTo>
                <a:lnTo>
                  <a:pt x="576" y="2520"/>
                </a:lnTo>
                <a:lnTo>
                  <a:pt x="582" y="2532"/>
                </a:lnTo>
                <a:lnTo>
                  <a:pt x="588" y="2550"/>
                </a:lnTo>
                <a:lnTo>
                  <a:pt x="600" y="2568"/>
                </a:lnTo>
                <a:lnTo>
                  <a:pt x="606" y="2580"/>
                </a:lnTo>
                <a:lnTo>
                  <a:pt x="612" y="2592"/>
                </a:lnTo>
                <a:lnTo>
                  <a:pt x="618" y="2610"/>
                </a:lnTo>
                <a:lnTo>
                  <a:pt x="624" y="2622"/>
                </a:lnTo>
                <a:lnTo>
                  <a:pt x="630" y="2640"/>
                </a:lnTo>
                <a:lnTo>
                  <a:pt x="636" y="2652"/>
                </a:lnTo>
                <a:lnTo>
                  <a:pt x="648" y="2664"/>
                </a:lnTo>
                <a:lnTo>
                  <a:pt x="654" y="2676"/>
                </a:lnTo>
                <a:lnTo>
                  <a:pt x="660" y="2688"/>
                </a:lnTo>
                <a:lnTo>
                  <a:pt x="666" y="2700"/>
                </a:lnTo>
                <a:lnTo>
                  <a:pt x="672" y="2712"/>
                </a:lnTo>
                <a:lnTo>
                  <a:pt x="678" y="2724"/>
                </a:lnTo>
                <a:lnTo>
                  <a:pt x="684" y="2736"/>
                </a:lnTo>
                <a:lnTo>
                  <a:pt x="696" y="2748"/>
                </a:lnTo>
                <a:lnTo>
                  <a:pt x="702" y="2754"/>
                </a:lnTo>
                <a:lnTo>
                  <a:pt x="708" y="2766"/>
                </a:lnTo>
                <a:lnTo>
                  <a:pt x="714" y="2778"/>
                </a:lnTo>
                <a:lnTo>
                  <a:pt x="720" y="2784"/>
                </a:lnTo>
                <a:lnTo>
                  <a:pt x="726" y="2796"/>
                </a:lnTo>
                <a:lnTo>
                  <a:pt x="732" y="2802"/>
                </a:lnTo>
                <a:lnTo>
                  <a:pt x="744" y="2814"/>
                </a:lnTo>
                <a:lnTo>
                  <a:pt x="750" y="2820"/>
                </a:lnTo>
                <a:lnTo>
                  <a:pt x="756" y="2826"/>
                </a:lnTo>
                <a:lnTo>
                  <a:pt x="762" y="2838"/>
                </a:lnTo>
                <a:lnTo>
                  <a:pt x="768" y="2844"/>
                </a:lnTo>
                <a:lnTo>
                  <a:pt x="774" y="2850"/>
                </a:lnTo>
                <a:lnTo>
                  <a:pt x="780" y="2856"/>
                </a:lnTo>
                <a:lnTo>
                  <a:pt x="792" y="2862"/>
                </a:lnTo>
                <a:lnTo>
                  <a:pt x="798" y="2868"/>
                </a:lnTo>
                <a:lnTo>
                  <a:pt x="804" y="2874"/>
                </a:lnTo>
                <a:lnTo>
                  <a:pt x="810" y="2880"/>
                </a:lnTo>
                <a:lnTo>
                  <a:pt x="816" y="2886"/>
                </a:lnTo>
                <a:lnTo>
                  <a:pt x="822" y="2892"/>
                </a:lnTo>
                <a:lnTo>
                  <a:pt x="828" y="2892"/>
                </a:lnTo>
                <a:lnTo>
                  <a:pt x="834" y="2898"/>
                </a:lnTo>
                <a:lnTo>
                  <a:pt x="846" y="2904"/>
                </a:lnTo>
                <a:lnTo>
                  <a:pt x="852" y="2904"/>
                </a:lnTo>
                <a:lnTo>
                  <a:pt x="858" y="2910"/>
                </a:lnTo>
                <a:lnTo>
                  <a:pt x="864" y="2910"/>
                </a:lnTo>
                <a:lnTo>
                  <a:pt x="870" y="2916"/>
                </a:lnTo>
                <a:lnTo>
                  <a:pt x="876" y="2916"/>
                </a:lnTo>
                <a:lnTo>
                  <a:pt x="882" y="2916"/>
                </a:lnTo>
                <a:lnTo>
                  <a:pt x="894" y="2916"/>
                </a:lnTo>
                <a:lnTo>
                  <a:pt x="900" y="2922"/>
                </a:lnTo>
                <a:lnTo>
                  <a:pt x="906" y="2922"/>
                </a:lnTo>
                <a:lnTo>
                  <a:pt x="912" y="2922"/>
                </a:lnTo>
                <a:lnTo>
                  <a:pt x="918" y="2922"/>
                </a:lnTo>
                <a:lnTo>
                  <a:pt x="925" y="2922"/>
                </a:lnTo>
                <a:lnTo>
                  <a:pt x="931" y="2922"/>
                </a:lnTo>
                <a:lnTo>
                  <a:pt x="943" y="2922"/>
                </a:lnTo>
                <a:lnTo>
                  <a:pt x="949" y="2916"/>
                </a:lnTo>
                <a:lnTo>
                  <a:pt x="955" y="2916"/>
                </a:lnTo>
                <a:lnTo>
                  <a:pt x="961" y="2916"/>
                </a:lnTo>
                <a:lnTo>
                  <a:pt x="967" y="2910"/>
                </a:lnTo>
                <a:lnTo>
                  <a:pt x="973" y="2910"/>
                </a:lnTo>
                <a:lnTo>
                  <a:pt x="979" y="2910"/>
                </a:lnTo>
                <a:lnTo>
                  <a:pt x="991" y="2904"/>
                </a:lnTo>
                <a:lnTo>
                  <a:pt x="997" y="2898"/>
                </a:lnTo>
                <a:lnTo>
                  <a:pt x="1003" y="2898"/>
                </a:lnTo>
                <a:lnTo>
                  <a:pt x="1009" y="2892"/>
                </a:lnTo>
                <a:lnTo>
                  <a:pt x="1015" y="2886"/>
                </a:lnTo>
                <a:lnTo>
                  <a:pt x="1021" y="2886"/>
                </a:lnTo>
                <a:lnTo>
                  <a:pt x="1027" y="2880"/>
                </a:lnTo>
                <a:lnTo>
                  <a:pt x="1039" y="2874"/>
                </a:lnTo>
                <a:lnTo>
                  <a:pt x="1045" y="2868"/>
                </a:lnTo>
                <a:lnTo>
                  <a:pt x="1051" y="2862"/>
                </a:lnTo>
                <a:lnTo>
                  <a:pt x="1057" y="2856"/>
                </a:lnTo>
                <a:lnTo>
                  <a:pt x="1063" y="2850"/>
                </a:lnTo>
                <a:lnTo>
                  <a:pt x="1069" y="2844"/>
                </a:lnTo>
                <a:lnTo>
                  <a:pt x="1075" y="2832"/>
                </a:lnTo>
                <a:lnTo>
                  <a:pt x="1087" y="2826"/>
                </a:lnTo>
                <a:lnTo>
                  <a:pt x="1093" y="2820"/>
                </a:lnTo>
                <a:lnTo>
                  <a:pt x="1099" y="2808"/>
                </a:lnTo>
                <a:lnTo>
                  <a:pt x="1105" y="2802"/>
                </a:lnTo>
                <a:lnTo>
                  <a:pt x="1111" y="2790"/>
                </a:lnTo>
                <a:lnTo>
                  <a:pt x="1117" y="2784"/>
                </a:lnTo>
                <a:lnTo>
                  <a:pt x="1123" y="2772"/>
                </a:lnTo>
                <a:lnTo>
                  <a:pt x="1135" y="2766"/>
                </a:lnTo>
                <a:lnTo>
                  <a:pt x="1141" y="2754"/>
                </a:lnTo>
                <a:lnTo>
                  <a:pt x="1147" y="2742"/>
                </a:lnTo>
                <a:lnTo>
                  <a:pt x="1153" y="2730"/>
                </a:lnTo>
                <a:lnTo>
                  <a:pt x="1159" y="2718"/>
                </a:lnTo>
                <a:lnTo>
                  <a:pt x="1165" y="2706"/>
                </a:lnTo>
                <a:lnTo>
                  <a:pt x="1171" y="2694"/>
                </a:lnTo>
                <a:lnTo>
                  <a:pt x="1183" y="2682"/>
                </a:lnTo>
                <a:lnTo>
                  <a:pt x="1189" y="2670"/>
                </a:lnTo>
                <a:lnTo>
                  <a:pt x="1195" y="2658"/>
                </a:lnTo>
                <a:lnTo>
                  <a:pt x="1201" y="2646"/>
                </a:lnTo>
                <a:lnTo>
                  <a:pt x="1207" y="2634"/>
                </a:lnTo>
                <a:lnTo>
                  <a:pt x="1213" y="2616"/>
                </a:lnTo>
                <a:lnTo>
                  <a:pt x="1219" y="2604"/>
                </a:lnTo>
                <a:lnTo>
                  <a:pt x="1231" y="2592"/>
                </a:lnTo>
                <a:lnTo>
                  <a:pt x="1237" y="2574"/>
                </a:lnTo>
                <a:lnTo>
                  <a:pt x="1243" y="2562"/>
                </a:lnTo>
                <a:lnTo>
                  <a:pt x="1249" y="2544"/>
                </a:lnTo>
                <a:lnTo>
                  <a:pt x="1255" y="2526"/>
                </a:lnTo>
                <a:lnTo>
                  <a:pt x="1261" y="2514"/>
                </a:lnTo>
                <a:lnTo>
                  <a:pt x="1267" y="2496"/>
                </a:lnTo>
                <a:lnTo>
                  <a:pt x="1279" y="2478"/>
                </a:lnTo>
                <a:lnTo>
                  <a:pt x="1285" y="2460"/>
                </a:lnTo>
                <a:lnTo>
                  <a:pt x="1291" y="2442"/>
                </a:lnTo>
                <a:lnTo>
                  <a:pt x="1297" y="2430"/>
                </a:lnTo>
                <a:lnTo>
                  <a:pt x="1303" y="2412"/>
                </a:lnTo>
                <a:lnTo>
                  <a:pt x="1309" y="2388"/>
                </a:lnTo>
                <a:lnTo>
                  <a:pt x="1315" y="2370"/>
                </a:lnTo>
                <a:lnTo>
                  <a:pt x="1327" y="2352"/>
                </a:lnTo>
                <a:lnTo>
                  <a:pt x="1333" y="2334"/>
                </a:lnTo>
                <a:lnTo>
                  <a:pt x="1339" y="2316"/>
                </a:lnTo>
                <a:lnTo>
                  <a:pt x="1345" y="2292"/>
                </a:lnTo>
                <a:lnTo>
                  <a:pt x="1351" y="2274"/>
                </a:lnTo>
                <a:lnTo>
                  <a:pt x="1357" y="2250"/>
                </a:lnTo>
                <a:lnTo>
                  <a:pt x="1363" y="2232"/>
                </a:lnTo>
                <a:lnTo>
                  <a:pt x="1375" y="2208"/>
                </a:lnTo>
                <a:lnTo>
                  <a:pt x="1381" y="2190"/>
                </a:lnTo>
                <a:lnTo>
                  <a:pt x="1387" y="2166"/>
                </a:lnTo>
                <a:lnTo>
                  <a:pt x="1393" y="2142"/>
                </a:lnTo>
                <a:lnTo>
                  <a:pt x="1399" y="2124"/>
                </a:lnTo>
                <a:lnTo>
                  <a:pt x="1405" y="2100"/>
                </a:lnTo>
                <a:lnTo>
                  <a:pt x="1411" y="2076"/>
                </a:lnTo>
                <a:lnTo>
                  <a:pt x="1423" y="2052"/>
                </a:lnTo>
                <a:lnTo>
                  <a:pt x="1429" y="2028"/>
                </a:lnTo>
                <a:lnTo>
                  <a:pt x="1435" y="2004"/>
                </a:lnTo>
                <a:lnTo>
                  <a:pt x="1441" y="1980"/>
                </a:lnTo>
                <a:lnTo>
                  <a:pt x="1447" y="1956"/>
                </a:lnTo>
                <a:lnTo>
                  <a:pt x="1453" y="1932"/>
                </a:lnTo>
                <a:lnTo>
                  <a:pt x="1459" y="1902"/>
                </a:lnTo>
                <a:lnTo>
                  <a:pt x="1471" y="1878"/>
                </a:lnTo>
                <a:lnTo>
                  <a:pt x="1477" y="1854"/>
                </a:lnTo>
                <a:lnTo>
                  <a:pt x="1483" y="1824"/>
                </a:lnTo>
                <a:lnTo>
                  <a:pt x="1489" y="1800"/>
                </a:lnTo>
                <a:lnTo>
                  <a:pt x="1495" y="1770"/>
                </a:lnTo>
                <a:lnTo>
                  <a:pt x="1501" y="1746"/>
                </a:lnTo>
                <a:lnTo>
                  <a:pt x="1507" y="1716"/>
                </a:lnTo>
                <a:lnTo>
                  <a:pt x="1519" y="1686"/>
                </a:lnTo>
                <a:lnTo>
                  <a:pt x="1525" y="1662"/>
                </a:lnTo>
                <a:lnTo>
                  <a:pt x="1531" y="1632"/>
                </a:lnTo>
                <a:lnTo>
                  <a:pt x="1537" y="1602"/>
                </a:lnTo>
                <a:lnTo>
                  <a:pt x="1543" y="1572"/>
                </a:lnTo>
                <a:lnTo>
                  <a:pt x="1549" y="1542"/>
                </a:lnTo>
                <a:lnTo>
                  <a:pt x="1555" y="1512"/>
                </a:lnTo>
                <a:lnTo>
                  <a:pt x="1567" y="1482"/>
                </a:lnTo>
                <a:lnTo>
                  <a:pt x="1573" y="1452"/>
                </a:lnTo>
                <a:lnTo>
                  <a:pt x="1579" y="1422"/>
                </a:lnTo>
                <a:lnTo>
                  <a:pt x="1585" y="1392"/>
                </a:lnTo>
                <a:lnTo>
                  <a:pt x="1591" y="1356"/>
                </a:lnTo>
                <a:lnTo>
                  <a:pt x="1597" y="1326"/>
                </a:lnTo>
                <a:lnTo>
                  <a:pt x="1603" y="1296"/>
                </a:lnTo>
                <a:lnTo>
                  <a:pt x="1615" y="1260"/>
                </a:lnTo>
                <a:lnTo>
                  <a:pt x="1621" y="1230"/>
                </a:lnTo>
                <a:lnTo>
                  <a:pt x="1627" y="1194"/>
                </a:lnTo>
                <a:lnTo>
                  <a:pt x="1633" y="1158"/>
                </a:lnTo>
                <a:lnTo>
                  <a:pt x="1639" y="1128"/>
                </a:lnTo>
                <a:lnTo>
                  <a:pt x="1645" y="1092"/>
                </a:lnTo>
                <a:lnTo>
                  <a:pt x="1651" y="1056"/>
                </a:lnTo>
                <a:lnTo>
                  <a:pt x="1663" y="1026"/>
                </a:lnTo>
                <a:lnTo>
                  <a:pt x="1669" y="990"/>
                </a:lnTo>
                <a:lnTo>
                  <a:pt x="1675" y="954"/>
                </a:lnTo>
                <a:lnTo>
                  <a:pt x="1681" y="918"/>
                </a:lnTo>
                <a:lnTo>
                  <a:pt x="1687" y="882"/>
                </a:lnTo>
                <a:lnTo>
                  <a:pt x="1693" y="846"/>
                </a:lnTo>
                <a:lnTo>
                  <a:pt x="1699" y="804"/>
                </a:lnTo>
                <a:lnTo>
                  <a:pt x="1711" y="768"/>
                </a:lnTo>
                <a:lnTo>
                  <a:pt x="1717" y="732"/>
                </a:lnTo>
                <a:lnTo>
                  <a:pt x="1723" y="696"/>
                </a:lnTo>
                <a:lnTo>
                  <a:pt x="1729" y="654"/>
                </a:lnTo>
                <a:lnTo>
                  <a:pt x="1735" y="618"/>
                </a:lnTo>
                <a:lnTo>
                  <a:pt x="1741" y="576"/>
                </a:lnTo>
                <a:lnTo>
                  <a:pt x="1747" y="540"/>
                </a:lnTo>
                <a:lnTo>
                  <a:pt x="1759" y="498"/>
                </a:lnTo>
                <a:lnTo>
                  <a:pt x="1765" y="462"/>
                </a:lnTo>
                <a:lnTo>
                  <a:pt x="1771" y="420"/>
                </a:lnTo>
                <a:lnTo>
                  <a:pt x="1777" y="378"/>
                </a:lnTo>
                <a:lnTo>
                  <a:pt x="1783" y="342"/>
                </a:lnTo>
                <a:lnTo>
                  <a:pt x="1789" y="300"/>
                </a:lnTo>
                <a:lnTo>
                  <a:pt x="1795" y="258"/>
                </a:lnTo>
                <a:lnTo>
                  <a:pt x="1807" y="216"/>
                </a:lnTo>
                <a:lnTo>
                  <a:pt x="1813" y="174"/>
                </a:lnTo>
                <a:lnTo>
                  <a:pt x="1819" y="132"/>
                </a:lnTo>
                <a:lnTo>
                  <a:pt x="1825" y="90"/>
                </a:lnTo>
                <a:lnTo>
                  <a:pt x="1831" y="42"/>
                </a:lnTo>
                <a:lnTo>
                  <a:pt x="1837" y="0"/>
                </a:lnTo>
              </a:path>
            </a:pathLst>
          </a:cu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Object 36" descr=""/>
          <p:cNvPicPr/>
          <p:nvPr/>
        </p:nvPicPr>
        <p:blipFill>
          <a:blip r:embed="rId5"/>
          <a:stretch/>
        </p:blipFill>
        <p:spPr>
          <a:xfrm>
            <a:off x="6443640" y="5497560"/>
            <a:ext cx="1657440" cy="1027080"/>
          </a:xfrm>
          <a:prstGeom prst="rect">
            <a:avLst/>
          </a:prstGeom>
          <a:ln w="0">
            <a:noFill/>
          </a:ln>
        </p:spPr>
      </p:pic>
      <p:pic>
        <p:nvPicPr>
          <p:cNvPr id="253" name="Object 37" descr=""/>
          <p:cNvPicPr/>
          <p:nvPr/>
        </p:nvPicPr>
        <p:blipFill>
          <a:blip r:embed="rId6"/>
          <a:stretch/>
        </p:blipFill>
        <p:spPr>
          <a:xfrm>
            <a:off x="6691320" y="4648320"/>
            <a:ext cx="2452680" cy="1027080"/>
          </a:xfrm>
          <a:prstGeom prst="rect">
            <a:avLst/>
          </a:prstGeom>
          <a:ln w="0">
            <a:noFill/>
          </a:ln>
        </p:spPr>
      </p:pic>
      <p:pic>
        <p:nvPicPr>
          <p:cNvPr id="254" name="Object 38" descr=""/>
          <p:cNvPicPr/>
          <p:nvPr/>
        </p:nvPicPr>
        <p:blipFill>
          <a:blip r:embed="rId7"/>
          <a:stretch/>
        </p:blipFill>
        <p:spPr>
          <a:xfrm>
            <a:off x="-225360" y="4572000"/>
            <a:ext cx="2449440" cy="1027080"/>
          </a:xfrm>
          <a:prstGeom prst="rect">
            <a:avLst/>
          </a:prstGeom>
          <a:ln w="0">
            <a:noFill/>
          </a:ln>
        </p:spPr>
      </p:pic>
      <p:grpSp>
        <p:nvGrpSpPr>
          <p:cNvPr id="255" name="Group 43"/>
          <p:cNvGrpSpPr/>
          <p:nvPr/>
        </p:nvGrpSpPr>
        <p:grpSpPr>
          <a:xfrm>
            <a:off x="1981080" y="3048120"/>
            <a:ext cx="4319640" cy="4289040"/>
            <a:chOff x="1981080" y="3048120"/>
            <a:chExt cx="4319640" cy="4289040"/>
          </a:xfrm>
        </p:grpSpPr>
        <p:sp>
          <p:nvSpPr>
            <p:cNvPr id="256" name="Freeform 44"/>
            <p:cNvSpPr/>
            <p:nvPr/>
          </p:nvSpPr>
          <p:spPr>
            <a:xfrm flipV="1">
              <a:off x="1981080" y="4487400"/>
              <a:ext cx="4319640" cy="2849400"/>
            </a:xfrm>
            <a:custGeom>
              <a:avLst/>
              <a:gdLst/>
              <a:ahLst/>
              <a:rect l="l" t="t" r="r" b="b"/>
              <a:pathLst>
                <a:path w="1837" h="2922">
                  <a:moveTo>
                    <a:pt x="0" y="18"/>
                  </a:moveTo>
                  <a:lnTo>
                    <a:pt x="6" y="60"/>
                  </a:lnTo>
                  <a:lnTo>
                    <a:pt x="12" y="102"/>
                  </a:lnTo>
                  <a:lnTo>
                    <a:pt x="24" y="144"/>
                  </a:lnTo>
                  <a:lnTo>
                    <a:pt x="30" y="186"/>
                  </a:lnTo>
                  <a:lnTo>
                    <a:pt x="36" y="228"/>
                  </a:lnTo>
                  <a:lnTo>
                    <a:pt x="42" y="270"/>
                  </a:lnTo>
                  <a:lnTo>
                    <a:pt x="48" y="312"/>
                  </a:lnTo>
                  <a:lnTo>
                    <a:pt x="54" y="354"/>
                  </a:lnTo>
                  <a:lnTo>
                    <a:pt x="60" y="396"/>
                  </a:lnTo>
                  <a:lnTo>
                    <a:pt x="72" y="432"/>
                  </a:lnTo>
                  <a:lnTo>
                    <a:pt x="78" y="474"/>
                  </a:lnTo>
                  <a:lnTo>
                    <a:pt x="84" y="516"/>
                  </a:lnTo>
                  <a:lnTo>
                    <a:pt x="90" y="552"/>
                  </a:lnTo>
                  <a:lnTo>
                    <a:pt x="96" y="594"/>
                  </a:lnTo>
                  <a:lnTo>
                    <a:pt x="102" y="630"/>
                  </a:lnTo>
                  <a:lnTo>
                    <a:pt x="108" y="672"/>
                  </a:lnTo>
                  <a:lnTo>
                    <a:pt x="120" y="708"/>
                  </a:lnTo>
                  <a:lnTo>
                    <a:pt x="126" y="744"/>
                  </a:lnTo>
                  <a:lnTo>
                    <a:pt x="132" y="780"/>
                  </a:lnTo>
                  <a:lnTo>
                    <a:pt x="138" y="822"/>
                  </a:lnTo>
                  <a:lnTo>
                    <a:pt x="144" y="858"/>
                  </a:lnTo>
                  <a:lnTo>
                    <a:pt x="150" y="894"/>
                  </a:lnTo>
                  <a:lnTo>
                    <a:pt x="156" y="930"/>
                  </a:lnTo>
                  <a:lnTo>
                    <a:pt x="168" y="966"/>
                  </a:lnTo>
                  <a:lnTo>
                    <a:pt x="174" y="1002"/>
                  </a:lnTo>
                  <a:lnTo>
                    <a:pt x="180" y="1038"/>
                  </a:lnTo>
                  <a:lnTo>
                    <a:pt x="186" y="1068"/>
                  </a:lnTo>
                  <a:lnTo>
                    <a:pt x="192" y="1104"/>
                  </a:lnTo>
                  <a:lnTo>
                    <a:pt x="198" y="1140"/>
                  </a:lnTo>
                  <a:lnTo>
                    <a:pt x="204" y="1170"/>
                  </a:lnTo>
                  <a:lnTo>
                    <a:pt x="216" y="1206"/>
                  </a:lnTo>
                  <a:lnTo>
                    <a:pt x="222" y="1242"/>
                  </a:lnTo>
                  <a:lnTo>
                    <a:pt x="228" y="1272"/>
                  </a:lnTo>
                  <a:lnTo>
                    <a:pt x="234" y="1302"/>
                  </a:lnTo>
                  <a:lnTo>
                    <a:pt x="240" y="1338"/>
                  </a:lnTo>
                  <a:lnTo>
                    <a:pt x="246" y="1368"/>
                  </a:lnTo>
                  <a:lnTo>
                    <a:pt x="252" y="1398"/>
                  </a:lnTo>
                  <a:lnTo>
                    <a:pt x="264" y="1434"/>
                  </a:lnTo>
                  <a:lnTo>
                    <a:pt x="270" y="1464"/>
                  </a:lnTo>
                  <a:lnTo>
                    <a:pt x="276" y="1494"/>
                  </a:lnTo>
                  <a:lnTo>
                    <a:pt x="282" y="1524"/>
                  </a:lnTo>
                  <a:lnTo>
                    <a:pt x="288" y="1554"/>
                  </a:lnTo>
                  <a:lnTo>
                    <a:pt x="294" y="1584"/>
                  </a:lnTo>
                  <a:lnTo>
                    <a:pt x="300" y="1614"/>
                  </a:lnTo>
                  <a:lnTo>
                    <a:pt x="312" y="1644"/>
                  </a:lnTo>
                  <a:lnTo>
                    <a:pt x="318" y="1668"/>
                  </a:lnTo>
                  <a:lnTo>
                    <a:pt x="324" y="1698"/>
                  </a:lnTo>
                  <a:lnTo>
                    <a:pt x="330" y="1728"/>
                  </a:lnTo>
                  <a:lnTo>
                    <a:pt x="336" y="1752"/>
                  </a:lnTo>
                  <a:lnTo>
                    <a:pt x="342" y="1782"/>
                  </a:lnTo>
                  <a:lnTo>
                    <a:pt x="348" y="1806"/>
                  </a:lnTo>
                  <a:lnTo>
                    <a:pt x="360" y="1836"/>
                  </a:lnTo>
                  <a:lnTo>
                    <a:pt x="366" y="1860"/>
                  </a:lnTo>
                  <a:lnTo>
                    <a:pt x="372" y="1890"/>
                  </a:lnTo>
                  <a:lnTo>
                    <a:pt x="378" y="1914"/>
                  </a:lnTo>
                  <a:lnTo>
                    <a:pt x="384" y="1938"/>
                  </a:lnTo>
                  <a:lnTo>
                    <a:pt x="390" y="1962"/>
                  </a:lnTo>
                  <a:lnTo>
                    <a:pt x="396" y="1986"/>
                  </a:lnTo>
                  <a:lnTo>
                    <a:pt x="408" y="2010"/>
                  </a:lnTo>
                  <a:lnTo>
                    <a:pt x="414" y="2040"/>
                  </a:lnTo>
                  <a:lnTo>
                    <a:pt x="420" y="2058"/>
                  </a:lnTo>
                  <a:lnTo>
                    <a:pt x="426" y="2082"/>
                  </a:lnTo>
                  <a:lnTo>
                    <a:pt x="432" y="2106"/>
                  </a:lnTo>
                  <a:lnTo>
                    <a:pt x="438" y="2130"/>
                  </a:lnTo>
                  <a:lnTo>
                    <a:pt x="444" y="2154"/>
                  </a:lnTo>
                  <a:lnTo>
                    <a:pt x="456" y="2172"/>
                  </a:lnTo>
                  <a:lnTo>
                    <a:pt x="462" y="2196"/>
                  </a:lnTo>
                  <a:lnTo>
                    <a:pt x="468" y="2220"/>
                  </a:lnTo>
                  <a:lnTo>
                    <a:pt x="474" y="2238"/>
                  </a:lnTo>
                  <a:lnTo>
                    <a:pt x="480" y="2262"/>
                  </a:lnTo>
                  <a:lnTo>
                    <a:pt x="486" y="2280"/>
                  </a:lnTo>
                  <a:lnTo>
                    <a:pt x="492" y="2304"/>
                  </a:lnTo>
                  <a:lnTo>
                    <a:pt x="504" y="2322"/>
                  </a:lnTo>
                  <a:lnTo>
                    <a:pt x="510" y="2340"/>
                  </a:lnTo>
                  <a:lnTo>
                    <a:pt x="516" y="2358"/>
                  </a:lnTo>
                  <a:lnTo>
                    <a:pt x="522" y="2376"/>
                  </a:lnTo>
                  <a:lnTo>
                    <a:pt x="528" y="2400"/>
                  </a:lnTo>
                  <a:lnTo>
                    <a:pt x="534" y="2418"/>
                  </a:lnTo>
                  <a:lnTo>
                    <a:pt x="540" y="2436"/>
                  </a:lnTo>
                  <a:lnTo>
                    <a:pt x="552" y="2454"/>
                  </a:lnTo>
                  <a:lnTo>
                    <a:pt x="558" y="2466"/>
                  </a:lnTo>
                  <a:lnTo>
                    <a:pt x="564" y="2484"/>
                  </a:lnTo>
                  <a:lnTo>
                    <a:pt x="570" y="2502"/>
                  </a:lnTo>
                  <a:lnTo>
                    <a:pt x="576" y="2520"/>
                  </a:lnTo>
                  <a:lnTo>
                    <a:pt x="582" y="2532"/>
                  </a:lnTo>
                  <a:lnTo>
                    <a:pt x="588" y="2550"/>
                  </a:lnTo>
                  <a:lnTo>
                    <a:pt x="600" y="2568"/>
                  </a:lnTo>
                  <a:lnTo>
                    <a:pt x="606" y="2580"/>
                  </a:lnTo>
                  <a:lnTo>
                    <a:pt x="612" y="2592"/>
                  </a:lnTo>
                  <a:lnTo>
                    <a:pt x="618" y="2610"/>
                  </a:lnTo>
                  <a:lnTo>
                    <a:pt x="624" y="2622"/>
                  </a:lnTo>
                  <a:lnTo>
                    <a:pt x="630" y="2640"/>
                  </a:lnTo>
                  <a:lnTo>
                    <a:pt x="636" y="2652"/>
                  </a:lnTo>
                  <a:lnTo>
                    <a:pt x="648" y="2664"/>
                  </a:lnTo>
                  <a:lnTo>
                    <a:pt x="654" y="2676"/>
                  </a:lnTo>
                  <a:lnTo>
                    <a:pt x="660" y="2688"/>
                  </a:lnTo>
                  <a:lnTo>
                    <a:pt x="666" y="2700"/>
                  </a:lnTo>
                  <a:lnTo>
                    <a:pt x="672" y="2712"/>
                  </a:lnTo>
                  <a:lnTo>
                    <a:pt x="678" y="2724"/>
                  </a:lnTo>
                  <a:lnTo>
                    <a:pt x="684" y="2736"/>
                  </a:lnTo>
                  <a:lnTo>
                    <a:pt x="696" y="2748"/>
                  </a:lnTo>
                  <a:lnTo>
                    <a:pt x="702" y="2754"/>
                  </a:lnTo>
                  <a:lnTo>
                    <a:pt x="708" y="2766"/>
                  </a:lnTo>
                  <a:lnTo>
                    <a:pt x="714" y="2778"/>
                  </a:lnTo>
                  <a:lnTo>
                    <a:pt x="720" y="2784"/>
                  </a:lnTo>
                  <a:lnTo>
                    <a:pt x="726" y="2796"/>
                  </a:lnTo>
                  <a:lnTo>
                    <a:pt x="732" y="2802"/>
                  </a:lnTo>
                  <a:lnTo>
                    <a:pt x="744" y="2814"/>
                  </a:lnTo>
                  <a:lnTo>
                    <a:pt x="750" y="2820"/>
                  </a:lnTo>
                  <a:lnTo>
                    <a:pt x="756" y="2826"/>
                  </a:lnTo>
                  <a:lnTo>
                    <a:pt x="762" y="2838"/>
                  </a:lnTo>
                  <a:lnTo>
                    <a:pt x="768" y="2844"/>
                  </a:lnTo>
                  <a:lnTo>
                    <a:pt x="774" y="2850"/>
                  </a:lnTo>
                  <a:lnTo>
                    <a:pt x="780" y="2856"/>
                  </a:lnTo>
                  <a:lnTo>
                    <a:pt x="792" y="2862"/>
                  </a:lnTo>
                  <a:lnTo>
                    <a:pt x="798" y="2868"/>
                  </a:lnTo>
                  <a:lnTo>
                    <a:pt x="804" y="2874"/>
                  </a:lnTo>
                  <a:lnTo>
                    <a:pt x="810" y="2880"/>
                  </a:lnTo>
                  <a:lnTo>
                    <a:pt x="816" y="2886"/>
                  </a:lnTo>
                  <a:lnTo>
                    <a:pt x="822" y="2892"/>
                  </a:lnTo>
                  <a:lnTo>
                    <a:pt x="828" y="2892"/>
                  </a:lnTo>
                  <a:lnTo>
                    <a:pt x="834" y="2898"/>
                  </a:lnTo>
                  <a:lnTo>
                    <a:pt x="846" y="2904"/>
                  </a:lnTo>
                  <a:lnTo>
                    <a:pt x="852" y="2904"/>
                  </a:lnTo>
                  <a:lnTo>
                    <a:pt x="858" y="2910"/>
                  </a:lnTo>
                  <a:lnTo>
                    <a:pt x="864" y="2910"/>
                  </a:lnTo>
                  <a:lnTo>
                    <a:pt x="870" y="2916"/>
                  </a:lnTo>
                  <a:lnTo>
                    <a:pt x="876" y="2916"/>
                  </a:lnTo>
                  <a:lnTo>
                    <a:pt x="882" y="2916"/>
                  </a:lnTo>
                  <a:lnTo>
                    <a:pt x="894" y="2916"/>
                  </a:lnTo>
                  <a:lnTo>
                    <a:pt x="900" y="2922"/>
                  </a:lnTo>
                  <a:lnTo>
                    <a:pt x="906" y="2922"/>
                  </a:lnTo>
                  <a:lnTo>
                    <a:pt x="912" y="2922"/>
                  </a:lnTo>
                  <a:lnTo>
                    <a:pt x="918" y="2922"/>
                  </a:lnTo>
                  <a:lnTo>
                    <a:pt x="925" y="2922"/>
                  </a:lnTo>
                  <a:lnTo>
                    <a:pt x="931" y="2922"/>
                  </a:lnTo>
                  <a:lnTo>
                    <a:pt x="943" y="2922"/>
                  </a:lnTo>
                  <a:lnTo>
                    <a:pt x="949" y="2916"/>
                  </a:lnTo>
                  <a:lnTo>
                    <a:pt x="955" y="2916"/>
                  </a:lnTo>
                  <a:lnTo>
                    <a:pt x="961" y="2916"/>
                  </a:lnTo>
                  <a:lnTo>
                    <a:pt x="967" y="2910"/>
                  </a:lnTo>
                  <a:lnTo>
                    <a:pt x="973" y="2910"/>
                  </a:lnTo>
                  <a:lnTo>
                    <a:pt x="979" y="2910"/>
                  </a:lnTo>
                  <a:lnTo>
                    <a:pt x="991" y="2904"/>
                  </a:lnTo>
                  <a:lnTo>
                    <a:pt x="997" y="2898"/>
                  </a:lnTo>
                  <a:lnTo>
                    <a:pt x="1003" y="2898"/>
                  </a:lnTo>
                  <a:lnTo>
                    <a:pt x="1009" y="2892"/>
                  </a:lnTo>
                  <a:lnTo>
                    <a:pt x="1015" y="2886"/>
                  </a:lnTo>
                  <a:lnTo>
                    <a:pt x="1021" y="2886"/>
                  </a:lnTo>
                  <a:lnTo>
                    <a:pt x="1027" y="2880"/>
                  </a:lnTo>
                  <a:lnTo>
                    <a:pt x="1039" y="2874"/>
                  </a:lnTo>
                  <a:lnTo>
                    <a:pt x="1045" y="2868"/>
                  </a:lnTo>
                  <a:lnTo>
                    <a:pt x="1051" y="2862"/>
                  </a:lnTo>
                  <a:lnTo>
                    <a:pt x="1057" y="2856"/>
                  </a:lnTo>
                  <a:lnTo>
                    <a:pt x="1063" y="2850"/>
                  </a:lnTo>
                  <a:lnTo>
                    <a:pt x="1069" y="2844"/>
                  </a:lnTo>
                  <a:lnTo>
                    <a:pt x="1075" y="2832"/>
                  </a:lnTo>
                  <a:lnTo>
                    <a:pt x="1087" y="2826"/>
                  </a:lnTo>
                  <a:lnTo>
                    <a:pt x="1093" y="2820"/>
                  </a:lnTo>
                  <a:lnTo>
                    <a:pt x="1099" y="2808"/>
                  </a:lnTo>
                  <a:lnTo>
                    <a:pt x="1105" y="2802"/>
                  </a:lnTo>
                  <a:lnTo>
                    <a:pt x="1111" y="2790"/>
                  </a:lnTo>
                  <a:lnTo>
                    <a:pt x="1117" y="2784"/>
                  </a:lnTo>
                  <a:lnTo>
                    <a:pt x="1123" y="2772"/>
                  </a:lnTo>
                  <a:lnTo>
                    <a:pt x="1135" y="2766"/>
                  </a:lnTo>
                  <a:lnTo>
                    <a:pt x="1141" y="2754"/>
                  </a:lnTo>
                  <a:lnTo>
                    <a:pt x="1147" y="2742"/>
                  </a:lnTo>
                  <a:lnTo>
                    <a:pt x="1153" y="2730"/>
                  </a:lnTo>
                  <a:lnTo>
                    <a:pt x="1159" y="2718"/>
                  </a:lnTo>
                  <a:lnTo>
                    <a:pt x="1165" y="2706"/>
                  </a:lnTo>
                  <a:lnTo>
                    <a:pt x="1171" y="2694"/>
                  </a:lnTo>
                  <a:lnTo>
                    <a:pt x="1183" y="2682"/>
                  </a:lnTo>
                  <a:lnTo>
                    <a:pt x="1189" y="2670"/>
                  </a:lnTo>
                  <a:lnTo>
                    <a:pt x="1195" y="2658"/>
                  </a:lnTo>
                  <a:lnTo>
                    <a:pt x="1201" y="2646"/>
                  </a:lnTo>
                  <a:lnTo>
                    <a:pt x="1207" y="2634"/>
                  </a:lnTo>
                  <a:lnTo>
                    <a:pt x="1213" y="2616"/>
                  </a:lnTo>
                  <a:lnTo>
                    <a:pt x="1219" y="2604"/>
                  </a:lnTo>
                  <a:lnTo>
                    <a:pt x="1231" y="2592"/>
                  </a:lnTo>
                  <a:lnTo>
                    <a:pt x="1237" y="2574"/>
                  </a:lnTo>
                  <a:lnTo>
                    <a:pt x="1243" y="2562"/>
                  </a:lnTo>
                  <a:lnTo>
                    <a:pt x="1249" y="2544"/>
                  </a:lnTo>
                  <a:lnTo>
                    <a:pt x="1255" y="2526"/>
                  </a:lnTo>
                  <a:lnTo>
                    <a:pt x="1261" y="2514"/>
                  </a:lnTo>
                  <a:lnTo>
                    <a:pt x="1267" y="2496"/>
                  </a:lnTo>
                  <a:lnTo>
                    <a:pt x="1279" y="2478"/>
                  </a:lnTo>
                  <a:lnTo>
                    <a:pt x="1285" y="2460"/>
                  </a:lnTo>
                  <a:lnTo>
                    <a:pt x="1291" y="2442"/>
                  </a:lnTo>
                  <a:lnTo>
                    <a:pt x="1297" y="2430"/>
                  </a:lnTo>
                  <a:lnTo>
                    <a:pt x="1303" y="2412"/>
                  </a:lnTo>
                  <a:lnTo>
                    <a:pt x="1309" y="2388"/>
                  </a:lnTo>
                  <a:lnTo>
                    <a:pt x="1315" y="2370"/>
                  </a:lnTo>
                  <a:lnTo>
                    <a:pt x="1327" y="2352"/>
                  </a:lnTo>
                  <a:lnTo>
                    <a:pt x="1333" y="2334"/>
                  </a:lnTo>
                  <a:lnTo>
                    <a:pt x="1339" y="2316"/>
                  </a:lnTo>
                  <a:lnTo>
                    <a:pt x="1345" y="2292"/>
                  </a:lnTo>
                  <a:lnTo>
                    <a:pt x="1351" y="2274"/>
                  </a:lnTo>
                  <a:lnTo>
                    <a:pt x="1357" y="2250"/>
                  </a:lnTo>
                  <a:lnTo>
                    <a:pt x="1363" y="2232"/>
                  </a:lnTo>
                  <a:lnTo>
                    <a:pt x="1375" y="2208"/>
                  </a:lnTo>
                  <a:lnTo>
                    <a:pt x="1381" y="2190"/>
                  </a:lnTo>
                  <a:lnTo>
                    <a:pt x="1387" y="2166"/>
                  </a:lnTo>
                  <a:lnTo>
                    <a:pt x="1393" y="2142"/>
                  </a:lnTo>
                  <a:lnTo>
                    <a:pt x="1399" y="2124"/>
                  </a:lnTo>
                  <a:lnTo>
                    <a:pt x="1405" y="2100"/>
                  </a:lnTo>
                  <a:lnTo>
                    <a:pt x="1411" y="2076"/>
                  </a:lnTo>
                  <a:lnTo>
                    <a:pt x="1423" y="2052"/>
                  </a:lnTo>
                  <a:lnTo>
                    <a:pt x="1429" y="2028"/>
                  </a:lnTo>
                  <a:lnTo>
                    <a:pt x="1435" y="2004"/>
                  </a:lnTo>
                  <a:lnTo>
                    <a:pt x="1441" y="1980"/>
                  </a:lnTo>
                  <a:lnTo>
                    <a:pt x="1447" y="1956"/>
                  </a:lnTo>
                  <a:lnTo>
                    <a:pt x="1453" y="1932"/>
                  </a:lnTo>
                  <a:lnTo>
                    <a:pt x="1459" y="1902"/>
                  </a:lnTo>
                  <a:lnTo>
                    <a:pt x="1471" y="1878"/>
                  </a:lnTo>
                  <a:lnTo>
                    <a:pt x="1477" y="1854"/>
                  </a:lnTo>
                  <a:lnTo>
                    <a:pt x="1483" y="1824"/>
                  </a:lnTo>
                  <a:lnTo>
                    <a:pt x="1489" y="1800"/>
                  </a:lnTo>
                  <a:lnTo>
                    <a:pt x="1495" y="1770"/>
                  </a:lnTo>
                  <a:lnTo>
                    <a:pt x="1501" y="1746"/>
                  </a:lnTo>
                  <a:lnTo>
                    <a:pt x="1507" y="1716"/>
                  </a:lnTo>
                  <a:lnTo>
                    <a:pt x="1519" y="1686"/>
                  </a:lnTo>
                  <a:lnTo>
                    <a:pt x="1525" y="1662"/>
                  </a:lnTo>
                  <a:lnTo>
                    <a:pt x="1531" y="1632"/>
                  </a:lnTo>
                  <a:lnTo>
                    <a:pt x="1537" y="1602"/>
                  </a:lnTo>
                  <a:lnTo>
                    <a:pt x="1543" y="1572"/>
                  </a:lnTo>
                  <a:lnTo>
                    <a:pt x="1549" y="1542"/>
                  </a:lnTo>
                  <a:lnTo>
                    <a:pt x="1555" y="1512"/>
                  </a:lnTo>
                  <a:lnTo>
                    <a:pt x="1567" y="1482"/>
                  </a:lnTo>
                  <a:lnTo>
                    <a:pt x="1573" y="1452"/>
                  </a:lnTo>
                  <a:lnTo>
                    <a:pt x="1579" y="1422"/>
                  </a:lnTo>
                  <a:lnTo>
                    <a:pt x="1585" y="1392"/>
                  </a:lnTo>
                  <a:lnTo>
                    <a:pt x="1591" y="1356"/>
                  </a:lnTo>
                  <a:lnTo>
                    <a:pt x="1597" y="1326"/>
                  </a:lnTo>
                  <a:lnTo>
                    <a:pt x="1603" y="1296"/>
                  </a:lnTo>
                  <a:lnTo>
                    <a:pt x="1615" y="1260"/>
                  </a:lnTo>
                  <a:lnTo>
                    <a:pt x="1621" y="1230"/>
                  </a:lnTo>
                  <a:lnTo>
                    <a:pt x="1627" y="1194"/>
                  </a:lnTo>
                  <a:lnTo>
                    <a:pt x="1633" y="1158"/>
                  </a:lnTo>
                  <a:lnTo>
                    <a:pt x="1639" y="1128"/>
                  </a:lnTo>
                  <a:lnTo>
                    <a:pt x="1645" y="1092"/>
                  </a:lnTo>
                  <a:lnTo>
                    <a:pt x="1651" y="1056"/>
                  </a:lnTo>
                  <a:lnTo>
                    <a:pt x="1663" y="1026"/>
                  </a:lnTo>
                  <a:lnTo>
                    <a:pt x="1669" y="990"/>
                  </a:lnTo>
                  <a:lnTo>
                    <a:pt x="1675" y="954"/>
                  </a:lnTo>
                  <a:lnTo>
                    <a:pt x="1681" y="918"/>
                  </a:lnTo>
                  <a:lnTo>
                    <a:pt x="1687" y="882"/>
                  </a:lnTo>
                  <a:lnTo>
                    <a:pt x="1693" y="846"/>
                  </a:lnTo>
                  <a:lnTo>
                    <a:pt x="1699" y="804"/>
                  </a:lnTo>
                  <a:lnTo>
                    <a:pt x="1711" y="768"/>
                  </a:lnTo>
                  <a:lnTo>
                    <a:pt x="1717" y="732"/>
                  </a:lnTo>
                  <a:lnTo>
                    <a:pt x="1723" y="696"/>
                  </a:lnTo>
                  <a:lnTo>
                    <a:pt x="1729" y="654"/>
                  </a:lnTo>
                  <a:lnTo>
                    <a:pt x="1735" y="618"/>
                  </a:lnTo>
                  <a:lnTo>
                    <a:pt x="1741" y="576"/>
                  </a:lnTo>
                  <a:lnTo>
                    <a:pt x="1747" y="540"/>
                  </a:lnTo>
                  <a:lnTo>
                    <a:pt x="1759" y="498"/>
                  </a:lnTo>
                  <a:lnTo>
                    <a:pt x="1765" y="462"/>
                  </a:lnTo>
                  <a:lnTo>
                    <a:pt x="1771" y="420"/>
                  </a:lnTo>
                  <a:lnTo>
                    <a:pt x="1777" y="378"/>
                  </a:lnTo>
                  <a:lnTo>
                    <a:pt x="1783" y="342"/>
                  </a:lnTo>
                  <a:lnTo>
                    <a:pt x="1789" y="300"/>
                  </a:lnTo>
                  <a:lnTo>
                    <a:pt x="1795" y="258"/>
                  </a:lnTo>
                  <a:lnTo>
                    <a:pt x="1807" y="216"/>
                  </a:lnTo>
                  <a:lnTo>
                    <a:pt x="1813" y="174"/>
                  </a:lnTo>
                  <a:lnTo>
                    <a:pt x="1819" y="132"/>
                  </a:lnTo>
                  <a:lnTo>
                    <a:pt x="1825" y="90"/>
                  </a:lnTo>
                  <a:lnTo>
                    <a:pt x="1831" y="42"/>
                  </a:lnTo>
                  <a:lnTo>
                    <a:pt x="183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45"/>
            <p:cNvSpPr/>
            <p:nvPr/>
          </p:nvSpPr>
          <p:spPr>
            <a:xfrm>
              <a:off x="4140000" y="3048120"/>
              <a:ext cx="0" cy="424800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Group 46"/>
          <p:cNvGrpSpPr/>
          <p:nvPr/>
        </p:nvGrpSpPr>
        <p:grpSpPr>
          <a:xfrm>
            <a:off x="1981080" y="3124080"/>
            <a:ext cx="4319640" cy="4248000"/>
            <a:chOff x="1981080" y="3124080"/>
            <a:chExt cx="4319640" cy="4248000"/>
          </a:xfrm>
        </p:grpSpPr>
        <p:sp>
          <p:nvSpPr>
            <p:cNvPr id="259" name="Line 47"/>
            <p:cNvSpPr/>
            <p:nvPr/>
          </p:nvSpPr>
          <p:spPr>
            <a:xfrm>
              <a:off x="4141800" y="3124080"/>
              <a:ext cx="0" cy="4248000"/>
            </a:xfrm>
            <a:prstGeom prst="line">
              <a:avLst/>
            </a:prstGeom>
            <a:ln w="38160">
              <a:solidFill>
                <a:srgbClr val="0066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Freeform 48"/>
            <p:cNvSpPr/>
            <p:nvPr/>
          </p:nvSpPr>
          <p:spPr>
            <a:xfrm flipV="1">
              <a:off x="1981080" y="4521960"/>
              <a:ext cx="4319640" cy="2849400"/>
            </a:xfrm>
            <a:custGeom>
              <a:avLst/>
              <a:gdLst/>
              <a:ahLst/>
              <a:rect l="l" t="t" r="r" b="b"/>
              <a:pathLst>
                <a:path w="1837" h="2922">
                  <a:moveTo>
                    <a:pt x="0" y="18"/>
                  </a:moveTo>
                  <a:lnTo>
                    <a:pt x="6" y="60"/>
                  </a:lnTo>
                  <a:lnTo>
                    <a:pt x="12" y="102"/>
                  </a:lnTo>
                  <a:lnTo>
                    <a:pt x="24" y="144"/>
                  </a:lnTo>
                  <a:lnTo>
                    <a:pt x="30" y="186"/>
                  </a:lnTo>
                  <a:lnTo>
                    <a:pt x="36" y="228"/>
                  </a:lnTo>
                  <a:lnTo>
                    <a:pt x="42" y="270"/>
                  </a:lnTo>
                  <a:lnTo>
                    <a:pt x="48" y="312"/>
                  </a:lnTo>
                  <a:lnTo>
                    <a:pt x="54" y="354"/>
                  </a:lnTo>
                  <a:lnTo>
                    <a:pt x="60" y="396"/>
                  </a:lnTo>
                  <a:lnTo>
                    <a:pt x="72" y="432"/>
                  </a:lnTo>
                  <a:lnTo>
                    <a:pt x="78" y="474"/>
                  </a:lnTo>
                  <a:lnTo>
                    <a:pt x="84" y="516"/>
                  </a:lnTo>
                  <a:lnTo>
                    <a:pt x="90" y="552"/>
                  </a:lnTo>
                  <a:lnTo>
                    <a:pt x="96" y="594"/>
                  </a:lnTo>
                  <a:lnTo>
                    <a:pt x="102" y="630"/>
                  </a:lnTo>
                  <a:lnTo>
                    <a:pt x="108" y="672"/>
                  </a:lnTo>
                  <a:lnTo>
                    <a:pt x="120" y="708"/>
                  </a:lnTo>
                  <a:lnTo>
                    <a:pt x="126" y="744"/>
                  </a:lnTo>
                  <a:lnTo>
                    <a:pt x="132" y="780"/>
                  </a:lnTo>
                  <a:lnTo>
                    <a:pt x="138" y="822"/>
                  </a:lnTo>
                  <a:lnTo>
                    <a:pt x="144" y="858"/>
                  </a:lnTo>
                  <a:lnTo>
                    <a:pt x="150" y="894"/>
                  </a:lnTo>
                  <a:lnTo>
                    <a:pt x="156" y="930"/>
                  </a:lnTo>
                  <a:lnTo>
                    <a:pt x="168" y="966"/>
                  </a:lnTo>
                  <a:lnTo>
                    <a:pt x="174" y="1002"/>
                  </a:lnTo>
                  <a:lnTo>
                    <a:pt x="180" y="1038"/>
                  </a:lnTo>
                  <a:lnTo>
                    <a:pt x="186" y="1068"/>
                  </a:lnTo>
                  <a:lnTo>
                    <a:pt x="192" y="1104"/>
                  </a:lnTo>
                  <a:lnTo>
                    <a:pt x="198" y="1140"/>
                  </a:lnTo>
                  <a:lnTo>
                    <a:pt x="204" y="1170"/>
                  </a:lnTo>
                  <a:lnTo>
                    <a:pt x="216" y="1206"/>
                  </a:lnTo>
                  <a:lnTo>
                    <a:pt x="222" y="1242"/>
                  </a:lnTo>
                  <a:lnTo>
                    <a:pt x="228" y="1272"/>
                  </a:lnTo>
                  <a:lnTo>
                    <a:pt x="234" y="1302"/>
                  </a:lnTo>
                  <a:lnTo>
                    <a:pt x="240" y="1338"/>
                  </a:lnTo>
                  <a:lnTo>
                    <a:pt x="246" y="1368"/>
                  </a:lnTo>
                  <a:lnTo>
                    <a:pt x="252" y="1398"/>
                  </a:lnTo>
                  <a:lnTo>
                    <a:pt x="264" y="1434"/>
                  </a:lnTo>
                  <a:lnTo>
                    <a:pt x="270" y="1464"/>
                  </a:lnTo>
                  <a:lnTo>
                    <a:pt x="276" y="1494"/>
                  </a:lnTo>
                  <a:lnTo>
                    <a:pt x="282" y="1524"/>
                  </a:lnTo>
                  <a:lnTo>
                    <a:pt x="288" y="1554"/>
                  </a:lnTo>
                  <a:lnTo>
                    <a:pt x="294" y="1584"/>
                  </a:lnTo>
                  <a:lnTo>
                    <a:pt x="300" y="1614"/>
                  </a:lnTo>
                  <a:lnTo>
                    <a:pt x="312" y="1644"/>
                  </a:lnTo>
                  <a:lnTo>
                    <a:pt x="318" y="1668"/>
                  </a:lnTo>
                  <a:lnTo>
                    <a:pt x="324" y="1698"/>
                  </a:lnTo>
                  <a:lnTo>
                    <a:pt x="330" y="1728"/>
                  </a:lnTo>
                  <a:lnTo>
                    <a:pt x="336" y="1752"/>
                  </a:lnTo>
                  <a:lnTo>
                    <a:pt x="342" y="1782"/>
                  </a:lnTo>
                  <a:lnTo>
                    <a:pt x="348" y="1806"/>
                  </a:lnTo>
                  <a:lnTo>
                    <a:pt x="360" y="1836"/>
                  </a:lnTo>
                  <a:lnTo>
                    <a:pt x="366" y="1860"/>
                  </a:lnTo>
                  <a:lnTo>
                    <a:pt x="372" y="1890"/>
                  </a:lnTo>
                  <a:lnTo>
                    <a:pt x="378" y="1914"/>
                  </a:lnTo>
                  <a:lnTo>
                    <a:pt x="384" y="1938"/>
                  </a:lnTo>
                  <a:lnTo>
                    <a:pt x="390" y="1962"/>
                  </a:lnTo>
                  <a:lnTo>
                    <a:pt x="396" y="1986"/>
                  </a:lnTo>
                  <a:lnTo>
                    <a:pt x="408" y="2010"/>
                  </a:lnTo>
                  <a:lnTo>
                    <a:pt x="414" y="2040"/>
                  </a:lnTo>
                  <a:lnTo>
                    <a:pt x="420" y="2058"/>
                  </a:lnTo>
                  <a:lnTo>
                    <a:pt x="426" y="2082"/>
                  </a:lnTo>
                  <a:lnTo>
                    <a:pt x="432" y="2106"/>
                  </a:lnTo>
                  <a:lnTo>
                    <a:pt x="438" y="2130"/>
                  </a:lnTo>
                  <a:lnTo>
                    <a:pt x="444" y="2154"/>
                  </a:lnTo>
                  <a:lnTo>
                    <a:pt x="456" y="2172"/>
                  </a:lnTo>
                  <a:lnTo>
                    <a:pt x="462" y="2196"/>
                  </a:lnTo>
                  <a:lnTo>
                    <a:pt x="468" y="2220"/>
                  </a:lnTo>
                  <a:lnTo>
                    <a:pt x="474" y="2238"/>
                  </a:lnTo>
                  <a:lnTo>
                    <a:pt x="480" y="2262"/>
                  </a:lnTo>
                  <a:lnTo>
                    <a:pt x="486" y="2280"/>
                  </a:lnTo>
                  <a:lnTo>
                    <a:pt x="492" y="2304"/>
                  </a:lnTo>
                  <a:lnTo>
                    <a:pt x="504" y="2322"/>
                  </a:lnTo>
                  <a:lnTo>
                    <a:pt x="510" y="2340"/>
                  </a:lnTo>
                  <a:lnTo>
                    <a:pt x="516" y="2358"/>
                  </a:lnTo>
                  <a:lnTo>
                    <a:pt x="522" y="2376"/>
                  </a:lnTo>
                  <a:lnTo>
                    <a:pt x="528" y="2400"/>
                  </a:lnTo>
                  <a:lnTo>
                    <a:pt x="534" y="2418"/>
                  </a:lnTo>
                  <a:lnTo>
                    <a:pt x="540" y="2436"/>
                  </a:lnTo>
                  <a:lnTo>
                    <a:pt x="552" y="2454"/>
                  </a:lnTo>
                  <a:lnTo>
                    <a:pt x="558" y="2466"/>
                  </a:lnTo>
                  <a:lnTo>
                    <a:pt x="564" y="2484"/>
                  </a:lnTo>
                  <a:lnTo>
                    <a:pt x="570" y="2502"/>
                  </a:lnTo>
                  <a:lnTo>
                    <a:pt x="576" y="2520"/>
                  </a:lnTo>
                  <a:lnTo>
                    <a:pt x="582" y="2532"/>
                  </a:lnTo>
                  <a:lnTo>
                    <a:pt x="588" y="2550"/>
                  </a:lnTo>
                  <a:lnTo>
                    <a:pt x="600" y="2568"/>
                  </a:lnTo>
                  <a:lnTo>
                    <a:pt x="606" y="2580"/>
                  </a:lnTo>
                  <a:lnTo>
                    <a:pt x="612" y="2592"/>
                  </a:lnTo>
                  <a:lnTo>
                    <a:pt x="618" y="2610"/>
                  </a:lnTo>
                  <a:lnTo>
                    <a:pt x="624" y="2622"/>
                  </a:lnTo>
                  <a:lnTo>
                    <a:pt x="630" y="2640"/>
                  </a:lnTo>
                  <a:lnTo>
                    <a:pt x="636" y="2652"/>
                  </a:lnTo>
                  <a:lnTo>
                    <a:pt x="648" y="2664"/>
                  </a:lnTo>
                  <a:lnTo>
                    <a:pt x="654" y="2676"/>
                  </a:lnTo>
                  <a:lnTo>
                    <a:pt x="660" y="2688"/>
                  </a:lnTo>
                  <a:lnTo>
                    <a:pt x="666" y="2700"/>
                  </a:lnTo>
                  <a:lnTo>
                    <a:pt x="672" y="2712"/>
                  </a:lnTo>
                  <a:lnTo>
                    <a:pt x="678" y="2724"/>
                  </a:lnTo>
                  <a:lnTo>
                    <a:pt x="684" y="2736"/>
                  </a:lnTo>
                  <a:lnTo>
                    <a:pt x="696" y="2748"/>
                  </a:lnTo>
                  <a:lnTo>
                    <a:pt x="702" y="2754"/>
                  </a:lnTo>
                  <a:lnTo>
                    <a:pt x="708" y="2766"/>
                  </a:lnTo>
                  <a:lnTo>
                    <a:pt x="714" y="2778"/>
                  </a:lnTo>
                  <a:lnTo>
                    <a:pt x="720" y="2784"/>
                  </a:lnTo>
                  <a:lnTo>
                    <a:pt x="726" y="2796"/>
                  </a:lnTo>
                  <a:lnTo>
                    <a:pt x="732" y="2802"/>
                  </a:lnTo>
                  <a:lnTo>
                    <a:pt x="744" y="2814"/>
                  </a:lnTo>
                  <a:lnTo>
                    <a:pt x="750" y="2820"/>
                  </a:lnTo>
                  <a:lnTo>
                    <a:pt x="756" y="2826"/>
                  </a:lnTo>
                  <a:lnTo>
                    <a:pt x="762" y="2838"/>
                  </a:lnTo>
                  <a:lnTo>
                    <a:pt x="768" y="2844"/>
                  </a:lnTo>
                  <a:lnTo>
                    <a:pt x="774" y="2850"/>
                  </a:lnTo>
                  <a:lnTo>
                    <a:pt x="780" y="2856"/>
                  </a:lnTo>
                  <a:lnTo>
                    <a:pt x="792" y="2862"/>
                  </a:lnTo>
                  <a:lnTo>
                    <a:pt x="798" y="2868"/>
                  </a:lnTo>
                  <a:lnTo>
                    <a:pt x="804" y="2874"/>
                  </a:lnTo>
                  <a:lnTo>
                    <a:pt x="810" y="2880"/>
                  </a:lnTo>
                  <a:lnTo>
                    <a:pt x="816" y="2886"/>
                  </a:lnTo>
                  <a:lnTo>
                    <a:pt x="822" y="2892"/>
                  </a:lnTo>
                  <a:lnTo>
                    <a:pt x="828" y="2892"/>
                  </a:lnTo>
                  <a:lnTo>
                    <a:pt x="834" y="2898"/>
                  </a:lnTo>
                  <a:lnTo>
                    <a:pt x="846" y="2904"/>
                  </a:lnTo>
                  <a:lnTo>
                    <a:pt x="852" y="2904"/>
                  </a:lnTo>
                  <a:lnTo>
                    <a:pt x="858" y="2910"/>
                  </a:lnTo>
                  <a:lnTo>
                    <a:pt x="864" y="2910"/>
                  </a:lnTo>
                  <a:lnTo>
                    <a:pt x="870" y="2916"/>
                  </a:lnTo>
                  <a:lnTo>
                    <a:pt x="876" y="2916"/>
                  </a:lnTo>
                  <a:lnTo>
                    <a:pt x="882" y="2916"/>
                  </a:lnTo>
                  <a:lnTo>
                    <a:pt x="894" y="2916"/>
                  </a:lnTo>
                  <a:lnTo>
                    <a:pt x="900" y="2922"/>
                  </a:lnTo>
                  <a:lnTo>
                    <a:pt x="906" y="2922"/>
                  </a:lnTo>
                  <a:lnTo>
                    <a:pt x="912" y="2922"/>
                  </a:lnTo>
                  <a:lnTo>
                    <a:pt x="918" y="2922"/>
                  </a:lnTo>
                  <a:lnTo>
                    <a:pt x="925" y="2922"/>
                  </a:lnTo>
                  <a:lnTo>
                    <a:pt x="931" y="2922"/>
                  </a:lnTo>
                  <a:lnTo>
                    <a:pt x="943" y="2922"/>
                  </a:lnTo>
                  <a:lnTo>
                    <a:pt x="949" y="2916"/>
                  </a:lnTo>
                  <a:lnTo>
                    <a:pt x="955" y="2916"/>
                  </a:lnTo>
                  <a:lnTo>
                    <a:pt x="961" y="2916"/>
                  </a:lnTo>
                  <a:lnTo>
                    <a:pt x="967" y="2910"/>
                  </a:lnTo>
                  <a:lnTo>
                    <a:pt x="973" y="2910"/>
                  </a:lnTo>
                  <a:lnTo>
                    <a:pt x="979" y="2910"/>
                  </a:lnTo>
                  <a:lnTo>
                    <a:pt x="991" y="2904"/>
                  </a:lnTo>
                  <a:lnTo>
                    <a:pt x="997" y="2898"/>
                  </a:lnTo>
                  <a:lnTo>
                    <a:pt x="1003" y="2898"/>
                  </a:lnTo>
                  <a:lnTo>
                    <a:pt x="1009" y="2892"/>
                  </a:lnTo>
                  <a:lnTo>
                    <a:pt x="1015" y="2886"/>
                  </a:lnTo>
                  <a:lnTo>
                    <a:pt x="1021" y="2886"/>
                  </a:lnTo>
                  <a:lnTo>
                    <a:pt x="1027" y="2880"/>
                  </a:lnTo>
                  <a:lnTo>
                    <a:pt x="1039" y="2874"/>
                  </a:lnTo>
                  <a:lnTo>
                    <a:pt x="1045" y="2868"/>
                  </a:lnTo>
                  <a:lnTo>
                    <a:pt x="1051" y="2862"/>
                  </a:lnTo>
                  <a:lnTo>
                    <a:pt x="1057" y="2856"/>
                  </a:lnTo>
                  <a:lnTo>
                    <a:pt x="1063" y="2850"/>
                  </a:lnTo>
                  <a:lnTo>
                    <a:pt x="1069" y="2844"/>
                  </a:lnTo>
                  <a:lnTo>
                    <a:pt x="1075" y="2832"/>
                  </a:lnTo>
                  <a:lnTo>
                    <a:pt x="1087" y="2826"/>
                  </a:lnTo>
                  <a:lnTo>
                    <a:pt x="1093" y="2820"/>
                  </a:lnTo>
                  <a:lnTo>
                    <a:pt x="1099" y="2808"/>
                  </a:lnTo>
                  <a:lnTo>
                    <a:pt x="1105" y="2802"/>
                  </a:lnTo>
                  <a:lnTo>
                    <a:pt x="1111" y="2790"/>
                  </a:lnTo>
                  <a:lnTo>
                    <a:pt x="1117" y="2784"/>
                  </a:lnTo>
                  <a:lnTo>
                    <a:pt x="1123" y="2772"/>
                  </a:lnTo>
                  <a:lnTo>
                    <a:pt x="1135" y="2766"/>
                  </a:lnTo>
                  <a:lnTo>
                    <a:pt x="1141" y="2754"/>
                  </a:lnTo>
                  <a:lnTo>
                    <a:pt x="1147" y="2742"/>
                  </a:lnTo>
                  <a:lnTo>
                    <a:pt x="1153" y="2730"/>
                  </a:lnTo>
                  <a:lnTo>
                    <a:pt x="1159" y="2718"/>
                  </a:lnTo>
                  <a:lnTo>
                    <a:pt x="1165" y="2706"/>
                  </a:lnTo>
                  <a:lnTo>
                    <a:pt x="1171" y="2694"/>
                  </a:lnTo>
                  <a:lnTo>
                    <a:pt x="1183" y="2682"/>
                  </a:lnTo>
                  <a:lnTo>
                    <a:pt x="1189" y="2670"/>
                  </a:lnTo>
                  <a:lnTo>
                    <a:pt x="1195" y="2658"/>
                  </a:lnTo>
                  <a:lnTo>
                    <a:pt x="1201" y="2646"/>
                  </a:lnTo>
                  <a:lnTo>
                    <a:pt x="1207" y="2634"/>
                  </a:lnTo>
                  <a:lnTo>
                    <a:pt x="1213" y="2616"/>
                  </a:lnTo>
                  <a:lnTo>
                    <a:pt x="1219" y="2604"/>
                  </a:lnTo>
                  <a:lnTo>
                    <a:pt x="1231" y="2592"/>
                  </a:lnTo>
                  <a:lnTo>
                    <a:pt x="1237" y="2574"/>
                  </a:lnTo>
                  <a:lnTo>
                    <a:pt x="1243" y="2562"/>
                  </a:lnTo>
                  <a:lnTo>
                    <a:pt x="1249" y="2544"/>
                  </a:lnTo>
                  <a:lnTo>
                    <a:pt x="1255" y="2526"/>
                  </a:lnTo>
                  <a:lnTo>
                    <a:pt x="1261" y="2514"/>
                  </a:lnTo>
                  <a:lnTo>
                    <a:pt x="1267" y="2496"/>
                  </a:lnTo>
                  <a:lnTo>
                    <a:pt x="1279" y="2478"/>
                  </a:lnTo>
                  <a:lnTo>
                    <a:pt x="1285" y="2460"/>
                  </a:lnTo>
                  <a:lnTo>
                    <a:pt x="1291" y="2442"/>
                  </a:lnTo>
                  <a:lnTo>
                    <a:pt x="1297" y="2430"/>
                  </a:lnTo>
                  <a:lnTo>
                    <a:pt x="1303" y="2412"/>
                  </a:lnTo>
                  <a:lnTo>
                    <a:pt x="1309" y="2388"/>
                  </a:lnTo>
                  <a:lnTo>
                    <a:pt x="1315" y="2370"/>
                  </a:lnTo>
                  <a:lnTo>
                    <a:pt x="1327" y="2352"/>
                  </a:lnTo>
                  <a:lnTo>
                    <a:pt x="1333" y="2334"/>
                  </a:lnTo>
                  <a:lnTo>
                    <a:pt x="1339" y="2316"/>
                  </a:lnTo>
                  <a:lnTo>
                    <a:pt x="1345" y="2292"/>
                  </a:lnTo>
                  <a:lnTo>
                    <a:pt x="1351" y="2274"/>
                  </a:lnTo>
                  <a:lnTo>
                    <a:pt x="1357" y="2250"/>
                  </a:lnTo>
                  <a:lnTo>
                    <a:pt x="1363" y="2232"/>
                  </a:lnTo>
                  <a:lnTo>
                    <a:pt x="1375" y="2208"/>
                  </a:lnTo>
                  <a:lnTo>
                    <a:pt x="1381" y="2190"/>
                  </a:lnTo>
                  <a:lnTo>
                    <a:pt x="1387" y="2166"/>
                  </a:lnTo>
                  <a:lnTo>
                    <a:pt x="1393" y="2142"/>
                  </a:lnTo>
                  <a:lnTo>
                    <a:pt x="1399" y="2124"/>
                  </a:lnTo>
                  <a:lnTo>
                    <a:pt x="1405" y="2100"/>
                  </a:lnTo>
                  <a:lnTo>
                    <a:pt x="1411" y="2076"/>
                  </a:lnTo>
                  <a:lnTo>
                    <a:pt x="1423" y="2052"/>
                  </a:lnTo>
                  <a:lnTo>
                    <a:pt x="1429" y="2028"/>
                  </a:lnTo>
                  <a:lnTo>
                    <a:pt x="1435" y="2004"/>
                  </a:lnTo>
                  <a:lnTo>
                    <a:pt x="1441" y="1980"/>
                  </a:lnTo>
                  <a:lnTo>
                    <a:pt x="1447" y="1956"/>
                  </a:lnTo>
                  <a:lnTo>
                    <a:pt x="1453" y="1932"/>
                  </a:lnTo>
                  <a:lnTo>
                    <a:pt x="1459" y="1902"/>
                  </a:lnTo>
                  <a:lnTo>
                    <a:pt x="1471" y="1878"/>
                  </a:lnTo>
                  <a:lnTo>
                    <a:pt x="1477" y="1854"/>
                  </a:lnTo>
                  <a:lnTo>
                    <a:pt x="1483" y="1824"/>
                  </a:lnTo>
                  <a:lnTo>
                    <a:pt x="1489" y="1800"/>
                  </a:lnTo>
                  <a:lnTo>
                    <a:pt x="1495" y="1770"/>
                  </a:lnTo>
                  <a:lnTo>
                    <a:pt x="1501" y="1746"/>
                  </a:lnTo>
                  <a:lnTo>
                    <a:pt x="1507" y="1716"/>
                  </a:lnTo>
                  <a:lnTo>
                    <a:pt x="1519" y="1686"/>
                  </a:lnTo>
                  <a:lnTo>
                    <a:pt x="1525" y="1662"/>
                  </a:lnTo>
                  <a:lnTo>
                    <a:pt x="1531" y="1632"/>
                  </a:lnTo>
                  <a:lnTo>
                    <a:pt x="1537" y="1602"/>
                  </a:lnTo>
                  <a:lnTo>
                    <a:pt x="1543" y="1572"/>
                  </a:lnTo>
                  <a:lnTo>
                    <a:pt x="1549" y="1542"/>
                  </a:lnTo>
                  <a:lnTo>
                    <a:pt x="1555" y="1512"/>
                  </a:lnTo>
                  <a:lnTo>
                    <a:pt x="1567" y="1482"/>
                  </a:lnTo>
                  <a:lnTo>
                    <a:pt x="1573" y="1452"/>
                  </a:lnTo>
                  <a:lnTo>
                    <a:pt x="1579" y="1422"/>
                  </a:lnTo>
                  <a:lnTo>
                    <a:pt x="1585" y="1392"/>
                  </a:lnTo>
                  <a:lnTo>
                    <a:pt x="1591" y="1356"/>
                  </a:lnTo>
                  <a:lnTo>
                    <a:pt x="1597" y="1326"/>
                  </a:lnTo>
                  <a:lnTo>
                    <a:pt x="1603" y="1296"/>
                  </a:lnTo>
                  <a:lnTo>
                    <a:pt x="1615" y="1260"/>
                  </a:lnTo>
                  <a:lnTo>
                    <a:pt x="1621" y="1230"/>
                  </a:lnTo>
                  <a:lnTo>
                    <a:pt x="1627" y="1194"/>
                  </a:lnTo>
                  <a:lnTo>
                    <a:pt x="1633" y="1158"/>
                  </a:lnTo>
                  <a:lnTo>
                    <a:pt x="1639" y="1128"/>
                  </a:lnTo>
                  <a:lnTo>
                    <a:pt x="1645" y="1092"/>
                  </a:lnTo>
                  <a:lnTo>
                    <a:pt x="1651" y="1056"/>
                  </a:lnTo>
                  <a:lnTo>
                    <a:pt x="1663" y="1026"/>
                  </a:lnTo>
                  <a:lnTo>
                    <a:pt x="1669" y="990"/>
                  </a:lnTo>
                  <a:lnTo>
                    <a:pt x="1675" y="954"/>
                  </a:lnTo>
                  <a:lnTo>
                    <a:pt x="1681" y="918"/>
                  </a:lnTo>
                  <a:lnTo>
                    <a:pt x="1687" y="882"/>
                  </a:lnTo>
                  <a:lnTo>
                    <a:pt x="1693" y="846"/>
                  </a:lnTo>
                  <a:lnTo>
                    <a:pt x="1699" y="804"/>
                  </a:lnTo>
                  <a:lnTo>
                    <a:pt x="1711" y="768"/>
                  </a:lnTo>
                  <a:lnTo>
                    <a:pt x="1717" y="732"/>
                  </a:lnTo>
                  <a:lnTo>
                    <a:pt x="1723" y="696"/>
                  </a:lnTo>
                  <a:lnTo>
                    <a:pt x="1729" y="654"/>
                  </a:lnTo>
                  <a:lnTo>
                    <a:pt x="1735" y="618"/>
                  </a:lnTo>
                  <a:lnTo>
                    <a:pt x="1741" y="576"/>
                  </a:lnTo>
                  <a:lnTo>
                    <a:pt x="1747" y="540"/>
                  </a:lnTo>
                  <a:lnTo>
                    <a:pt x="1759" y="498"/>
                  </a:lnTo>
                  <a:lnTo>
                    <a:pt x="1765" y="462"/>
                  </a:lnTo>
                  <a:lnTo>
                    <a:pt x="1771" y="420"/>
                  </a:lnTo>
                  <a:lnTo>
                    <a:pt x="1777" y="378"/>
                  </a:lnTo>
                  <a:lnTo>
                    <a:pt x="1783" y="342"/>
                  </a:lnTo>
                  <a:lnTo>
                    <a:pt x="1789" y="300"/>
                  </a:lnTo>
                  <a:lnTo>
                    <a:pt x="1795" y="258"/>
                  </a:lnTo>
                  <a:lnTo>
                    <a:pt x="1807" y="216"/>
                  </a:lnTo>
                  <a:lnTo>
                    <a:pt x="1813" y="174"/>
                  </a:lnTo>
                  <a:lnTo>
                    <a:pt x="1819" y="132"/>
                  </a:lnTo>
                  <a:lnTo>
                    <a:pt x="1825" y="90"/>
                  </a:lnTo>
                  <a:lnTo>
                    <a:pt x="1831" y="42"/>
                  </a:lnTo>
                  <a:lnTo>
                    <a:pt x="1837" y="0"/>
                  </a:lnTo>
                </a:path>
              </a:pathLst>
            </a:cu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TextBox 48"/>
          <p:cNvSpPr/>
          <p:nvPr/>
        </p:nvSpPr>
        <p:spPr>
          <a:xfrm>
            <a:off x="2671560" y="2743200"/>
            <a:ext cx="116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x= - 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Box 49"/>
          <p:cNvSpPr/>
          <p:nvPr/>
        </p:nvSpPr>
        <p:spPr>
          <a:xfrm>
            <a:off x="2899800" y="3886200"/>
            <a:ext cx="109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-2,0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50"/>
          <p:cNvSpPr/>
          <p:nvPr/>
        </p:nvSpPr>
        <p:spPr>
          <a:xfrm>
            <a:off x="4880520" y="3962520"/>
            <a:ext cx="96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2,0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51"/>
          <p:cNvSpPr/>
          <p:nvPr/>
        </p:nvSpPr>
        <p:spPr>
          <a:xfrm>
            <a:off x="4728600" y="2743200"/>
            <a:ext cx="92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x= 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矩形 49"/>
          <p:cNvSpPr/>
          <p:nvPr/>
        </p:nvSpPr>
        <p:spPr>
          <a:xfrm>
            <a:off x="2743200" y="2286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何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Object 48" descr=""/>
          <p:cNvPicPr/>
          <p:nvPr/>
        </p:nvPicPr>
        <p:blipFill>
          <a:blip r:embed="rId8"/>
          <a:stretch/>
        </p:blipFill>
        <p:spPr>
          <a:xfrm>
            <a:off x="3809880" y="0"/>
            <a:ext cx="1447920" cy="901800"/>
          </a:xfrm>
          <a:prstGeom prst="rect">
            <a:avLst/>
          </a:prstGeom>
          <a:ln w="0">
            <a:noFill/>
          </a:ln>
        </p:spPr>
      </p:pic>
      <p:sp>
        <p:nvSpPr>
          <p:cNvPr id="267" name="矩形 51"/>
          <p:cNvSpPr/>
          <p:nvPr/>
        </p:nvSpPr>
        <p:spPr>
          <a:xfrm>
            <a:off x="5498280" y="22860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图象得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Object 50" descr=""/>
          <p:cNvPicPr/>
          <p:nvPr/>
        </p:nvPicPr>
        <p:blipFill>
          <a:blip r:embed="rId9"/>
          <a:stretch/>
        </p:blipFill>
        <p:spPr>
          <a:xfrm>
            <a:off x="6975360" y="0"/>
            <a:ext cx="2168640" cy="838080"/>
          </a:xfrm>
          <a:prstGeom prst="rect">
            <a:avLst/>
          </a:prstGeom>
          <a:ln w="0">
            <a:noFill/>
          </a:ln>
        </p:spPr>
      </p:pic>
      <p:pic>
        <p:nvPicPr>
          <p:cNvPr id="269" name="Object 51" descr=""/>
          <p:cNvPicPr/>
          <p:nvPr/>
        </p:nvPicPr>
        <p:blipFill>
          <a:blip r:embed="rId10"/>
          <a:stretch/>
        </p:blipFill>
        <p:spPr>
          <a:xfrm>
            <a:off x="4876920" y="533520"/>
            <a:ext cx="2514600" cy="971280"/>
          </a:xfrm>
          <a:prstGeom prst="rect">
            <a:avLst/>
          </a:prstGeom>
          <a:ln w="0">
            <a:noFill/>
          </a:ln>
        </p:spPr>
      </p:pic>
      <p:sp>
        <p:nvSpPr>
          <p:cNvPr id="270" name="矩形 54"/>
          <p:cNvSpPr/>
          <p:nvPr/>
        </p:nvSpPr>
        <p:spPr>
          <a:xfrm>
            <a:off x="7391520" y="838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图象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矩形 55"/>
          <p:cNvSpPr/>
          <p:nvPr/>
        </p:nvSpPr>
        <p:spPr>
          <a:xfrm>
            <a:off x="8960760" y="3808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56"/>
          <p:cNvSpPr/>
          <p:nvPr/>
        </p:nvSpPr>
        <p:spPr>
          <a:xfrm>
            <a:off x="0" y="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楷体"/>
                <a:ea typeface="楷体"/>
              </a:rPr>
              <a:t>3.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左右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平移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0.01457 L 0.10833 0.00948 E">
                                      <p:cBhvr>
                                        <p:cTn id="196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61 0.00139 L -0.09445 0.00139 E">
                                      <p:cBhvr>
                                        <p:cTn id="220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矩形 11"/>
          <p:cNvSpPr/>
          <p:nvPr/>
        </p:nvSpPr>
        <p:spPr>
          <a:xfrm>
            <a:off x="471240" y="4572000"/>
            <a:ext cx="11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8020f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18020f"/>
                </a:solidFill>
                <a:latin typeface="Times New Roman"/>
              </a:rPr>
              <a:t>=</a:t>
            </a:r>
            <a:r>
              <a:rPr b="1" i="1" lang="en-US" sz="3200" spc="-1" strike="noStrike">
                <a:solidFill>
                  <a:srgbClr val="18020f"/>
                </a:solidFill>
                <a:latin typeface="Times New Roman"/>
              </a:rPr>
              <a:t>ax</a:t>
            </a:r>
            <a:r>
              <a:rPr b="1" lang="en-US" sz="3200" spc="-1" strike="noStrike" baseline="30000">
                <a:solidFill>
                  <a:srgbClr val="18020f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5"/>
          <p:cNvSpPr/>
          <p:nvPr/>
        </p:nvSpPr>
        <p:spPr>
          <a:xfrm>
            <a:off x="1752480" y="4876920"/>
            <a:ext cx="419112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矩形 13"/>
          <p:cNvSpPr/>
          <p:nvPr/>
        </p:nvSpPr>
        <p:spPr>
          <a:xfrm>
            <a:off x="2232360" y="4267080"/>
            <a:ext cx="350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8020f"/>
                </a:solidFill>
                <a:latin typeface="Times New Roman"/>
              </a:rPr>
              <a:t>当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&gt;0</a:t>
            </a:r>
            <a:r>
              <a:rPr b="1" lang="zh-CN" sz="2800" spc="-1" strike="noStrike">
                <a:solidFill>
                  <a:srgbClr val="18020f"/>
                </a:solidFill>
                <a:latin typeface="Times New Roman"/>
              </a:rPr>
              <a:t>时</a:t>
            </a:r>
            <a:r>
              <a:rPr b="1" lang="en-US" sz="2800" spc="-1" strike="noStrike">
                <a:solidFill>
                  <a:srgbClr val="18020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18020f"/>
                </a:solidFill>
                <a:latin typeface="Times New Roman"/>
              </a:rPr>
              <a:t>向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右</a:t>
            </a:r>
            <a:r>
              <a:rPr b="1" lang="zh-CN" sz="2800" spc="-1" strike="noStrike">
                <a:solidFill>
                  <a:srgbClr val="18020f"/>
                </a:solidFill>
                <a:latin typeface="Times New Roman"/>
              </a:rPr>
              <a:t>平移</a:t>
            </a:r>
            <a:r>
              <a:rPr b="1" lang="en-US" sz="2800" spc="-1" strike="noStrike">
                <a:solidFill>
                  <a:srgbClr val="18020f"/>
                </a:solidFill>
                <a:latin typeface="Times New Roman"/>
              </a:rPr>
              <a:t>h</a:t>
            </a:r>
            <a:r>
              <a:rPr b="1" lang="zh-CN" sz="2800" spc="-1" strike="noStrike">
                <a:solidFill>
                  <a:srgbClr val="18020f"/>
                </a:solidFill>
                <a:latin typeface="Times New Roman"/>
              </a:rPr>
              <a:t>个单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矩形 14"/>
          <p:cNvSpPr/>
          <p:nvPr/>
        </p:nvSpPr>
        <p:spPr>
          <a:xfrm>
            <a:off x="2154960" y="4876920"/>
            <a:ext cx="36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8020f"/>
                </a:solidFill>
                <a:latin typeface="Times New Roman"/>
              </a:rPr>
              <a:t>当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&lt;0</a:t>
            </a:r>
            <a:r>
              <a:rPr b="1" lang="zh-CN" sz="2800" spc="-1" strike="noStrike">
                <a:solidFill>
                  <a:srgbClr val="18020f"/>
                </a:solidFill>
                <a:latin typeface="Times New Roman"/>
              </a:rPr>
              <a:t>时</a:t>
            </a:r>
            <a:r>
              <a:rPr b="1" lang="en-US" sz="2800" spc="-1" strike="noStrike">
                <a:solidFill>
                  <a:srgbClr val="18020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18020f"/>
                </a:solidFill>
                <a:latin typeface="Times New Roman"/>
              </a:rPr>
              <a:t>向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左</a:t>
            </a:r>
            <a:r>
              <a:rPr b="1" lang="zh-CN" sz="2800" spc="-1" strike="noStrike">
                <a:solidFill>
                  <a:srgbClr val="18020f"/>
                </a:solidFill>
                <a:latin typeface="Times New Roman"/>
              </a:rPr>
              <a:t>平移 </a:t>
            </a:r>
            <a:r>
              <a:rPr b="1" lang="en-US" sz="2800" spc="-1" strike="noStrike">
                <a:solidFill>
                  <a:srgbClr val="18020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18020f"/>
                </a:solidFill>
                <a:latin typeface="Times New Roman"/>
              </a:rPr>
              <a:t>个单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矩形 15"/>
          <p:cNvSpPr/>
          <p:nvPr/>
        </p:nvSpPr>
        <p:spPr>
          <a:xfrm>
            <a:off x="6172200" y="46483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8020f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18020f"/>
                </a:solidFill>
                <a:latin typeface="Times New Roman"/>
              </a:rPr>
              <a:t>=</a:t>
            </a:r>
            <a:r>
              <a:rPr b="1" i="1" lang="en-US" sz="3200" spc="-1" strike="noStrike">
                <a:solidFill>
                  <a:srgbClr val="18020f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18020f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18020f"/>
                </a:solidFill>
                <a:latin typeface="Times New Roman"/>
              </a:rPr>
              <a:t>x-h)</a:t>
            </a:r>
            <a:r>
              <a:rPr b="1" lang="en-US" sz="3200" spc="-1" strike="noStrike" baseline="30000">
                <a:solidFill>
                  <a:srgbClr val="18020f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Object 7" descr=""/>
          <p:cNvPicPr/>
          <p:nvPr/>
        </p:nvPicPr>
        <p:blipFill>
          <a:blip r:embed="rId1"/>
          <a:stretch/>
        </p:blipFill>
        <p:spPr>
          <a:xfrm>
            <a:off x="4572000" y="4800600"/>
            <a:ext cx="457200" cy="703440"/>
          </a:xfrm>
          <a:prstGeom prst="rect">
            <a:avLst/>
          </a:prstGeom>
          <a:ln w="0">
            <a:noFill/>
          </a:ln>
        </p:spPr>
      </p:pic>
      <p:sp>
        <p:nvSpPr>
          <p:cNvPr id="279" name="矩形 18"/>
          <p:cNvSpPr/>
          <p:nvPr/>
        </p:nvSpPr>
        <p:spPr>
          <a:xfrm>
            <a:off x="776160" y="1752480"/>
            <a:ext cx="11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8020f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18020f"/>
                </a:solidFill>
                <a:latin typeface="Times New Roman"/>
              </a:rPr>
              <a:t>=</a:t>
            </a:r>
            <a:r>
              <a:rPr b="1" i="1" lang="en-US" sz="3200" spc="-1" strike="noStrike">
                <a:solidFill>
                  <a:srgbClr val="18020f"/>
                </a:solidFill>
                <a:latin typeface="Times New Roman"/>
              </a:rPr>
              <a:t>ax</a:t>
            </a:r>
            <a:r>
              <a:rPr b="1" lang="en-US" sz="3200" spc="-1" strike="noStrike" baseline="30000">
                <a:solidFill>
                  <a:srgbClr val="18020f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矩形 19"/>
          <p:cNvSpPr/>
          <p:nvPr/>
        </p:nvSpPr>
        <p:spPr>
          <a:xfrm>
            <a:off x="2241720" y="1447920"/>
            <a:ext cx="339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8020f"/>
                </a:solidFill>
                <a:latin typeface="Times New Roman"/>
              </a:rPr>
              <a:t>当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&gt;0</a:t>
            </a:r>
            <a:r>
              <a:rPr b="1" lang="zh-CN" sz="2800" spc="-1" strike="noStrike">
                <a:solidFill>
                  <a:srgbClr val="18020f"/>
                </a:solidFill>
                <a:latin typeface="Times New Roman"/>
              </a:rPr>
              <a:t>时</a:t>
            </a:r>
            <a:r>
              <a:rPr b="1" lang="en-US" sz="2800" spc="-1" strike="noStrike">
                <a:solidFill>
                  <a:srgbClr val="18020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18020f"/>
                </a:solidFill>
                <a:latin typeface="Times New Roman"/>
              </a:rPr>
              <a:t>向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上</a:t>
            </a:r>
            <a:r>
              <a:rPr b="1" lang="zh-CN" sz="2800" spc="-1" strike="noStrike">
                <a:solidFill>
                  <a:srgbClr val="18020f"/>
                </a:solidFill>
                <a:latin typeface="Times New Roman"/>
              </a:rPr>
              <a:t>平移</a:t>
            </a:r>
            <a:r>
              <a:rPr b="1" lang="en-US" sz="2800" spc="-1" strike="noStrike">
                <a:solidFill>
                  <a:srgbClr val="18020f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18020f"/>
                </a:solidFill>
                <a:latin typeface="Times New Roman"/>
              </a:rPr>
              <a:t>个单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矩形 20"/>
          <p:cNvSpPr/>
          <p:nvPr/>
        </p:nvSpPr>
        <p:spPr>
          <a:xfrm>
            <a:off x="2319480" y="2057400"/>
            <a:ext cx="344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8020f"/>
                </a:solidFill>
                <a:latin typeface="Times New Roman"/>
              </a:rPr>
              <a:t>当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&lt;0</a:t>
            </a:r>
            <a:r>
              <a:rPr b="1" lang="zh-CN" sz="2800" spc="-1" strike="noStrike">
                <a:solidFill>
                  <a:srgbClr val="18020f"/>
                </a:solidFill>
                <a:latin typeface="Times New Roman"/>
              </a:rPr>
              <a:t>时</a:t>
            </a:r>
            <a:r>
              <a:rPr b="1" lang="en-US" sz="2800" spc="-1" strike="noStrike">
                <a:solidFill>
                  <a:srgbClr val="18020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18020f"/>
                </a:solidFill>
                <a:latin typeface="Times New Roman"/>
              </a:rPr>
              <a:t>向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下</a:t>
            </a:r>
            <a:r>
              <a:rPr b="1" lang="zh-CN" sz="2800" spc="-1" strike="noStrike">
                <a:solidFill>
                  <a:srgbClr val="18020f"/>
                </a:solidFill>
                <a:latin typeface="Times New Roman"/>
              </a:rPr>
              <a:t>平移    个单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Object 11" descr=""/>
          <p:cNvPicPr/>
          <p:nvPr/>
        </p:nvPicPr>
        <p:blipFill>
          <a:blip r:embed="rId2"/>
          <a:stretch/>
        </p:blipFill>
        <p:spPr>
          <a:xfrm>
            <a:off x="6324480" y="1676520"/>
            <a:ext cx="2133720" cy="685800"/>
          </a:xfrm>
          <a:prstGeom prst="rect">
            <a:avLst/>
          </a:prstGeom>
          <a:ln w="0">
            <a:noFill/>
          </a:ln>
        </p:spPr>
      </p:pic>
      <p:pic>
        <p:nvPicPr>
          <p:cNvPr id="283" name="Object 12" descr=""/>
          <p:cNvPicPr/>
          <p:nvPr/>
        </p:nvPicPr>
        <p:blipFill>
          <a:blip r:embed="rId3"/>
          <a:stretch/>
        </p:blipFill>
        <p:spPr>
          <a:xfrm>
            <a:off x="4724280" y="2057400"/>
            <a:ext cx="387360" cy="595440"/>
          </a:xfrm>
          <a:prstGeom prst="rect">
            <a:avLst/>
          </a:prstGeom>
          <a:ln w="0">
            <a:noFill/>
          </a:ln>
        </p:spPr>
      </p:pic>
      <p:sp>
        <p:nvSpPr>
          <p:cNvPr id="284" name="TextBox 23"/>
          <p:cNvSpPr/>
          <p:nvPr/>
        </p:nvSpPr>
        <p:spPr>
          <a:xfrm>
            <a:off x="787320" y="0"/>
            <a:ext cx="4021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楷体"/>
                <a:ea typeface="楷体"/>
              </a:rPr>
              <a:t>4.</a:t>
            </a:r>
            <a:r>
              <a:rPr b="1" lang="zh-CN" sz="6000" spc="-1" strike="noStrike">
                <a:solidFill>
                  <a:srgbClr val="000099"/>
                </a:solidFill>
                <a:latin typeface="楷体"/>
                <a:ea typeface="楷体"/>
              </a:rPr>
              <a:t>上下平移规律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Box 24"/>
          <p:cNvSpPr/>
          <p:nvPr/>
        </p:nvSpPr>
        <p:spPr>
          <a:xfrm>
            <a:off x="2015280" y="297180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楷体"/>
                <a:ea typeface="楷体"/>
              </a:rPr>
              <a:t>左右平移规律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5"/>
          <p:cNvSpPr/>
          <p:nvPr/>
        </p:nvSpPr>
        <p:spPr>
          <a:xfrm>
            <a:off x="1905120" y="2057400"/>
            <a:ext cx="419076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6"/>
          <p:cNvSpPr/>
          <p:nvPr/>
        </p:nvSpPr>
        <p:spPr>
          <a:xfrm>
            <a:off x="0" y="6094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二次函数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y=ax</a:t>
            </a:r>
            <a:r>
              <a:rPr b="1" lang="en-US" sz="5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的图象和性质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0" y="2438280"/>
          <a:ext cx="8859960" cy="4235400"/>
        </p:xfrm>
        <a:graphic>
          <a:graphicData uri="http://schemas.openxmlformats.org/drawingml/2006/table">
            <a:tbl>
              <a:tblPr/>
              <a:tblGrid>
                <a:gridCol w="1428840"/>
                <a:gridCol w="3678120"/>
                <a:gridCol w="3753000"/>
              </a:tblGrid>
              <a:tr h="53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9" name="Text Box 58"/>
          <p:cNvSpPr/>
          <p:nvPr/>
        </p:nvSpPr>
        <p:spPr>
          <a:xfrm>
            <a:off x="316800" y="25146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抛物线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59"/>
          <p:cNvSpPr/>
          <p:nvPr/>
        </p:nvSpPr>
        <p:spPr>
          <a:xfrm>
            <a:off x="254880" y="4114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顶点坐标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60"/>
          <p:cNvSpPr/>
          <p:nvPr/>
        </p:nvSpPr>
        <p:spPr>
          <a:xfrm>
            <a:off x="240480" y="35812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称轴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62"/>
          <p:cNvSpPr/>
          <p:nvPr/>
        </p:nvSpPr>
        <p:spPr>
          <a:xfrm>
            <a:off x="254880" y="30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开口方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63"/>
          <p:cNvSpPr/>
          <p:nvPr/>
        </p:nvSpPr>
        <p:spPr>
          <a:xfrm>
            <a:off x="375120" y="48006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增减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64"/>
          <p:cNvSpPr/>
          <p:nvPr/>
        </p:nvSpPr>
        <p:spPr>
          <a:xfrm>
            <a:off x="364320" y="5562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最值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65"/>
          <p:cNvSpPr/>
          <p:nvPr/>
        </p:nvSpPr>
        <p:spPr>
          <a:xfrm>
            <a:off x="1902960" y="2438280"/>
            <a:ext cx="214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=ax2</a:t>
            </a: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(a&gt;0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66"/>
          <p:cNvSpPr/>
          <p:nvPr/>
        </p:nvSpPr>
        <p:spPr>
          <a:xfrm>
            <a:off x="5484240" y="2438280"/>
            <a:ext cx="214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=ax2</a:t>
            </a: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(a&lt;0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67"/>
          <p:cNvSpPr/>
          <p:nvPr/>
        </p:nvSpPr>
        <p:spPr>
          <a:xfrm>
            <a:off x="2300760" y="3962520"/>
            <a:ext cx="178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0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0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68"/>
          <p:cNvSpPr/>
          <p:nvPr/>
        </p:nvSpPr>
        <p:spPr>
          <a:xfrm>
            <a:off x="5996160" y="3962520"/>
            <a:ext cx="170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69"/>
          <p:cNvSpPr/>
          <p:nvPr/>
        </p:nvSpPr>
        <p:spPr>
          <a:xfrm>
            <a:off x="2402280" y="3505320"/>
            <a:ext cx="14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直线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x=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70"/>
          <p:cNvSpPr/>
          <p:nvPr/>
        </p:nvSpPr>
        <p:spPr>
          <a:xfrm>
            <a:off x="5983560" y="3505320"/>
            <a:ext cx="14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直线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x=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73"/>
          <p:cNvSpPr/>
          <p:nvPr/>
        </p:nvSpPr>
        <p:spPr>
          <a:xfrm>
            <a:off x="2684160" y="2971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向上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74"/>
          <p:cNvSpPr/>
          <p:nvPr/>
        </p:nvSpPr>
        <p:spPr>
          <a:xfrm>
            <a:off x="6113160" y="2971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向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75"/>
          <p:cNvSpPr/>
          <p:nvPr/>
        </p:nvSpPr>
        <p:spPr>
          <a:xfrm>
            <a:off x="1600200" y="5562720"/>
            <a:ext cx="325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当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x=0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时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最小值为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76"/>
          <p:cNvSpPr/>
          <p:nvPr/>
        </p:nvSpPr>
        <p:spPr>
          <a:xfrm>
            <a:off x="5477400" y="5562720"/>
            <a:ext cx="280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当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x=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时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最大值为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0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77"/>
          <p:cNvSpPr/>
          <p:nvPr/>
        </p:nvSpPr>
        <p:spPr>
          <a:xfrm>
            <a:off x="1523880" y="4495680"/>
            <a:ext cx="358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Times New Roman"/>
              </a:rPr>
              <a:t>在对称轴的左侧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,y</a:t>
            </a:r>
            <a:r>
              <a:rPr b="1" lang="zh-CN" sz="2000" spc="-1" strike="noStrike">
                <a:solidFill>
                  <a:srgbClr val="c00000"/>
                </a:solidFill>
                <a:latin typeface="Times New Roman"/>
              </a:rPr>
              <a:t>随着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c00000"/>
                </a:solidFill>
                <a:latin typeface="Times New Roman"/>
              </a:rPr>
              <a:t>的增大而减小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. </a:t>
            </a:r>
            <a:r>
              <a:rPr b="1" lang="zh-CN" sz="2000" spc="-1" strike="noStrike">
                <a:solidFill>
                  <a:srgbClr val="c00000"/>
                </a:solidFill>
                <a:latin typeface="Times New Roman"/>
              </a:rPr>
              <a:t>在对称轴的右侧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, y</a:t>
            </a:r>
            <a:r>
              <a:rPr b="1" lang="zh-CN" sz="2000" spc="-1" strike="noStrike">
                <a:solidFill>
                  <a:srgbClr val="c00000"/>
                </a:solidFill>
                <a:latin typeface="Times New Roman"/>
              </a:rPr>
              <a:t>随着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c00000"/>
                </a:solidFill>
                <a:latin typeface="Times New Roman"/>
              </a:rPr>
              <a:t>的增大而增大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78"/>
          <p:cNvSpPr/>
          <p:nvPr/>
        </p:nvSpPr>
        <p:spPr>
          <a:xfrm>
            <a:off x="5181480" y="4495680"/>
            <a:ext cx="358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在对称轴的左侧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,y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随着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的增大而增大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. 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在对称轴的右侧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, y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随着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的增大而减小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16"/>
          <p:cNvSpPr/>
          <p:nvPr/>
        </p:nvSpPr>
        <p:spPr>
          <a:xfrm>
            <a:off x="152280" y="4572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二次函数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y=a(x-h)</a:t>
            </a:r>
            <a:r>
              <a:rPr b="1" lang="en-US" sz="4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的图象和性质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0" y="2286000"/>
          <a:ext cx="8859960" cy="4251240"/>
        </p:xfrm>
        <a:graphic>
          <a:graphicData uri="http://schemas.openxmlformats.org/drawingml/2006/table">
            <a:tbl>
              <a:tblPr/>
              <a:tblGrid>
                <a:gridCol w="1428840"/>
                <a:gridCol w="3678120"/>
                <a:gridCol w="3753000"/>
              </a:tblGrid>
              <a:tr h="53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9" name="Text Box 58"/>
          <p:cNvSpPr/>
          <p:nvPr/>
        </p:nvSpPr>
        <p:spPr>
          <a:xfrm>
            <a:off x="88200" y="23623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抛物线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59"/>
          <p:cNvSpPr/>
          <p:nvPr/>
        </p:nvSpPr>
        <p:spPr>
          <a:xfrm>
            <a:off x="254880" y="3962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顶点坐标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60"/>
          <p:cNvSpPr/>
          <p:nvPr/>
        </p:nvSpPr>
        <p:spPr>
          <a:xfrm>
            <a:off x="240480" y="3429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称轴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62"/>
          <p:cNvSpPr/>
          <p:nvPr/>
        </p:nvSpPr>
        <p:spPr>
          <a:xfrm>
            <a:off x="0" y="2895480"/>
            <a:ext cx="14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开口方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63"/>
          <p:cNvSpPr/>
          <p:nvPr/>
        </p:nvSpPr>
        <p:spPr>
          <a:xfrm>
            <a:off x="375120" y="4724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增减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64"/>
          <p:cNvSpPr/>
          <p:nvPr/>
        </p:nvSpPr>
        <p:spPr>
          <a:xfrm>
            <a:off x="440280" y="5486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最值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65"/>
          <p:cNvSpPr/>
          <p:nvPr/>
        </p:nvSpPr>
        <p:spPr>
          <a:xfrm>
            <a:off x="1913400" y="2286000"/>
            <a:ext cx="257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y=a(x-h)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(a&gt;0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66"/>
          <p:cNvSpPr/>
          <p:nvPr/>
        </p:nvSpPr>
        <p:spPr>
          <a:xfrm>
            <a:off x="5647320" y="2286000"/>
            <a:ext cx="257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y=a(x-h)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(a&lt;0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67"/>
          <p:cNvSpPr/>
          <p:nvPr/>
        </p:nvSpPr>
        <p:spPr>
          <a:xfrm>
            <a:off x="2300760" y="3809880"/>
            <a:ext cx="178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h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0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68"/>
          <p:cNvSpPr/>
          <p:nvPr/>
        </p:nvSpPr>
        <p:spPr>
          <a:xfrm>
            <a:off x="5996520" y="3886200"/>
            <a:ext cx="173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69"/>
          <p:cNvSpPr/>
          <p:nvPr/>
        </p:nvSpPr>
        <p:spPr>
          <a:xfrm>
            <a:off x="2402640" y="3352680"/>
            <a:ext cx="142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直线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x=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70"/>
          <p:cNvSpPr/>
          <p:nvPr/>
        </p:nvSpPr>
        <p:spPr>
          <a:xfrm>
            <a:off x="6060240" y="3352680"/>
            <a:ext cx="142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直线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x=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73"/>
          <p:cNvSpPr/>
          <p:nvPr/>
        </p:nvSpPr>
        <p:spPr>
          <a:xfrm>
            <a:off x="2684160" y="2819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向上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74"/>
          <p:cNvSpPr/>
          <p:nvPr/>
        </p:nvSpPr>
        <p:spPr>
          <a:xfrm>
            <a:off x="6265800" y="2819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向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75"/>
          <p:cNvSpPr/>
          <p:nvPr/>
        </p:nvSpPr>
        <p:spPr>
          <a:xfrm>
            <a:off x="1819440" y="5410080"/>
            <a:ext cx="283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当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x=h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时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最小值为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76"/>
          <p:cNvSpPr/>
          <p:nvPr/>
        </p:nvSpPr>
        <p:spPr>
          <a:xfrm>
            <a:off x="5257800" y="54864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当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x=h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时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最大值为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0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77"/>
          <p:cNvSpPr/>
          <p:nvPr/>
        </p:nvSpPr>
        <p:spPr>
          <a:xfrm>
            <a:off x="1600200" y="441972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Times New Roman"/>
              </a:rPr>
              <a:t>在对称轴的左侧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,y</a:t>
            </a:r>
            <a:r>
              <a:rPr b="1" lang="zh-CN" sz="2000" spc="-1" strike="noStrike">
                <a:solidFill>
                  <a:srgbClr val="c00000"/>
                </a:solidFill>
                <a:latin typeface="Times New Roman"/>
              </a:rPr>
              <a:t>随着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c00000"/>
                </a:solidFill>
                <a:latin typeface="Times New Roman"/>
              </a:rPr>
              <a:t>的增大而减小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. </a:t>
            </a:r>
            <a:r>
              <a:rPr b="1" lang="zh-CN" sz="2000" spc="-1" strike="noStrike">
                <a:solidFill>
                  <a:srgbClr val="c00000"/>
                </a:solidFill>
                <a:latin typeface="Times New Roman"/>
              </a:rPr>
              <a:t>在对称轴的右侧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, y</a:t>
            </a:r>
            <a:r>
              <a:rPr b="1" lang="zh-CN" sz="2000" spc="-1" strike="noStrike">
                <a:solidFill>
                  <a:srgbClr val="c00000"/>
                </a:solidFill>
                <a:latin typeface="Times New Roman"/>
              </a:rPr>
              <a:t>随着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c00000"/>
                </a:solidFill>
                <a:latin typeface="Times New Roman"/>
              </a:rPr>
              <a:t>的增大而增大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78"/>
          <p:cNvSpPr/>
          <p:nvPr/>
        </p:nvSpPr>
        <p:spPr>
          <a:xfrm>
            <a:off x="5257800" y="441972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在对称轴的左侧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,y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随着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的增大而增大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. 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在对称轴的右侧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, y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随着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的增大而减小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16"/>
          <p:cNvGrpSpPr/>
          <p:nvPr/>
        </p:nvGrpSpPr>
        <p:grpSpPr>
          <a:xfrm>
            <a:off x="1828800" y="2743200"/>
            <a:ext cx="6638400" cy="5201640"/>
            <a:chOff x="1828800" y="2743200"/>
            <a:chExt cx="6638400" cy="5201640"/>
          </a:xfrm>
        </p:grpSpPr>
        <p:grpSp>
          <p:nvGrpSpPr>
            <p:cNvPr id="328" name="Group 17"/>
            <p:cNvGrpSpPr/>
            <p:nvPr/>
          </p:nvGrpSpPr>
          <p:grpSpPr>
            <a:xfrm>
              <a:off x="1828800" y="3047760"/>
              <a:ext cx="6161040" cy="4897080"/>
              <a:chOff x="1828800" y="3047760"/>
              <a:chExt cx="6161040" cy="4897080"/>
            </a:xfrm>
          </p:grpSpPr>
          <p:pic>
            <p:nvPicPr>
              <p:cNvPr id="329" name="Picture 18" descr=""/>
              <p:cNvPicPr/>
              <p:nvPr/>
            </p:nvPicPr>
            <p:blipFill>
              <a:blip r:embed="rId1"/>
              <a:srcRect l="20548" t="0" r="0" b="0"/>
              <a:stretch/>
            </p:blipFill>
            <p:spPr>
              <a:xfrm>
                <a:off x="1828800" y="3047760"/>
                <a:ext cx="2977920" cy="288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0" name="Picture 19" descr=""/>
              <p:cNvPicPr/>
              <p:nvPr/>
            </p:nvPicPr>
            <p:blipFill>
              <a:blip r:embed="rId2"/>
              <a:srcRect l="0" t="0" r="12330" b="0"/>
              <a:stretch/>
            </p:blipFill>
            <p:spPr>
              <a:xfrm>
                <a:off x="4703760" y="3047760"/>
                <a:ext cx="3285720" cy="288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1" name="Picture 20" descr=""/>
              <p:cNvPicPr/>
              <p:nvPr/>
            </p:nvPicPr>
            <p:blipFill>
              <a:blip r:embed="rId3"/>
              <a:srcRect l="20548" t="0" r="0" b="25509"/>
              <a:stretch/>
            </p:blipFill>
            <p:spPr>
              <a:xfrm>
                <a:off x="1828800" y="5799240"/>
                <a:ext cx="2977920" cy="214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" name="Picture 21" descr=""/>
              <p:cNvPicPr/>
              <p:nvPr/>
            </p:nvPicPr>
            <p:blipFill>
              <a:blip r:embed="rId4"/>
              <a:srcRect l="0" t="0" r="12330" b="25509"/>
              <a:stretch/>
            </p:blipFill>
            <p:spPr>
              <a:xfrm>
                <a:off x="4703760" y="5799240"/>
                <a:ext cx="3285720" cy="214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3" name="Line 22"/>
              <p:cNvSpPr/>
              <p:nvPr/>
            </p:nvSpPr>
            <p:spPr>
              <a:xfrm>
                <a:off x="1828800" y="5839200"/>
                <a:ext cx="6161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Line 23"/>
              <p:cNvSpPr/>
              <p:nvPr/>
            </p:nvSpPr>
            <p:spPr>
              <a:xfrm flipV="1">
                <a:off x="4755240" y="3144960"/>
                <a:ext cx="0" cy="440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5" name="Text Box 24"/>
            <p:cNvSpPr/>
            <p:nvPr/>
          </p:nvSpPr>
          <p:spPr>
            <a:xfrm>
              <a:off x="4452480" y="57906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Text Box 25"/>
            <p:cNvSpPr/>
            <p:nvPr/>
          </p:nvSpPr>
          <p:spPr>
            <a:xfrm>
              <a:off x="8082360" y="54860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Text Box 26"/>
            <p:cNvSpPr/>
            <p:nvPr/>
          </p:nvSpPr>
          <p:spPr>
            <a:xfrm>
              <a:off x="4805640" y="27432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Text Box 27"/>
            <p:cNvSpPr/>
            <p:nvPr/>
          </p:nvSpPr>
          <p:spPr>
            <a:xfrm>
              <a:off x="5006520" y="5800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Text Box 28"/>
            <p:cNvSpPr/>
            <p:nvPr/>
          </p:nvSpPr>
          <p:spPr>
            <a:xfrm>
              <a:off x="5357880" y="5800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Text Box 29"/>
            <p:cNvSpPr/>
            <p:nvPr/>
          </p:nvSpPr>
          <p:spPr>
            <a:xfrm>
              <a:off x="5715360" y="5800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30"/>
            <p:cNvSpPr/>
            <p:nvPr/>
          </p:nvSpPr>
          <p:spPr>
            <a:xfrm>
              <a:off x="6076440" y="5800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31"/>
            <p:cNvSpPr/>
            <p:nvPr/>
          </p:nvSpPr>
          <p:spPr>
            <a:xfrm>
              <a:off x="6434280" y="5800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32"/>
            <p:cNvSpPr/>
            <p:nvPr/>
          </p:nvSpPr>
          <p:spPr>
            <a:xfrm>
              <a:off x="4434840" y="5315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33"/>
            <p:cNvSpPr/>
            <p:nvPr/>
          </p:nvSpPr>
          <p:spPr>
            <a:xfrm>
              <a:off x="4443120" y="4942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Text Box 34"/>
            <p:cNvSpPr/>
            <p:nvPr/>
          </p:nvSpPr>
          <p:spPr>
            <a:xfrm>
              <a:off x="4443120" y="4601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4443120" y="4227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4443120" y="3913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Text Box 37"/>
            <p:cNvSpPr/>
            <p:nvPr/>
          </p:nvSpPr>
          <p:spPr>
            <a:xfrm>
              <a:off x="2701080" y="5810400"/>
              <a:ext cx="55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5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Text Box 38"/>
            <p:cNvSpPr/>
            <p:nvPr/>
          </p:nvSpPr>
          <p:spPr>
            <a:xfrm>
              <a:off x="3074760" y="5810400"/>
              <a:ext cx="55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4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3434400" y="5810400"/>
              <a:ext cx="55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3795480" y="5810400"/>
              <a:ext cx="54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Text Box 41"/>
            <p:cNvSpPr/>
            <p:nvPr/>
          </p:nvSpPr>
          <p:spPr>
            <a:xfrm>
              <a:off x="4152960" y="5810400"/>
              <a:ext cx="55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Text Box 42"/>
            <p:cNvSpPr/>
            <p:nvPr/>
          </p:nvSpPr>
          <p:spPr>
            <a:xfrm>
              <a:off x="4358520" y="7376760"/>
              <a:ext cx="55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5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43"/>
            <p:cNvSpPr/>
            <p:nvPr/>
          </p:nvSpPr>
          <p:spPr>
            <a:xfrm>
              <a:off x="4358520" y="7035840"/>
              <a:ext cx="55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4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44"/>
            <p:cNvSpPr/>
            <p:nvPr/>
          </p:nvSpPr>
          <p:spPr>
            <a:xfrm>
              <a:off x="4358520" y="6690240"/>
              <a:ext cx="55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45"/>
            <p:cNvSpPr/>
            <p:nvPr/>
          </p:nvSpPr>
          <p:spPr>
            <a:xfrm>
              <a:off x="4358520" y="6347520"/>
              <a:ext cx="55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Text Box 46"/>
            <p:cNvSpPr/>
            <p:nvPr/>
          </p:nvSpPr>
          <p:spPr>
            <a:xfrm>
              <a:off x="4358520" y="6003720"/>
              <a:ext cx="55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Freeform 47"/>
          <p:cNvSpPr/>
          <p:nvPr/>
        </p:nvSpPr>
        <p:spPr>
          <a:xfrm>
            <a:off x="3886200" y="3276720"/>
            <a:ext cx="1600200" cy="2590560"/>
          </a:xfrm>
          <a:custGeom>
            <a:avLst/>
            <a:gdLst/>
            <a:ahLst/>
            <a:rect l="l" t="t" r="r" b="b"/>
            <a:pathLst>
              <a:path w="1543" h="2064">
                <a:moveTo>
                  <a:pt x="0" y="0"/>
                </a:moveTo>
                <a:lnTo>
                  <a:pt x="6" y="36"/>
                </a:lnTo>
                <a:lnTo>
                  <a:pt x="12" y="72"/>
                </a:lnTo>
                <a:lnTo>
                  <a:pt x="24" y="108"/>
                </a:lnTo>
                <a:lnTo>
                  <a:pt x="30" y="144"/>
                </a:lnTo>
                <a:lnTo>
                  <a:pt x="36" y="180"/>
                </a:lnTo>
                <a:lnTo>
                  <a:pt x="42" y="216"/>
                </a:lnTo>
                <a:lnTo>
                  <a:pt x="48" y="246"/>
                </a:lnTo>
                <a:lnTo>
                  <a:pt x="54" y="282"/>
                </a:lnTo>
                <a:lnTo>
                  <a:pt x="60" y="318"/>
                </a:lnTo>
                <a:lnTo>
                  <a:pt x="72" y="348"/>
                </a:lnTo>
                <a:lnTo>
                  <a:pt x="78" y="384"/>
                </a:lnTo>
                <a:lnTo>
                  <a:pt x="84" y="414"/>
                </a:lnTo>
                <a:lnTo>
                  <a:pt x="90" y="450"/>
                </a:lnTo>
                <a:lnTo>
                  <a:pt x="96" y="480"/>
                </a:lnTo>
                <a:lnTo>
                  <a:pt x="102" y="510"/>
                </a:lnTo>
                <a:lnTo>
                  <a:pt x="108" y="546"/>
                </a:lnTo>
                <a:lnTo>
                  <a:pt x="120" y="576"/>
                </a:lnTo>
                <a:lnTo>
                  <a:pt x="126" y="606"/>
                </a:lnTo>
                <a:lnTo>
                  <a:pt x="132" y="636"/>
                </a:lnTo>
                <a:lnTo>
                  <a:pt x="138" y="666"/>
                </a:lnTo>
                <a:lnTo>
                  <a:pt x="144" y="696"/>
                </a:lnTo>
                <a:lnTo>
                  <a:pt x="150" y="726"/>
                </a:lnTo>
                <a:lnTo>
                  <a:pt x="156" y="756"/>
                </a:lnTo>
                <a:lnTo>
                  <a:pt x="168" y="786"/>
                </a:lnTo>
                <a:lnTo>
                  <a:pt x="174" y="816"/>
                </a:lnTo>
                <a:lnTo>
                  <a:pt x="180" y="840"/>
                </a:lnTo>
                <a:lnTo>
                  <a:pt x="186" y="870"/>
                </a:lnTo>
                <a:lnTo>
                  <a:pt x="192" y="900"/>
                </a:lnTo>
                <a:lnTo>
                  <a:pt x="198" y="924"/>
                </a:lnTo>
                <a:lnTo>
                  <a:pt x="204" y="954"/>
                </a:lnTo>
                <a:lnTo>
                  <a:pt x="216" y="978"/>
                </a:lnTo>
                <a:lnTo>
                  <a:pt x="222" y="1002"/>
                </a:lnTo>
                <a:lnTo>
                  <a:pt x="228" y="1032"/>
                </a:lnTo>
                <a:lnTo>
                  <a:pt x="234" y="1056"/>
                </a:lnTo>
                <a:lnTo>
                  <a:pt x="240" y="1080"/>
                </a:lnTo>
                <a:lnTo>
                  <a:pt x="246" y="1104"/>
                </a:lnTo>
                <a:lnTo>
                  <a:pt x="252" y="1134"/>
                </a:lnTo>
                <a:lnTo>
                  <a:pt x="264" y="1158"/>
                </a:lnTo>
                <a:lnTo>
                  <a:pt x="270" y="1182"/>
                </a:lnTo>
                <a:lnTo>
                  <a:pt x="276" y="1206"/>
                </a:lnTo>
                <a:lnTo>
                  <a:pt x="282" y="1230"/>
                </a:lnTo>
                <a:lnTo>
                  <a:pt x="288" y="1248"/>
                </a:lnTo>
                <a:lnTo>
                  <a:pt x="294" y="1272"/>
                </a:lnTo>
                <a:lnTo>
                  <a:pt x="300" y="1296"/>
                </a:lnTo>
                <a:lnTo>
                  <a:pt x="312" y="1320"/>
                </a:lnTo>
                <a:lnTo>
                  <a:pt x="318" y="1338"/>
                </a:lnTo>
                <a:lnTo>
                  <a:pt x="324" y="1362"/>
                </a:lnTo>
                <a:lnTo>
                  <a:pt x="330" y="1380"/>
                </a:lnTo>
                <a:lnTo>
                  <a:pt x="336" y="1404"/>
                </a:lnTo>
                <a:lnTo>
                  <a:pt x="342" y="1422"/>
                </a:lnTo>
                <a:lnTo>
                  <a:pt x="348" y="1446"/>
                </a:lnTo>
                <a:lnTo>
                  <a:pt x="360" y="1464"/>
                </a:lnTo>
                <a:lnTo>
                  <a:pt x="366" y="1482"/>
                </a:lnTo>
                <a:lnTo>
                  <a:pt x="372" y="1500"/>
                </a:lnTo>
                <a:lnTo>
                  <a:pt x="378" y="1524"/>
                </a:lnTo>
                <a:lnTo>
                  <a:pt x="384" y="1542"/>
                </a:lnTo>
                <a:lnTo>
                  <a:pt x="390" y="1560"/>
                </a:lnTo>
                <a:lnTo>
                  <a:pt x="396" y="1578"/>
                </a:lnTo>
                <a:lnTo>
                  <a:pt x="408" y="1596"/>
                </a:lnTo>
                <a:lnTo>
                  <a:pt x="414" y="1614"/>
                </a:lnTo>
                <a:lnTo>
                  <a:pt x="420" y="1626"/>
                </a:lnTo>
                <a:lnTo>
                  <a:pt x="426" y="1644"/>
                </a:lnTo>
                <a:lnTo>
                  <a:pt x="432" y="1662"/>
                </a:lnTo>
                <a:lnTo>
                  <a:pt x="438" y="1680"/>
                </a:lnTo>
                <a:lnTo>
                  <a:pt x="444" y="1692"/>
                </a:lnTo>
                <a:lnTo>
                  <a:pt x="456" y="1710"/>
                </a:lnTo>
                <a:lnTo>
                  <a:pt x="462" y="1722"/>
                </a:lnTo>
                <a:lnTo>
                  <a:pt x="468" y="1740"/>
                </a:lnTo>
                <a:lnTo>
                  <a:pt x="474" y="1752"/>
                </a:lnTo>
                <a:lnTo>
                  <a:pt x="480" y="1764"/>
                </a:lnTo>
                <a:lnTo>
                  <a:pt x="486" y="1782"/>
                </a:lnTo>
                <a:lnTo>
                  <a:pt x="492" y="1794"/>
                </a:lnTo>
                <a:lnTo>
                  <a:pt x="504" y="1806"/>
                </a:lnTo>
                <a:lnTo>
                  <a:pt x="510" y="1818"/>
                </a:lnTo>
                <a:lnTo>
                  <a:pt x="516" y="1830"/>
                </a:lnTo>
                <a:lnTo>
                  <a:pt x="522" y="1842"/>
                </a:lnTo>
                <a:lnTo>
                  <a:pt x="528" y="1854"/>
                </a:lnTo>
                <a:lnTo>
                  <a:pt x="534" y="1866"/>
                </a:lnTo>
                <a:lnTo>
                  <a:pt x="540" y="1878"/>
                </a:lnTo>
                <a:lnTo>
                  <a:pt x="552" y="1890"/>
                </a:lnTo>
                <a:lnTo>
                  <a:pt x="558" y="1902"/>
                </a:lnTo>
                <a:lnTo>
                  <a:pt x="564" y="1908"/>
                </a:lnTo>
                <a:lnTo>
                  <a:pt x="570" y="1920"/>
                </a:lnTo>
                <a:lnTo>
                  <a:pt x="576" y="1932"/>
                </a:lnTo>
                <a:lnTo>
                  <a:pt x="582" y="1938"/>
                </a:lnTo>
                <a:lnTo>
                  <a:pt x="588" y="1950"/>
                </a:lnTo>
                <a:lnTo>
                  <a:pt x="600" y="1956"/>
                </a:lnTo>
                <a:lnTo>
                  <a:pt x="606" y="1962"/>
                </a:lnTo>
                <a:lnTo>
                  <a:pt x="612" y="1974"/>
                </a:lnTo>
                <a:lnTo>
                  <a:pt x="618" y="1980"/>
                </a:lnTo>
                <a:lnTo>
                  <a:pt x="624" y="1986"/>
                </a:lnTo>
                <a:lnTo>
                  <a:pt x="630" y="1992"/>
                </a:lnTo>
                <a:lnTo>
                  <a:pt x="636" y="1998"/>
                </a:lnTo>
                <a:lnTo>
                  <a:pt x="648" y="2004"/>
                </a:lnTo>
                <a:lnTo>
                  <a:pt x="654" y="2010"/>
                </a:lnTo>
                <a:lnTo>
                  <a:pt x="660" y="2016"/>
                </a:lnTo>
                <a:lnTo>
                  <a:pt x="666" y="2022"/>
                </a:lnTo>
                <a:lnTo>
                  <a:pt x="672" y="2028"/>
                </a:lnTo>
                <a:lnTo>
                  <a:pt x="678" y="2034"/>
                </a:lnTo>
                <a:lnTo>
                  <a:pt x="684" y="2040"/>
                </a:lnTo>
                <a:lnTo>
                  <a:pt x="690" y="2040"/>
                </a:lnTo>
                <a:lnTo>
                  <a:pt x="702" y="2046"/>
                </a:lnTo>
                <a:lnTo>
                  <a:pt x="708" y="2046"/>
                </a:lnTo>
                <a:lnTo>
                  <a:pt x="714" y="2052"/>
                </a:lnTo>
                <a:lnTo>
                  <a:pt x="720" y="2052"/>
                </a:lnTo>
                <a:lnTo>
                  <a:pt x="726" y="2058"/>
                </a:lnTo>
                <a:lnTo>
                  <a:pt x="732" y="2058"/>
                </a:lnTo>
                <a:lnTo>
                  <a:pt x="738" y="2058"/>
                </a:lnTo>
                <a:lnTo>
                  <a:pt x="750" y="2064"/>
                </a:lnTo>
                <a:lnTo>
                  <a:pt x="756" y="2064"/>
                </a:lnTo>
                <a:lnTo>
                  <a:pt x="762" y="2064"/>
                </a:lnTo>
                <a:lnTo>
                  <a:pt x="768" y="2064"/>
                </a:lnTo>
                <a:lnTo>
                  <a:pt x="774" y="2064"/>
                </a:lnTo>
                <a:lnTo>
                  <a:pt x="781" y="2064"/>
                </a:lnTo>
                <a:lnTo>
                  <a:pt x="787" y="2064"/>
                </a:lnTo>
                <a:lnTo>
                  <a:pt x="799" y="2064"/>
                </a:lnTo>
                <a:lnTo>
                  <a:pt x="805" y="2064"/>
                </a:lnTo>
                <a:lnTo>
                  <a:pt x="811" y="2058"/>
                </a:lnTo>
                <a:lnTo>
                  <a:pt x="817" y="2058"/>
                </a:lnTo>
                <a:lnTo>
                  <a:pt x="823" y="2058"/>
                </a:lnTo>
                <a:lnTo>
                  <a:pt x="829" y="2052"/>
                </a:lnTo>
                <a:lnTo>
                  <a:pt x="835" y="2052"/>
                </a:lnTo>
                <a:lnTo>
                  <a:pt x="847" y="2046"/>
                </a:lnTo>
                <a:lnTo>
                  <a:pt x="853" y="2046"/>
                </a:lnTo>
                <a:lnTo>
                  <a:pt x="859" y="2040"/>
                </a:lnTo>
                <a:lnTo>
                  <a:pt x="865" y="2034"/>
                </a:lnTo>
                <a:lnTo>
                  <a:pt x="871" y="2034"/>
                </a:lnTo>
                <a:lnTo>
                  <a:pt x="877" y="2028"/>
                </a:lnTo>
                <a:lnTo>
                  <a:pt x="883" y="2022"/>
                </a:lnTo>
                <a:lnTo>
                  <a:pt x="895" y="2016"/>
                </a:lnTo>
                <a:lnTo>
                  <a:pt x="901" y="2010"/>
                </a:lnTo>
                <a:lnTo>
                  <a:pt x="907" y="2004"/>
                </a:lnTo>
                <a:lnTo>
                  <a:pt x="913" y="1998"/>
                </a:lnTo>
                <a:lnTo>
                  <a:pt x="919" y="1992"/>
                </a:lnTo>
                <a:lnTo>
                  <a:pt x="925" y="1986"/>
                </a:lnTo>
                <a:lnTo>
                  <a:pt x="931" y="1974"/>
                </a:lnTo>
                <a:lnTo>
                  <a:pt x="943" y="1968"/>
                </a:lnTo>
                <a:lnTo>
                  <a:pt x="949" y="1962"/>
                </a:lnTo>
                <a:lnTo>
                  <a:pt x="955" y="1950"/>
                </a:lnTo>
                <a:lnTo>
                  <a:pt x="961" y="1944"/>
                </a:lnTo>
                <a:lnTo>
                  <a:pt x="967" y="1938"/>
                </a:lnTo>
                <a:lnTo>
                  <a:pt x="973" y="1926"/>
                </a:lnTo>
                <a:lnTo>
                  <a:pt x="979" y="1914"/>
                </a:lnTo>
                <a:lnTo>
                  <a:pt x="991" y="1908"/>
                </a:lnTo>
                <a:lnTo>
                  <a:pt x="997" y="1896"/>
                </a:lnTo>
                <a:lnTo>
                  <a:pt x="1003" y="1884"/>
                </a:lnTo>
                <a:lnTo>
                  <a:pt x="1009" y="1872"/>
                </a:lnTo>
                <a:lnTo>
                  <a:pt x="1015" y="1866"/>
                </a:lnTo>
                <a:lnTo>
                  <a:pt x="1021" y="1854"/>
                </a:lnTo>
                <a:lnTo>
                  <a:pt x="1027" y="1842"/>
                </a:lnTo>
                <a:lnTo>
                  <a:pt x="1039" y="1830"/>
                </a:lnTo>
                <a:lnTo>
                  <a:pt x="1045" y="1818"/>
                </a:lnTo>
                <a:lnTo>
                  <a:pt x="1051" y="1800"/>
                </a:lnTo>
                <a:lnTo>
                  <a:pt x="1057" y="1788"/>
                </a:lnTo>
                <a:lnTo>
                  <a:pt x="1063" y="1776"/>
                </a:lnTo>
                <a:lnTo>
                  <a:pt x="1069" y="1764"/>
                </a:lnTo>
                <a:lnTo>
                  <a:pt x="1075" y="1746"/>
                </a:lnTo>
                <a:lnTo>
                  <a:pt x="1087" y="1734"/>
                </a:lnTo>
                <a:lnTo>
                  <a:pt x="1093" y="1716"/>
                </a:lnTo>
                <a:lnTo>
                  <a:pt x="1099" y="1704"/>
                </a:lnTo>
                <a:lnTo>
                  <a:pt x="1105" y="1686"/>
                </a:lnTo>
                <a:lnTo>
                  <a:pt x="1111" y="1674"/>
                </a:lnTo>
                <a:lnTo>
                  <a:pt x="1117" y="1656"/>
                </a:lnTo>
                <a:lnTo>
                  <a:pt x="1123" y="1638"/>
                </a:lnTo>
                <a:lnTo>
                  <a:pt x="1135" y="1620"/>
                </a:lnTo>
                <a:lnTo>
                  <a:pt x="1141" y="1608"/>
                </a:lnTo>
                <a:lnTo>
                  <a:pt x="1147" y="1590"/>
                </a:lnTo>
                <a:lnTo>
                  <a:pt x="1153" y="1572"/>
                </a:lnTo>
                <a:lnTo>
                  <a:pt x="1159" y="1554"/>
                </a:lnTo>
                <a:lnTo>
                  <a:pt x="1165" y="1536"/>
                </a:lnTo>
                <a:lnTo>
                  <a:pt x="1171" y="1518"/>
                </a:lnTo>
                <a:lnTo>
                  <a:pt x="1183" y="1494"/>
                </a:lnTo>
                <a:lnTo>
                  <a:pt x="1189" y="1476"/>
                </a:lnTo>
                <a:lnTo>
                  <a:pt x="1195" y="1458"/>
                </a:lnTo>
                <a:lnTo>
                  <a:pt x="1201" y="1440"/>
                </a:lnTo>
                <a:lnTo>
                  <a:pt x="1207" y="1416"/>
                </a:lnTo>
                <a:lnTo>
                  <a:pt x="1213" y="1398"/>
                </a:lnTo>
                <a:lnTo>
                  <a:pt x="1219" y="1374"/>
                </a:lnTo>
                <a:lnTo>
                  <a:pt x="1231" y="1356"/>
                </a:lnTo>
                <a:lnTo>
                  <a:pt x="1237" y="1332"/>
                </a:lnTo>
                <a:lnTo>
                  <a:pt x="1243" y="1308"/>
                </a:lnTo>
                <a:lnTo>
                  <a:pt x="1249" y="1290"/>
                </a:lnTo>
                <a:lnTo>
                  <a:pt x="1255" y="1266"/>
                </a:lnTo>
                <a:lnTo>
                  <a:pt x="1261" y="1242"/>
                </a:lnTo>
                <a:lnTo>
                  <a:pt x="1267" y="1218"/>
                </a:lnTo>
                <a:lnTo>
                  <a:pt x="1279" y="1194"/>
                </a:lnTo>
                <a:lnTo>
                  <a:pt x="1285" y="1170"/>
                </a:lnTo>
                <a:lnTo>
                  <a:pt x="1291" y="1146"/>
                </a:lnTo>
                <a:lnTo>
                  <a:pt x="1297" y="1122"/>
                </a:lnTo>
                <a:lnTo>
                  <a:pt x="1303" y="1098"/>
                </a:lnTo>
                <a:lnTo>
                  <a:pt x="1309" y="1074"/>
                </a:lnTo>
                <a:lnTo>
                  <a:pt x="1315" y="1050"/>
                </a:lnTo>
                <a:lnTo>
                  <a:pt x="1327" y="1020"/>
                </a:lnTo>
                <a:lnTo>
                  <a:pt x="1333" y="996"/>
                </a:lnTo>
                <a:lnTo>
                  <a:pt x="1339" y="966"/>
                </a:lnTo>
                <a:lnTo>
                  <a:pt x="1345" y="942"/>
                </a:lnTo>
                <a:lnTo>
                  <a:pt x="1351" y="912"/>
                </a:lnTo>
                <a:lnTo>
                  <a:pt x="1357" y="888"/>
                </a:lnTo>
                <a:lnTo>
                  <a:pt x="1363" y="858"/>
                </a:lnTo>
                <a:lnTo>
                  <a:pt x="1375" y="834"/>
                </a:lnTo>
                <a:lnTo>
                  <a:pt x="1381" y="804"/>
                </a:lnTo>
                <a:lnTo>
                  <a:pt x="1387" y="774"/>
                </a:lnTo>
                <a:lnTo>
                  <a:pt x="1393" y="744"/>
                </a:lnTo>
                <a:lnTo>
                  <a:pt x="1399" y="714"/>
                </a:lnTo>
                <a:lnTo>
                  <a:pt x="1405" y="684"/>
                </a:lnTo>
                <a:lnTo>
                  <a:pt x="1411" y="654"/>
                </a:lnTo>
                <a:lnTo>
                  <a:pt x="1423" y="624"/>
                </a:lnTo>
                <a:lnTo>
                  <a:pt x="1429" y="594"/>
                </a:lnTo>
                <a:lnTo>
                  <a:pt x="1435" y="564"/>
                </a:lnTo>
                <a:lnTo>
                  <a:pt x="1441" y="534"/>
                </a:lnTo>
                <a:lnTo>
                  <a:pt x="1447" y="504"/>
                </a:lnTo>
                <a:lnTo>
                  <a:pt x="1453" y="468"/>
                </a:lnTo>
                <a:lnTo>
                  <a:pt x="1459" y="438"/>
                </a:lnTo>
                <a:lnTo>
                  <a:pt x="1471" y="402"/>
                </a:lnTo>
                <a:lnTo>
                  <a:pt x="1477" y="372"/>
                </a:lnTo>
                <a:lnTo>
                  <a:pt x="1483" y="336"/>
                </a:lnTo>
                <a:lnTo>
                  <a:pt x="1489" y="306"/>
                </a:lnTo>
                <a:lnTo>
                  <a:pt x="1495" y="270"/>
                </a:lnTo>
                <a:lnTo>
                  <a:pt x="1501" y="234"/>
                </a:lnTo>
                <a:lnTo>
                  <a:pt x="1507" y="204"/>
                </a:lnTo>
                <a:lnTo>
                  <a:pt x="1519" y="168"/>
                </a:lnTo>
                <a:lnTo>
                  <a:pt x="1525" y="132"/>
                </a:lnTo>
                <a:lnTo>
                  <a:pt x="1531" y="96"/>
                </a:lnTo>
                <a:lnTo>
                  <a:pt x="1537" y="60"/>
                </a:lnTo>
                <a:lnTo>
                  <a:pt x="1543" y="24"/>
                </a:ln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Group 50"/>
          <p:cNvGrpSpPr/>
          <p:nvPr/>
        </p:nvGrpSpPr>
        <p:grpSpPr>
          <a:xfrm>
            <a:off x="4267080" y="3276720"/>
            <a:ext cx="1600200" cy="3581280"/>
            <a:chOff x="4267080" y="3276720"/>
            <a:chExt cx="1600200" cy="3581280"/>
          </a:xfrm>
        </p:grpSpPr>
        <p:sp>
          <p:nvSpPr>
            <p:cNvPr id="360" name="Freeform 48"/>
            <p:cNvSpPr/>
            <p:nvPr/>
          </p:nvSpPr>
          <p:spPr>
            <a:xfrm>
              <a:off x="4267080" y="3276720"/>
              <a:ext cx="1600200" cy="2590920"/>
            </a:xfrm>
            <a:custGeom>
              <a:avLst/>
              <a:gdLst/>
              <a:ahLst/>
              <a:rect l="l" t="t" r="r" b="b"/>
              <a:pathLst>
                <a:path w="1543" h="2064">
                  <a:moveTo>
                    <a:pt x="0" y="0"/>
                  </a:moveTo>
                  <a:lnTo>
                    <a:pt x="6" y="36"/>
                  </a:lnTo>
                  <a:lnTo>
                    <a:pt x="12" y="72"/>
                  </a:lnTo>
                  <a:lnTo>
                    <a:pt x="24" y="108"/>
                  </a:lnTo>
                  <a:lnTo>
                    <a:pt x="30" y="144"/>
                  </a:lnTo>
                  <a:lnTo>
                    <a:pt x="36" y="180"/>
                  </a:lnTo>
                  <a:lnTo>
                    <a:pt x="42" y="216"/>
                  </a:lnTo>
                  <a:lnTo>
                    <a:pt x="48" y="246"/>
                  </a:lnTo>
                  <a:lnTo>
                    <a:pt x="54" y="282"/>
                  </a:lnTo>
                  <a:lnTo>
                    <a:pt x="60" y="318"/>
                  </a:lnTo>
                  <a:lnTo>
                    <a:pt x="72" y="348"/>
                  </a:lnTo>
                  <a:lnTo>
                    <a:pt x="78" y="384"/>
                  </a:lnTo>
                  <a:lnTo>
                    <a:pt x="84" y="414"/>
                  </a:lnTo>
                  <a:lnTo>
                    <a:pt x="90" y="450"/>
                  </a:lnTo>
                  <a:lnTo>
                    <a:pt x="96" y="480"/>
                  </a:lnTo>
                  <a:lnTo>
                    <a:pt x="102" y="510"/>
                  </a:lnTo>
                  <a:lnTo>
                    <a:pt x="108" y="546"/>
                  </a:lnTo>
                  <a:lnTo>
                    <a:pt x="120" y="576"/>
                  </a:lnTo>
                  <a:lnTo>
                    <a:pt x="126" y="606"/>
                  </a:lnTo>
                  <a:lnTo>
                    <a:pt x="132" y="636"/>
                  </a:lnTo>
                  <a:lnTo>
                    <a:pt x="138" y="666"/>
                  </a:lnTo>
                  <a:lnTo>
                    <a:pt x="144" y="696"/>
                  </a:lnTo>
                  <a:lnTo>
                    <a:pt x="150" y="726"/>
                  </a:lnTo>
                  <a:lnTo>
                    <a:pt x="156" y="756"/>
                  </a:lnTo>
                  <a:lnTo>
                    <a:pt x="168" y="786"/>
                  </a:lnTo>
                  <a:lnTo>
                    <a:pt x="174" y="816"/>
                  </a:lnTo>
                  <a:lnTo>
                    <a:pt x="180" y="840"/>
                  </a:lnTo>
                  <a:lnTo>
                    <a:pt x="186" y="870"/>
                  </a:lnTo>
                  <a:lnTo>
                    <a:pt x="192" y="900"/>
                  </a:lnTo>
                  <a:lnTo>
                    <a:pt x="198" y="924"/>
                  </a:lnTo>
                  <a:lnTo>
                    <a:pt x="204" y="954"/>
                  </a:lnTo>
                  <a:lnTo>
                    <a:pt x="216" y="978"/>
                  </a:lnTo>
                  <a:lnTo>
                    <a:pt x="222" y="1002"/>
                  </a:lnTo>
                  <a:lnTo>
                    <a:pt x="228" y="1032"/>
                  </a:lnTo>
                  <a:lnTo>
                    <a:pt x="234" y="1056"/>
                  </a:lnTo>
                  <a:lnTo>
                    <a:pt x="240" y="1080"/>
                  </a:lnTo>
                  <a:lnTo>
                    <a:pt x="246" y="1104"/>
                  </a:lnTo>
                  <a:lnTo>
                    <a:pt x="252" y="1134"/>
                  </a:lnTo>
                  <a:lnTo>
                    <a:pt x="264" y="1158"/>
                  </a:lnTo>
                  <a:lnTo>
                    <a:pt x="270" y="1182"/>
                  </a:lnTo>
                  <a:lnTo>
                    <a:pt x="276" y="1206"/>
                  </a:lnTo>
                  <a:lnTo>
                    <a:pt x="282" y="1230"/>
                  </a:lnTo>
                  <a:lnTo>
                    <a:pt x="288" y="1248"/>
                  </a:lnTo>
                  <a:lnTo>
                    <a:pt x="294" y="1272"/>
                  </a:lnTo>
                  <a:lnTo>
                    <a:pt x="300" y="1296"/>
                  </a:lnTo>
                  <a:lnTo>
                    <a:pt x="312" y="1320"/>
                  </a:lnTo>
                  <a:lnTo>
                    <a:pt x="318" y="1338"/>
                  </a:lnTo>
                  <a:lnTo>
                    <a:pt x="324" y="1362"/>
                  </a:lnTo>
                  <a:lnTo>
                    <a:pt x="330" y="1380"/>
                  </a:lnTo>
                  <a:lnTo>
                    <a:pt x="336" y="1404"/>
                  </a:lnTo>
                  <a:lnTo>
                    <a:pt x="342" y="1422"/>
                  </a:lnTo>
                  <a:lnTo>
                    <a:pt x="348" y="1446"/>
                  </a:lnTo>
                  <a:lnTo>
                    <a:pt x="360" y="1464"/>
                  </a:lnTo>
                  <a:lnTo>
                    <a:pt x="366" y="1482"/>
                  </a:lnTo>
                  <a:lnTo>
                    <a:pt x="372" y="1500"/>
                  </a:lnTo>
                  <a:lnTo>
                    <a:pt x="378" y="1524"/>
                  </a:lnTo>
                  <a:lnTo>
                    <a:pt x="384" y="1542"/>
                  </a:lnTo>
                  <a:lnTo>
                    <a:pt x="390" y="1560"/>
                  </a:lnTo>
                  <a:lnTo>
                    <a:pt x="396" y="1578"/>
                  </a:lnTo>
                  <a:lnTo>
                    <a:pt x="408" y="1596"/>
                  </a:lnTo>
                  <a:lnTo>
                    <a:pt x="414" y="1614"/>
                  </a:lnTo>
                  <a:lnTo>
                    <a:pt x="420" y="1626"/>
                  </a:lnTo>
                  <a:lnTo>
                    <a:pt x="426" y="1644"/>
                  </a:lnTo>
                  <a:lnTo>
                    <a:pt x="432" y="1662"/>
                  </a:lnTo>
                  <a:lnTo>
                    <a:pt x="438" y="1680"/>
                  </a:lnTo>
                  <a:lnTo>
                    <a:pt x="444" y="1692"/>
                  </a:lnTo>
                  <a:lnTo>
                    <a:pt x="456" y="1710"/>
                  </a:lnTo>
                  <a:lnTo>
                    <a:pt x="462" y="1722"/>
                  </a:lnTo>
                  <a:lnTo>
                    <a:pt x="468" y="1740"/>
                  </a:lnTo>
                  <a:lnTo>
                    <a:pt x="474" y="1752"/>
                  </a:lnTo>
                  <a:lnTo>
                    <a:pt x="480" y="1764"/>
                  </a:lnTo>
                  <a:lnTo>
                    <a:pt x="486" y="1782"/>
                  </a:lnTo>
                  <a:lnTo>
                    <a:pt x="492" y="1794"/>
                  </a:lnTo>
                  <a:lnTo>
                    <a:pt x="504" y="1806"/>
                  </a:lnTo>
                  <a:lnTo>
                    <a:pt x="510" y="1818"/>
                  </a:lnTo>
                  <a:lnTo>
                    <a:pt x="516" y="1830"/>
                  </a:lnTo>
                  <a:lnTo>
                    <a:pt x="522" y="1842"/>
                  </a:lnTo>
                  <a:lnTo>
                    <a:pt x="528" y="1854"/>
                  </a:lnTo>
                  <a:lnTo>
                    <a:pt x="534" y="1866"/>
                  </a:lnTo>
                  <a:lnTo>
                    <a:pt x="540" y="1878"/>
                  </a:lnTo>
                  <a:lnTo>
                    <a:pt x="552" y="1890"/>
                  </a:lnTo>
                  <a:lnTo>
                    <a:pt x="558" y="1902"/>
                  </a:lnTo>
                  <a:lnTo>
                    <a:pt x="564" y="1908"/>
                  </a:lnTo>
                  <a:lnTo>
                    <a:pt x="570" y="1920"/>
                  </a:lnTo>
                  <a:lnTo>
                    <a:pt x="576" y="1932"/>
                  </a:lnTo>
                  <a:lnTo>
                    <a:pt x="582" y="1938"/>
                  </a:lnTo>
                  <a:lnTo>
                    <a:pt x="588" y="1950"/>
                  </a:lnTo>
                  <a:lnTo>
                    <a:pt x="600" y="1956"/>
                  </a:lnTo>
                  <a:lnTo>
                    <a:pt x="606" y="1962"/>
                  </a:lnTo>
                  <a:lnTo>
                    <a:pt x="612" y="1974"/>
                  </a:lnTo>
                  <a:lnTo>
                    <a:pt x="618" y="1980"/>
                  </a:lnTo>
                  <a:lnTo>
                    <a:pt x="624" y="1986"/>
                  </a:lnTo>
                  <a:lnTo>
                    <a:pt x="630" y="1992"/>
                  </a:lnTo>
                  <a:lnTo>
                    <a:pt x="636" y="1998"/>
                  </a:lnTo>
                  <a:lnTo>
                    <a:pt x="648" y="2004"/>
                  </a:lnTo>
                  <a:lnTo>
                    <a:pt x="654" y="2010"/>
                  </a:lnTo>
                  <a:lnTo>
                    <a:pt x="660" y="2016"/>
                  </a:lnTo>
                  <a:lnTo>
                    <a:pt x="666" y="2022"/>
                  </a:lnTo>
                  <a:lnTo>
                    <a:pt x="672" y="2028"/>
                  </a:lnTo>
                  <a:lnTo>
                    <a:pt x="678" y="2034"/>
                  </a:lnTo>
                  <a:lnTo>
                    <a:pt x="684" y="2040"/>
                  </a:lnTo>
                  <a:lnTo>
                    <a:pt x="690" y="2040"/>
                  </a:lnTo>
                  <a:lnTo>
                    <a:pt x="702" y="2046"/>
                  </a:lnTo>
                  <a:lnTo>
                    <a:pt x="708" y="2046"/>
                  </a:lnTo>
                  <a:lnTo>
                    <a:pt x="714" y="2052"/>
                  </a:lnTo>
                  <a:lnTo>
                    <a:pt x="720" y="2052"/>
                  </a:lnTo>
                  <a:lnTo>
                    <a:pt x="726" y="2058"/>
                  </a:lnTo>
                  <a:lnTo>
                    <a:pt x="732" y="2058"/>
                  </a:lnTo>
                  <a:lnTo>
                    <a:pt x="738" y="2058"/>
                  </a:lnTo>
                  <a:lnTo>
                    <a:pt x="750" y="2064"/>
                  </a:lnTo>
                  <a:lnTo>
                    <a:pt x="756" y="2064"/>
                  </a:lnTo>
                  <a:lnTo>
                    <a:pt x="762" y="2064"/>
                  </a:lnTo>
                  <a:lnTo>
                    <a:pt x="768" y="2064"/>
                  </a:lnTo>
                  <a:lnTo>
                    <a:pt x="774" y="2064"/>
                  </a:lnTo>
                  <a:lnTo>
                    <a:pt x="781" y="2064"/>
                  </a:lnTo>
                  <a:lnTo>
                    <a:pt x="787" y="2064"/>
                  </a:lnTo>
                  <a:lnTo>
                    <a:pt x="799" y="2064"/>
                  </a:lnTo>
                  <a:lnTo>
                    <a:pt x="805" y="2064"/>
                  </a:lnTo>
                  <a:lnTo>
                    <a:pt x="811" y="2058"/>
                  </a:lnTo>
                  <a:lnTo>
                    <a:pt x="817" y="2058"/>
                  </a:lnTo>
                  <a:lnTo>
                    <a:pt x="823" y="2058"/>
                  </a:lnTo>
                  <a:lnTo>
                    <a:pt x="829" y="2052"/>
                  </a:lnTo>
                  <a:lnTo>
                    <a:pt x="835" y="2052"/>
                  </a:lnTo>
                  <a:lnTo>
                    <a:pt x="847" y="2046"/>
                  </a:lnTo>
                  <a:lnTo>
                    <a:pt x="853" y="2046"/>
                  </a:lnTo>
                  <a:lnTo>
                    <a:pt x="859" y="2040"/>
                  </a:lnTo>
                  <a:lnTo>
                    <a:pt x="865" y="2034"/>
                  </a:lnTo>
                  <a:lnTo>
                    <a:pt x="871" y="2034"/>
                  </a:lnTo>
                  <a:lnTo>
                    <a:pt x="877" y="2028"/>
                  </a:lnTo>
                  <a:lnTo>
                    <a:pt x="883" y="2022"/>
                  </a:lnTo>
                  <a:lnTo>
                    <a:pt x="895" y="2016"/>
                  </a:lnTo>
                  <a:lnTo>
                    <a:pt x="901" y="2010"/>
                  </a:lnTo>
                  <a:lnTo>
                    <a:pt x="907" y="2004"/>
                  </a:lnTo>
                  <a:lnTo>
                    <a:pt x="913" y="1998"/>
                  </a:lnTo>
                  <a:lnTo>
                    <a:pt x="919" y="1992"/>
                  </a:lnTo>
                  <a:lnTo>
                    <a:pt x="925" y="1986"/>
                  </a:lnTo>
                  <a:lnTo>
                    <a:pt x="931" y="1974"/>
                  </a:lnTo>
                  <a:lnTo>
                    <a:pt x="943" y="1968"/>
                  </a:lnTo>
                  <a:lnTo>
                    <a:pt x="949" y="1962"/>
                  </a:lnTo>
                  <a:lnTo>
                    <a:pt x="955" y="1950"/>
                  </a:lnTo>
                  <a:lnTo>
                    <a:pt x="961" y="1944"/>
                  </a:lnTo>
                  <a:lnTo>
                    <a:pt x="967" y="1938"/>
                  </a:lnTo>
                  <a:lnTo>
                    <a:pt x="973" y="1926"/>
                  </a:lnTo>
                  <a:lnTo>
                    <a:pt x="979" y="1914"/>
                  </a:lnTo>
                  <a:lnTo>
                    <a:pt x="991" y="1908"/>
                  </a:lnTo>
                  <a:lnTo>
                    <a:pt x="997" y="1896"/>
                  </a:lnTo>
                  <a:lnTo>
                    <a:pt x="1003" y="1884"/>
                  </a:lnTo>
                  <a:lnTo>
                    <a:pt x="1009" y="1872"/>
                  </a:lnTo>
                  <a:lnTo>
                    <a:pt x="1015" y="1866"/>
                  </a:lnTo>
                  <a:lnTo>
                    <a:pt x="1021" y="1854"/>
                  </a:lnTo>
                  <a:lnTo>
                    <a:pt x="1027" y="1842"/>
                  </a:lnTo>
                  <a:lnTo>
                    <a:pt x="1039" y="1830"/>
                  </a:lnTo>
                  <a:lnTo>
                    <a:pt x="1045" y="1818"/>
                  </a:lnTo>
                  <a:lnTo>
                    <a:pt x="1051" y="1800"/>
                  </a:lnTo>
                  <a:lnTo>
                    <a:pt x="1057" y="1788"/>
                  </a:lnTo>
                  <a:lnTo>
                    <a:pt x="1063" y="1776"/>
                  </a:lnTo>
                  <a:lnTo>
                    <a:pt x="1069" y="1764"/>
                  </a:lnTo>
                  <a:lnTo>
                    <a:pt x="1075" y="1746"/>
                  </a:lnTo>
                  <a:lnTo>
                    <a:pt x="1087" y="1734"/>
                  </a:lnTo>
                  <a:lnTo>
                    <a:pt x="1093" y="1716"/>
                  </a:lnTo>
                  <a:lnTo>
                    <a:pt x="1099" y="1704"/>
                  </a:lnTo>
                  <a:lnTo>
                    <a:pt x="1105" y="1686"/>
                  </a:lnTo>
                  <a:lnTo>
                    <a:pt x="1111" y="1674"/>
                  </a:lnTo>
                  <a:lnTo>
                    <a:pt x="1117" y="1656"/>
                  </a:lnTo>
                  <a:lnTo>
                    <a:pt x="1123" y="1638"/>
                  </a:lnTo>
                  <a:lnTo>
                    <a:pt x="1135" y="1620"/>
                  </a:lnTo>
                  <a:lnTo>
                    <a:pt x="1141" y="1608"/>
                  </a:lnTo>
                  <a:lnTo>
                    <a:pt x="1147" y="1590"/>
                  </a:lnTo>
                  <a:lnTo>
                    <a:pt x="1153" y="1572"/>
                  </a:lnTo>
                  <a:lnTo>
                    <a:pt x="1159" y="1554"/>
                  </a:lnTo>
                  <a:lnTo>
                    <a:pt x="1165" y="1536"/>
                  </a:lnTo>
                  <a:lnTo>
                    <a:pt x="1171" y="1518"/>
                  </a:lnTo>
                  <a:lnTo>
                    <a:pt x="1183" y="1494"/>
                  </a:lnTo>
                  <a:lnTo>
                    <a:pt x="1189" y="1476"/>
                  </a:lnTo>
                  <a:lnTo>
                    <a:pt x="1195" y="1458"/>
                  </a:lnTo>
                  <a:lnTo>
                    <a:pt x="1201" y="1440"/>
                  </a:lnTo>
                  <a:lnTo>
                    <a:pt x="1207" y="1416"/>
                  </a:lnTo>
                  <a:lnTo>
                    <a:pt x="1213" y="1398"/>
                  </a:lnTo>
                  <a:lnTo>
                    <a:pt x="1219" y="1374"/>
                  </a:lnTo>
                  <a:lnTo>
                    <a:pt x="1231" y="1356"/>
                  </a:lnTo>
                  <a:lnTo>
                    <a:pt x="1237" y="1332"/>
                  </a:lnTo>
                  <a:lnTo>
                    <a:pt x="1243" y="1308"/>
                  </a:lnTo>
                  <a:lnTo>
                    <a:pt x="1249" y="1290"/>
                  </a:lnTo>
                  <a:lnTo>
                    <a:pt x="1255" y="1266"/>
                  </a:lnTo>
                  <a:lnTo>
                    <a:pt x="1261" y="1242"/>
                  </a:lnTo>
                  <a:lnTo>
                    <a:pt x="1267" y="1218"/>
                  </a:lnTo>
                  <a:lnTo>
                    <a:pt x="1279" y="1194"/>
                  </a:lnTo>
                  <a:lnTo>
                    <a:pt x="1285" y="1170"/>
                  </a:lnTo>
                  <a:lnTo>
                    <a:pt x="1291" y="1146"/>
                  </a:lnTo>
                  <a:lnTo>
                    <a:pt x="1297" y="1122"/>
                  </a:lnTo>
                  <a:lnTo>
                    <a:pt x="1303" y="1098"/>
                  </a:lnTo>
                  <a:lnTo>
                    <a:pt x="1309" y="1074"/>
                  </a:lnTo>
                  <a:lnTo>
                    <a:pt x="1315" y="1050"/>
                  </a:lnTo>
                  <a:lnTo>
                    <a:pt x="1327" y="1020"/>
                  </a:lnTo>
                  <a:lnTo>
                    <a:pt x="1333" y="996"/>
                  </a:lnTo>
                  <a:lnTo>
                    <a:pt x="1339" y="966"/>
                  </a:lnTo>
                  <a:lnTo>
                    <a:pt x="1345" y="942"/>
                  </a:lnTo>
                  <a:lnTo>
                    <a:pt x="1351" y="912"/>
                  </a:lnTo>
                  <a:lnTo>
                    <a:pt x="1357" y="888"/>
                  </a:lnTo>
                  <a:lnTo>
                    <a:pt x="1363" y="858"/>
                  </a:lnTo>
                  <a:lnTo>
                    <a:pt x="1375" y="834"/>
                  </a:lnTo>
                  <a:lnTo>
                    <a:pt x="1381" y="804"/>
                  </a:lnTo>
                  <a:lnTo>
                    <a:pt x="1387" y="774"/>
                  </a:lnTo>
                  <a:lnTo>
                    <a:pt x="1393" y="744"/>
                  </a:lnTo>
                  <a:lnTo>
                    <a:pt x="1399" y="714"/>
                  </a:lnTo>
                  <a:lnTo>
                    <a:pt x="1405" y="684"/>
                  </a:lnTo>
                  <a:lnTo>
                    <a:pt x="1411" y="654"/>
                  </a:lnTo>
                  <a:lnTo>
                    <a:pt x="1423" y="624"/>
                  </a:lnTo>
                  <a:lnTo>
                    <a:pt x="1429" y="594"/>
                  </a:lnTo>
                  <a:lnTo>
                    <a:pt x="1435" y="564"/>
                  </a:lnTo>
                  <a:lnTo>
                    <a:pt x="1441" y="534"/>
                  </a:lnTo>
                  <a:lnTo>
                    <a:pt x="1447" y="504"/>
                  </a:lnTo>
                  <a:lnTo>
                    <a:pt x="1453" y="468"/>
                  </a:lnTo>
                  <a:lnTo>
                    <a:pt x="1459" y="438"/>
                  </a:lnTo>
                  <a:lnTo>
                    <a:pt x="1471" y="402"/>
                  </a:lnTo>
                  <a:lnTo>
                    <a:pt x="1477" y="372"/>
                  </a:lnTo>
                  <a:lnTo>
                    <a:pt x="1483" y="336"/>
                  </a:lnTo>
                  <a:lnTo>
                    <a:pt x="1489" y="306"/>
                  </a:lnTo>
                  <a:lnTo>
                    <a:pt x="1495" y="270"/>
                  </a:lnTo>
                  <a:lnTo>
                    <a:pt x="1501" y="234"/>
                  </a:lnTo>
                  <a:lnTo>
                    <a:pt x="1507" y="204"/>
                  </a:lnTo>
                  <a:lnTo>
                    <a:pt x="1519" y="168"/>
                  </a:lnTo>
                  <a:lnTo>
                    <a:pt x="1525" y="132"/>
                  </a:lnTo>
                  <a:lnTo>
                    <a:pt x="1531" y="96"/>
                  </a:lnTo>
                  <a:lnTo>
                    <a:pt x="1537" y="60"/>
                  </a:lnTo>
                  <a:lnTo>
                    <a:pt x="1543" y="24"/>
                  </a:lnTo>
                </a:path>
              </a:pathLst>
            </a:custGeom>
            <a:noFill/>
            <a:ln w="2844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49"/>
            <p:cNvSpPr/>
            <p:nvPr/>
          </p:nvSpPr>
          <p:spPr>
            <a:xfrm>
              <a:off x="5105160" y="3581640"/>
              <a:ext cx="0" cy="3276360"/>
            </a:xfrm>
            <a:prstGeom prst="line">
              <a:avLst/>
            </a:prstGeom>
            <a:ln w="28440">
              <a:solidFill>
                <a:srgbClr val="006633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Group 51"/>
          <p:cNvGrpSpPr/>
          <p:nvPr/>
        </p:nvGrpSpPr>
        <p:grpSpPr>
          <a:xfrm>
            <a:off x="4267080" y="2971800"/>
            <a:ext cx="1600200" cy="3581280"/>
            <a:chOff x="4267080" y="2971800"/>
            <a:chExt cx="1600200" cy="3581280"/>
          </a:xfrm>
        </p:grpSpPr>
        <p:sp>
          <p:nvSpPr>
            <p:cNvPr id="363" name="Freeform 52"/>
            <p:cNvSpPr/>
            <p:nvPr/>
          </p:nvSpPr>
          <p:spPr>
            <a:xfrm>
              <a:off x="4267080" y="2971800"/>
              <a:ext cx="1600200" cy="2590920"/>
            </a:xfrm>
            <a:custGeom>
              <a:avLst/>
              <a:gdLst/>
              <a:ahLst/>
              <a:rect l="l" t="t" r="r" b="b"/>
              <a:pathLst>
                <a:path w="1543" h="2064">
                  <a:moveTo>
                    <a:pt x="0" y="0"/>
                  </a:moveTo>
                  <a:lnTo>
                    <a:pt x="6" y="36"/>
                  </a:lnTo>
                  <a:lnTo>
                    <a:pt x="12" y="72"/>
                  </a:lnTo>
                  <a:lnTo>
                    <a:pt x="24" y="108"/>
                  </a:lnTo>
                  <a:lnTo>
                    <a:pt x="30" y="144"/>
                  </a:lnTo>
                  <a:lnTo>
                    <a:pt x="36" y="180"/>
                  </a:lnTo>
                  <a:lnTo>
                    <a:pt x="42" y="216"/>
                  </a:lnTo>
                  <a:lnTo>
                    <a:pt x="48" y="246"/>
                  </a:lnTo>
                  <a:lnTo>
                    <a:pt x="54" y="282"/>
                  </a:lnTo>
                  <a:lnTo>
                    <a:pt x="60" y="318"/>
                  </a:lnTo>
                  <a:lnTo>
                    <a:pt x="72" y="348"/>
                  </a:lnTo>
                  <a:lnTo>
                    <a:pt x="78" y="384"/>
                  </a:lnTo>
                  <a:lnTo>
                    <a:pt x="84" y="414"/>
                  </a:lnTo>
                  <a:lnTo>
                    <a:pt x="90" y="450"/>
                  </a:lnTo>
                  <a:lnTo>
                    <a:pt x="96" y="480"/>
                  </a:lnTo>
                  <a:lnTo>
                    <a:pt x="102" y="510"/>
                  </a:lnTo>
                  <a:lnTo>
                    <a:pt x="108" y="546"/>
                  </a:lnTo>
                  <a:lnTo>
                    <a:pt x="120" y="576"/>
                  </a:lnTo>
                  <a:lnTo>
                    <a:pt x="126" y="606"/>
                  </a:lnTo>
                  <a:lnTo>
                    <a:pt x="132" y="636"/>
                  </a:lnTo>
                  <a:lnTo>
                    <a:pt x="138" y="666"/>
                  </a:lnTo>
                  <a:lnTo>
                    <a:pt x="144" y="696"/>
                  </a:lnTo>
                  <a:lnTo>
                    <a:pt x="150" y="726"/>
                  </a:lnTo>
                  <a:lnTo>
                    <a:pt x="156" y="756"/>
                  </a:lnTo>
                  <a:lnTo>
                    <a:pt x="168" y="786"/>
                  </a:lnTo>
                  <a:lnTo>
                    <a:pt x="174" y="816"/>
                  </a:lnTo>
                  <a:lnTo>
                    <a:pt x="180" y="840"/>
                  </a:lnTo>
                  <a:lnTo>
                    <a:pt x="186" y="870"/>
                  </a:lnTo>
                  <a:lnTo>
                    <a:pt x="192" y="900"/>
                  </a:lnTo>
                  <a:lnTo>
                    <a:pt x="198" y="924"/>
                  </a:lnTo>
                  <a:lnTo>
                    <a:pt x="204" y="954"/>
                  </a:lnTo>
                  <a:lnTo>
                    <a:pt x="216" y="978"/>
                  </a:lnTo>
                  <a:lnTo>
                    <a:pt x="222" y="1002"/>
                  </a:lnTo>
                  <a:lnTo>
                    <a:pt x="228" y="1032"/>
                  </a:lnTo>
                  <a:lnTo>
                    <a:pt x="234" y="1056"/>
                  </a:lnTo>
                  <a:lnTo>
                    <a:pt x="240" y="1080"/>
                  </a:lnTo>
                  <a:lnTo>
                    <a:pt x="246" y="1104"/>
                  </a:lnTo>
                  <a:lnTo>
                    <a:pt x="252" y="1134"/>
                  </a:lnTo>
                  <a:lnTo>
                    <a:pt x="264" y="1158"/>
                  </a:lnTo>
                  <a:lnTo>
                    <a:pt x="270" y="1182"/>
                  </a:lnTo>
                  <a:lnTo>
                    <a:pt x="276" y="1206"/>
                  </a:lnTo>
                  <a:lnTo>
                    <a:pt x="282" y="1230"/>
                  </a:lnTo>
                  <a:lnTo>
                    <a:pt x="288" y="1248"/>
                  </a:lnTo>
                  <a:lnTo>
                    <a:pt x="294" y="1272"/>
                  </a:lnTo>
                  <a:lnTo>
                    <a:pt x="300" y="1296"/>
                  </a:lnTo>
                  <a:lnTo>
                    <a:pt x="312" y="1320"/>
                  </a:lnTo>
                  <a:lnTo>
                    <a:pt x="318" y="1338"/>
                  </a:lnTo>
                  <a:lnTo>
                    <a:pt x="324" y="1362"/>
                  </a:lnTo>
                  <a:lnTo>
                    <a:pt x="330" y="1380"/>
                  </a:lnTo>
                  <a:lnTo>
                    <a:pt x="336" y="1404"/>
                  </a:lnTo>
                  <a:lnTo>
                    <a:pt x="342" y="1422"/>
                  </a:lnTo>
                  <a:lnTo>
                    <a:pt x="348" y="1446"/>
                  </a:lnTo>
                  <a:lnTo>
                    <a:pt x="360" y="1464"/>
                  </a:lnTo>
                  <a:lnTo>
                    <a:pt x="366" y="1482"/>
                  </a:lnTo>
                  <a:lnTo>
                    <a:pt x="372" y="1500"/>
                  </a:lnTo>
                  <a:lnTo>
                    <a:pt x="378" y="1524"/>
                  </a:lnTo>
                  <a:lnTo>
                    <a:pt x="384" y="1542"/>
                  </a:lnTo>
                  <a:lnTo>
                    <a:pt x="390" y="1560"/>
                  </a:lnTo>
                  <a:lnTo>
                    <a:pt x="396" y="1578"/>
                  </a:lnTo>
                  <a:lnTo>
                    <a:pt x="408" y="1596"/>
                  </a:lnTo>
                  <a:lnTo>
                    <a:pt x="414" y="1614"/>
                  </a:lnTo>
                  <a:lnTo>
                    <a:pt x="420" y="1626"/>
                  </a:lnTo>
                  <a:lnTo>
                    <a:pt x="426" y="1644"/>
                  </a:lnTo>
                  <a:lnTo>
                    <a:pt x="432" y="1662"/>
                  </a:lnTo>
                  <a:lnTo>
                    <a:pt x="438" y="1680"/>
                  </a:lnTo>
                  <a:lnTo>
                    <a:pt x="444" y="1692"/>
                  </a:lnTo>
                  <a:lnTo>
                    <a:pt x="456" y="1710"/>
                  </a:lnTo>
                  <a:lnTo>
                    <a:pt x="462" y="1722"/>
                  </a:lnTo>
                  <a:lnTo>
                    <a:pt x="468" y="1740"/>
                  </a:lnTo>
                  <a:lnTo>
                    <a:pt x="474" y="1752"/>
                  </a:lnTo>
                  <a:lnTo>
                    <a:pt x="480" y="1764"/>
                  </a:lnTo>
                  <a:lnTo>
                    <a:pt x="486" y="1782"/>
                  </a:lnTo>
                  <a:lnTo>
                    <a:pt x="492" y="1794"/>
                  </a:lnTo>
                  <a:lnTo>
                    <a:pt x="504" y="1806"/>
                  </a:lnTo>
                  <a:lnTo>
                    <a:pt x="510" y="1818"/>
                  </a:lnTo>
                  <a:lnTo>
                    <a:pt x="516" y="1830"/>
                  </a:lnTo>
                  <a:lnTo>
                    <a:pt x="522" y="1842"/>
                  </a:lnTo>
                  <a:lnTo>
                    <a:pt x="528" y="1854"/>
                  </a:lnTo>
                  <a:lnTo>
                    <a:pt x="534" y="1866"/>
                  </a:lnTo>
                  <a:lnTo>
                    <a:pt x="540" y="1878"/>
                  </a:lnTo>
                  <a:lnTo>
                    <a:pt x="552" y="1890"/>
                  </a:lnTo>
                  <a:lnTo>
                    <a:pt x="558" y="1902"/>
                  </a:lnTo>
                  <a:lnTo>
                    <a:pt x="564" y="1908"/>
                  </a:lnTo>
                  <a:lnTo>
                    <a:pt x="570" y="1920"/>
                  </a:lnTo>
                  <a:lnTo>
                    <a:pt x="576" y="1932"/>
                  </a:lnTo>
                  <a:lnTo>
                    <a:pt x="582" y="1938"/>
                  </a:lnTo>
                  <a:lnTo>
                    <a:pt x="588" y="1950"/>
                  </a:lnTo>
                  <a:lnTo>
                    <a:pt x="600" y="1956"/>
                  </a:lnTo>
                  <a:lnTo>
                    <a:pt x="606" y="1962"/>
                  </a:lnTo>
                  <a:lnTo>
                    <a:pt x="612" y="1974"/>
                  </a:lnTo>
                  <a:lnTo>
                    <a:pt x="618" y="1980"/>
                  </a:lnTo>
                  <a:lnTo>
                    <a:pt x="624" y="1986"/>
                  </a:lnTo>
                  <a:lnTo>
                    <a:pt x="630" y="1992"/>
                  </a:lnTo>
                  <a:lnTo>
                    <a:pt x="636" y="1998"/>
                  </a:lnTo>
                  <a:lnTo>
                    <a:pt x="648" y="2004"/>
                  </a:lnTo>
                  <a:lnTo>
                    <a:pt x="654" y="2010"/>
                  </a:lnTo>
                  <a:lnTo>
                    <a:pt x="660" y="2016"/>
                  </a:lnTo>
                  <a:lnTo>
                    <a:pt x="666" y="2022"/>
                  </a:lnTo>
                  <a:lnTo>
                    <a:pt x="672" y="2028"/>
                  </a:lnTo>
                  <a:lnTo>
                    <a:pt x="678" y="2034"/>
                  </a:lnTo>
                  <a:lnTo>
                    <a:pt x="684" y="2040"/>
                  </a:lnTo>
                  <a:lnTo>
                    <a:pt x="690" y="2040"/>
                  </a:lnTo>
                  <a:lnTo>
                    <a:pt x="702" y="2046"/>
                  </a:lnTo>
                  <a:lnTo>
                    <a:pt x="708" y="2046"/>
                  </a:lnTo>
                  <a:lnTo>
                    <a:pt x="714" y="2052"/>
                  </a:lnTo>
                  <a:lnTo>
                    <a:pt x="720" y="2052"/>
                  </a:lnTo>
                  <a:lnTo>
                    <a:pt x="726" y="2058"/>
                  </a:lnTo>
                  <a:lnTo>
                    <a:pt x="732" y="2058"/>
                  </a:lnTo>
                  <a:lnTo>
                    <a:pt x="738" y="2058"/>
                  </a:lnTo>
                  <a:lnTo>
                    <a:pt x="750" y="2064"/>
                  </a:lnTo>
                  <a:lnTo>
                    <a:pt x="756" y="2064"/>
                  </a:lnTo>
                  <a:lnTo>
                    <a:pt x="762" y="2064"/>
                  </a:lnTo>
                  <a:lnTo>
                    <a:pt x="768" y="2064"/>
                  </a:lnTo>
                  <a:lnTo>
                    <a:pt x="774" y="2064"/>
                  </a:lnTo>
                  <a:lnTo>
                    <a:pt x="781" y="2064"/>
                  </a:lnTo>
                  <a:lnTo>
                    <a:pt x="787" y="2064"/>
                  </a:lnTo>
                  <a:lnTo>
                    <a:pt x="799" y="2064"/>
                  </a:lnTo>
                  <a:lnTo>
                    <a:pt x="805" y="2064"/>
                  </a:lnTo>
                  <a:lnTo>
                    <a:pt x="811" y="2058"/>
                  </a:lnTo>
                  <a:lnTo>
                    <a:pt x="817" y="2058"/>
                  </a:lnTo>
                  <a:lnTo>
                    <a:pt x="823" y="2058"/>
                  </a:lnTo>
                  <a:lnTo>
                    <a:pt x="829" y="2052"/>
                  </a:lnTo>
                  <a:lnTo>
                    <a:pt x="835" y="2052"/>
                  </a:lnTo>
                  <a:lnTo>
                    <a:pt x="847" y="2046"/>
                  </a:lnTo>
                  <a:lnTo>
                    <a:pt x="853" y="2046"/>
                  </a:lnTo>
                  <a:lnTo>
                    <a:pt x="859" y="2040"/>
                  </a:lnTo>
                  <a:lnTo>
                    <a:pt x="865" y="2034"/>
                  </a:lnTo>
                  <a:lnTo>
                    <a:pt x="871" y="2034"/>
                  </a:lnTo>
                  <a:lnTo>
                    <a:pt x="877" y="2028"/>
                  </a:lnTo>
                  <a:lnTo>
                    <a:pt x="883" y="2022"/>
                  </a:lnTo>
                  <a:lnTo>
                    <a:pt x="895" y="2016"/>
                  </a:lnTo>
                  <a:lnTo>
                    <a:pt x="901" y="2010"/>
                  </a:lnTo>
                  <a:lnTo>
                    <a:pt x="907" y="2004"/>
                  </a:lnTo>
                  <a:lnTo>
                    <a:pt x="913" y="1998"/>
                  </a:lnTo>
                  <a:lnTo>
                    <a:pt x="919" y="1992"/>
                  </a:lnTo>
                  <a:lnTo>
                    <a:pt x="925" y="1986"/>
                  </a:lnTo>
                  <a:lnTo>
                    <a:pt x="931" y="1974"/>
                  </a:lnTo>
                  <a:lnTo>
                    <a:pt x="943" y="1968"/>
                  </a:lnTo>
                  <a:lnTo>
                    <a:pt x="949" y="1962"/>
                  </a:lnTo>
                  <a:lnTo>
                    <a:pt x="955" y="1950"/>
                  </a:lnTo>
                  <a:lnTo>
                    <a:pt x="961" y="1944"/>
                  </a:lnTo>
                  <a:lnTo>
                    <a:pt x="967" y="1938"/>
                  </a:lnTo>
                  <a:lnTo>
                    <a:pt x="973" y="1926"/>
                  </a:lnTo>
                  <a:lnTo>
                    <a:pt x="979" y="1914"/>
                  </a:lnTo>
                  <a:lnTo>
                    <a:pt x="991" y="1908"/>
                  </a:lnTo>
                  <a:lnTo>
                    <a:pt x="997" y="1896"/>
                  </a:lnTo>
                  <a:lnTo>
                    <a:pt x="1003" y="1884"/>
                  </a:lnTo>
                  <a:lnTo>
                    <a:pt x="1009" y="1872"/>
                  </a:lnTo>
                  <a:lnTo>
                    <a:pt x="1015" y="1866"/>
                  </a:lnTo>
                  <a:lnTo>
                    <a:pt x="1021" y="1854"/>
                  </a:lnTo>
                  <a:lnTo>
                    <a:pt x="1027" y="1842"/>
                  </a:lnTo>
                  <a:lnTo>
                    <a:pt x="1039" y="1830"/>
                  </a:lnTo>
                  <a:lnTo>
                    <a:pt x="1045" y="1818"/>
                  </a:lnTo>
                  <a:lnTo>
                    <a:pt x="1051" y="1800"/>
                  </a:lnTo>
                  <a:lnTo>
                    <a:pt x="1057" y="1788"/>
                  </a:lnTo>
                  <a:lnTo>
                    <a:pt x="1063" y="1776"/>
                  </a:lnTo>
                  <a:lnTo>
                    <a:pt x="1069" y="1764"/>
                  </a:lnTo>
                  <a:lnTo>
                    <a:pt x="1075" y="1746"/>
                  </a:lnTo>
                  <a:lnTo>
                    <a:pt x="1087" y="1734"/>
                  </a:lnTo>
                  <a:lnTo>
                    <a:pt x="1093" y="1716"/>
                  </a:lnTo>
                  <a:lnTo>
                    <a:pt x="1099" y="1704"/>
                  </a:lnTo>
                  <a:lnTo>
                    <a:pt x="1105" y="1686"/>
                  </a:lnTo>
                  <a:lnTo>
                    <a:pt x="1111" y="1674"/>
                  </a:lnTo>
                  <a:lnTo>
                    <a:pt x="1117" y="1656"/>
                  </a:lnTo>
                  <a:lnTo>
                    <a:pt x="1123" y="1638"/>
                  </a:lnTo>
                  <a:lnTo>
                    <a:pt x="1135" y="1620"/>
                  </a:lnTo>
                  <a:lnTo>
                    <a:pt x="1141" y="1608"/>
                  </a:lnTo>
                  <a:lnTo>
                    <a:pt x="1147" y="1590"/>
                  </a:lnTo>
                  <a:lnTo>
                    <a:pt x="1153" y="1572"/>
                  </a:lnTo>
                  <a:lnTo>
                    <a:pt x="1159" y="1554"/>
                  </a:lnTo>
                  <a:lnTo>
                    <a:pt x="1165" y="1536"/>
                  </a:lnTo>
                  <a:lnTo>
                    <a:pt x="1171" y="1518"/>
                  </a:lnTo>
                  <a:lnTo>
                    <a:pt x="1183" y="1494"/>
                  </a:lnTo>
                  <a:lnTo>
                    <a:pt x="1189" y="1476"/>
                  </a:lnTo>
                  <a:lnTo>
                    <a:pt x="1195" y="1458"/>
                  </a:lnTo>
                  <a:lnTo>
                    <a:pt x="1201" y="1440"/>
                  </a:lnTo>
                  <a:lnTo>
                    <a:pt x="1207" y="1416"/>
                  </a:lnTo>
                  <a:lnTo>
                    <a:pt x="1213" y="1398"/>
                  </a:lnTo>
                  <a:lnTo>
                    <a:pt x="1219" y="1374"/>
                  </a:lnTo>
                  <a:lnTo>
                    <a:pt x="1231" y="1356"/>
                  </a:lnTo>
                  <a:lnTo>
                    <a:pt x="1237" y="1332"/>
                  </a:lnTo>
                  <a:lnTo>
                    <a:pt x="1243" y="1308"/>
                  </a:lnTo>
                  <a:lnTo>
                    <a:pt x="1249" y="1290"/>
                  </a:lnTo>
                  <a:lnTo>
                    <a:pt x="1255" y="1266"/>
                  </a:lnTo>
                  <a:lnTo>
                    <a:pt x="1261" y="1242"/>
                  </a:lnTo>
                  <a:lnTo>
                    <a:pt x="1267" y="1218"/>
                  </a:lnTo>
                  <a:lnTo>
                    <a:pt x="1279" y="1194"/>
                  </a:lnTo>
                  <a:lnTo>
                    <a:pt x="1285" y="1170"/>
                  </a:lnTo>
                  <a:lnTo>
                    <a:pt x="1291" y="1146"/>
                  </a:lnTo>
                  <a:lnTo>
                    <a:pt x="1297" y="1122"/>
                  </a:lnTo>
                  <a:lnTo>
                    <a:pt x="1303" y="1098"/>
                  </a:lnTo>
                  <a:lnTo>
                    <a:pt x="1309" y="1074"/>
                  </a:lnTo>
                  <a:lnTo>
                    <a:pt x="1315" y="1050"/>
                  </a:lnTo>
                  <a:lnTo>
                    <a:pt x="1327" y="1020"/>
                  </a:lnTo>
                  <a:lnTo>
                    <a:pt x="1333" y="996"/>
                  </a:lnTo>
                  <a:lnTo>
                    <a:pt x="1339" y="966"/>
                  </a:lnTo>
                  <a:lnTo>
                    <a:pt x="1345" y="942"/>
                  </a:lnTo>
                  <a:lnTo>
                    <a:pt x="1351" y="912"/>
                  </a:lnTo>
                  <a:lnTo>
                    <a:pt x="1357" y="888"/>
                  </a:lnTo>
                  <a:lnTo>
                    <a:pt x="1363" y="858"/>
                  </a:lnTo>
                  <a:lnTo>
                    <a:pt x="1375" y="834"/>
                  </a:lnTo>
                  <a:lnTo>
                    <a:pt x="1381" y="804"/>
                  </a:lnTo>
                  <a:lnTo>
                    <a:pt x="1387" y="774"/>
                  </a:lnTo>
                  <a:lnTo>
                    <a:pt x="1393" y="744"/>
                  </a:lnTo>
                  <a:lnTo>
                    <a:pt x="1399" y="714"/>
                  </a:lnTo>
                  <a:lnTo>
                    <a:pt x="1405" y="684"/>
                  </a:lnTo>
                  <a:lnTo>
                    <a:pt x="1411" y="654"/>
                  </a:lnTo>
                  <a:lnTo>
                    <a:pt x="1423" y="624"/>
                  </a:lnTo>
                  <a:lnTo>
                    <a:pt x="1429" y="594"/>
                  </a:lnTo>
                  <a:lnTo>
                    <a:pt x="1435" y="564"/>
                  </a:lnTo>
                  <a:lnTo>
                    <a:pt x="1441" y="534"/>
                  </a:lnTo>
                  <a:lnTo>
                    <a:pt x="1447" y="504"/>
                  </a:lnTo>
                  <a:lnTo>
                    <a:pt x="1453" y="468"/>
                  </a:lnTo>
                  <a:lnTo>
                    <a:pt x="1459" y="438"/>
                  </a:lnTo>
                  <a:lnTo>
                    <a:pt x="1471" y="402"/>
                  </a:lnTo>
                  <a:lnTo>
                    <a:pt x="1477" y="372"/>
                  </a:lnTo>
                  <a:lnTo>
                    <a:pt x="1483" y="336"/>
                  </a:lnTo>
                  <a:lnTo>
                    <a:pt x="1489" y="306"/>
                  </a:lnTo>
                  <a:lnTo>
                    <a:pt x="1495" y="270"/>
                  </a:lnTo>
                  <a:lnTo>
                    <a:pt x="1501" y="234"/>
                  </a:lnTo>
                  <a:lnTo>
                    <a:pt x="1507" y="204"/>
                  </a:lnTo>
                  <a:lnTo>
                    <a:pt x="1519" y="168"/>
                  </a:lnTo>
                  <a:lnTo>
                    <a:pt x="1525" y="132"/>
                  </a:lnTo>
                  <a:lnTo>
                    <a:pt x="1531" y="96"/>
                  </a:lnTo>
                  <a:lnTo>
                    <a:pt x="1537" y="60"/>
                  </a:lnTo>
                  <a:lnTo>
                    <a:pt x="1543" y="24"/>
                  </a:lnTo>
                </a:path>
              </a:pathLst>
            </a:custGeom>
            <a:noFill/>
            <a:ln w="28440">
              <a:solidFill>
                <a:srgbClr val="e9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53"/>
            <p:cNvSpPr/>
            <p:nvPr/>
          </p:nvSpPr>
          <p:spPr>
            <a:xfrm>
              <a:off x="5105160" y="3276720"/>
              <a:ext cx="0" cy="3276360"/>
            </a:xfrm>
            <a:prstGeom prst="line">
              <a:avLst/>
            </a:prstGeom>
            <a:ln w="28440">
              <a:solidFill>
                <a:srgbClr val="e90112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Group 63"/>
          <p:cNvGrpSpPr/>
          <p:nvPr/>
        </p:nvGrpSpPr>
        <p:grpSpPr>
          <a:xfrm>
            <a:off x="9448920" y="1905120"/>
            <a:ext cx="1600200" cy="3581280"/>
            <a:chOff x="9448920" y="1905120"/>
            <a:chExt cx="1600200" cy="3581280"/>
          </a:xfrm>
        </p:grpSpPr>
        <p:sp>
          <p:nvSpPr>
            <p:cNvPr id="366" name="Freeform 64"/>
            <p:cNvSpPr/>
            <p:nvPr/>
          </p:nvSpPr>
          <p:spPr>
            <a:xfrm>
              <a:off x="9448920" y="1905120"/>
              <a:ext cx="1600200" cy="2590920"/>
            </a:xfrm>
            <a:custGeom>
              <a:avLst/>
              <a:gdLst/>
              <a:ahLst/>
              <a:rect l="l" t="t" r="r" b="b"/>
              <a:pathLst>
                <a:path w="1543" h="2064">
                  <a:moveTo>
                    <a:pt x="0" y="0"/>
                  </a:moveTo>
                  <a:lnTo>
                    <a:pt x="6" y="36"/>
                  </a:lnTo>
                  <a:lnTo>
                    <a:pt x="12" y="72"/>
                  </a:lnTo>
                  <a:lnTo>
                    <a:pt x="24" y="108"/>
                  </a:lnTo>
                  <a:lnTo>
                    <a:pt x="30" y="144"/>
                  </a:lnTo>
                  <a:lnTo>
                    <a:pt x="36" y="180"/>
                  </a:lnTo>
                  <a:lnTo>
                    <a:pt x="42" y="216"/>
                  </a:lnTo>
                  <a:lnTo>
                    <a:pt x="48" y="246"/>
                  </a:lnTo>
                  <a:lnTo>
                    <a:pt x="54" y="282"/>
                  </a:lnTo>
                  <a:lnTo>
                    <a:pt x="60" y="318"/>
                  </a:lnTo>
                  <a:lnTo>
                    <a:pt x="72" y="348"/>
                  </a:lnTo>
                  <a:lnTo>
                    <a:pt x="78" y="384"/>
                  </a:lnTo>
                  <a:lnTo>
                    <a:pt x="84" y="414"/>
                  </a:lnTo>
                  <a:lnTo>
                    <a:pt x="90" y="450"/>
                  </a:lnTo>
                  <a:lnTo>
                    <a:pt x="96" y="480"/>
                  </a:lnTo>
                  <a:lnTo>
                    <a:pt x="102" y="510"/>
                  </a:lnTo>
                  <a:lnTo>
                    <a:pt x="108" y="546"/>
                  </a:lnTo>
                  <a:lnTo>
                    <a:pt x="120" y="576"/>
                  </a:lnTo>
                  <a:lnTo>
                    <a:pt x="126" y="606"/>
                  </a:lnTo>
                  <a:lnTo>
                    <a:pt x="132" y="636"/>
                  </a:lnTo>
                  <a:lnTo>
                    <a:pt x="138" y="666"/>
                  </a:lnTo>
                  <a:lnTo>
                    <a:pt x="144" y="696"/>
                  </a:lnTo>
                  <a:lnTo>
                    <a:pt x="150" y="726"/>
                  </a:lnTo>
                  <a:lnTo>
                    <a:pt x="156" y="756"/>
                  </a:lnTo>
                  <a:lnTo>
                    <a:pt x="168" y="786"/>
                  </a:lnTo>
                  <a:lnTo>
                    <a:pt x="174" y="816"/>
                  </a:lnTo>
                  <a:lnTo>
                    <a:pt x="180" y="840"/>
                  </a:lnTo>
                  <a:lnTo>
                    <a:pt x="186" y="870"/>
                  </a:lnTo>
                  <a:lnTo>
                    <a:pt x="192" y="900"/>
                  </a:lnTo>
                  <a:lnTo>
                    <a:pt x="198" y="924"/>
                  </a:lnTo>
                  <a:lnTo>
                    <a:pt x="204" y="954"/>
                  </a:lnTo>
                  <a:lnTo>
                    <a:pt x="216" y="978"/>
                  </a:lnTo>
                  <a:lnTo>
                    <a:pt x="222" y="1002"/>
                  </a:lnTo>
                  <a:lnTo>
                    <a:pt x="228" y="1032"/>
                  </a:lnTo>
                  <a:lnTo>
                    <a:pt x="234" y="1056"/>
                  </a:lnTo>
                  <a:lnTo>
                    <a:pt x="240" y="1080"/>
                  </a:lnTo>
                  <a:lnTo>
                    <a:pt x="246" y="1104"/>
                  </a:lnTo>
                  <a:lnTo>
                    <a:pt x="252" y="1134"/>
                  </a:lnTo>
                  <a:lnTo>
                    <a:pt x="264" y="1158"/>
                  </a:lnTo>
                  <a:lnTo>
                    <a:pt x="270" y="1182"/>
                  </a:lnTo>
                  <a:lnTo>
                    <a:pt x="276" y="1206"/>
                  </a:lnTo>
                  <a:lnTo>
                    <a:pt x="282" y="1230"/>
                  </a:lnTo>
                  <a:lnTo>
                    <a:pt x="288" y="1248"/>
                  </a:lnTo>
                  <a:lnTo>
                    <a:pt x="294" y="1272"/>
                  </a:lnTo>
                  <a:lnTo>
                    <a:pt x="300" y="1296"/>
                  </a:lnTo>
                  <a:lnTo>
                    <a:pt x="312" y="1320"/>
                  </a:lnTo>
                  <a:lnTo>
                    <a:pt x="318" y="1338"/>
                  </a:lnTo>
                  <a:lnTo>
                    <a:pt x="324" y="1362"/>
                  </a:lnTo>
                  <a:lnTo>
                    <a:pt x="330" y="1380"/>
                  </a:lnTo>
                  <a:lnTo>
                    <a:pt x="336" y="1404"/>
                  </a:lnTo>
                  <a:lnTo>
                    <a:pt x="342" y="1422"/>
                  </a:lnTo>
                  <a:lnTo>
                    <a:pt x="348" y="1446"/>
                  </a:lnTo>
                  <a:lnTo>
                    <a:pt x="360" y="1464"/>
                  </a:lnTo>
                  <a:lnTo>
                    <a:pt x="366" y="1482"/>
                  </a:lnTo>
                  <a:lnTo>
                    <a:pt x="372" y="1500"/>
                  </a:lnTo>
                  <a:lnTo>
                    <a:pt x="378" y="1524"/>
                  </a:lnTo>
                  <a:lnTo>
                    <a:pt x="384" y="1542"/>
                  </a:lnTo>
                  <a:lnTo>
                    <a:pt x="390" y="1560"/>
                  </a:lnTo>
                  <a:lnTo>
                    <a:pt x="396" y="1578"/>
                  </a:lnTo>
                  <a:lnTo>
                    <a:pt x="408" y="1596"/>
                  </a:lnTo>
                  <a:lnTo>
                    <a:pt x="414" y="1614"/>
                  </a:lnTo>
                  <a:lnTo>
                    <a:pt x="420" y="1626"/>
                  </a:lnTo>
                  <a:lnTo>
                    <a:pt x="426" y="1644"/>
                  </a:lnTo>
                  <a:lnTo>
                    <a:pt x="432" y="1662"/>
                  </a:lnTo>
                  <a:lnTo>
                    <a:pt x="438" y="1680"/>
                  </a:lnTo>
                  <a:lnTo>
                    <a:pt x="444" y="1692"/>
                  </a:lnTo>
                  <a:lnTo>
                    <a:pt x="456" y="1710"/>
                  </a:lnTo>
                  <a:lnTo>
                    <a:pt x="462" y="1722"/>
                  </a:lnTo>
                  <a:lnTo>
                    <a:pt x="468" y="1740"/>
                  </a:lnTo>
                  <a:lnTo>
                    <a:pt x="474" y="1752"/>
                  </a:lnTo>
                  <a:lnTo>
                    <a:pt x="480" y="1764"/>
                  </a:lnTo>
                  <a:lnTo>
                    <a:pt x="486" y="1782"/>
                  </a:lnTo>
                  <a:lnTo>
                    <a:pt x="492" y="1794"/>
                  </a:lnTo>
                  <a:lnTo>
                    <a:pt x="504" y="1806"/>
                  </a:lnTo>
                  <a:lnTo>
                    <a:pt x="510" y="1818"/>
                  </a:lnTo>
                  <a:lnTo>
                    <a:pt x="516" y="1830"/>
                  </a:lnTo>
                  <a:lnTo>
                    <a:pt x="522" y="1842"/>
                  </a:lnTo>
                  <a:lnTo>
                    <a:pt x="528" y="1854"/>
                  </a:lnTo>
                  <a:lnTo>
                    <a:pt x="534" y="1866"/>
                  </a:lnTo>
                  <a:lnTo>
                    <a:pt x="540" y="1878"/>
                  </a:lnTo>
                  <a:lnTo>
                    <a:pt x="552" y="1890"/>
                  </a:lnTo>
                  <a:lnTo>
                    <a:pt x="558" y="1902"/>
                  </a:lnTo>
                  <a:lnTo>
                    <a:pt x="564" y="1908"/>
                  </a:lnTo>
                  <a:lnTo>
                    <a:pt x="570" y="1920"/>
                  </a:lnTo>
                  <a:lnTo>
                    <a:pt x="576" y="1932"/>
                  </a:lnTo>
                  <a:lnTo>
                    <a:pt x="582" y="1938"/>
                  </a:lnTo>
                  <a:lnTo>
                    <a:pt x="588" y="1950"/>
                  </a:lnTo>
                  <a:lnTo>
                    <a:pt x="600" y="1956"/>
                  </a:lnTo>
                  <a:lnTo>
                    <a:pt x="606" y="1962"/>
                  </a:lnTo>
                  <a:lnTo>
                    <a:pt x="612" y="1974"/>
                  </a:lnTo>
                  <a:lnTo>
                    <a:pt x="618" y="1980"/>
                  </a:lnTo>
                  <a:lnTo>
                    <a:pt x="624" y="1986"/>
                  </a:lnTo>
                  <a:lnTo>
                    <a:pt x="630" y="1992"/>
                  </a:lnTo>
                  <a:lnTo>
                    <a:pt x="636" y="1998"/>
                  </a:lnTo>
                  <a:lnTo>
                    <a:pt x="648" y="2004"/>
                  </a:lnTo>
                  <a:lnTo>
                    <a:pt x="654" y="2010"/>
                  </a:lnTo>
                  <a:lnTo>
                    <a:pt x="660" y="2016"/>
                  </a:lnTo>
                  <a:lnTo>
                    <a:pt x="666" y="2022"/>
                  </a:lnTo>
                  <a:lnTo>
                    <a:pt x="672" y="2028"/>
                  </a:lnTo>
                  <a:lnTo>
                    <a:pt x="678" y="2034"/>
                  </a:lnTo>
                  <a:lnTo>
                    <a:pt x="684" y="2040"/>
                  </a:lnTo>
                  <a:lnTo>
                    <a:pt x="690" y="2040"/>
                  </a:lnTo>
                  <a:lnTo>
                    <a:pt x="702" y="2046"/>
                  </a:lnTo>
                  <a:lnTo>
                    <a:pt x="708" y="2046"/>
                  </a:lnTo>
                  <a:lnTo>
                    <a:pt x="714" y="2052"/>
                  </a:lnTo>
                  <a:lnTo>
                    <a:pt x="720" y="2052"/>
                  </a:lnTo>
                  <a:lnTo>
                    <a:pt x="726" y="2058"/>
                  </a:lnTo>
                  <a:lnTo>
                    <a:pt x="732" y="2058"/>
                  </a:lnTo>
                  <a:lnTo>
                    <a:pt x="738" y="2058"/>
                  </a:lnTo>
                  <a:lnTo>
                    <a:pt x="750" y="2064"/>
                  </a:lnTo>
                  <a:lnTo>
                    <a:pt x="756" y="2064"/>
                  </a:lnTo>
                  <a:lnTo>
                    <a:pt x="762" y="2064"/>
                  </a:lnTo>
                  <a:lnTo>
                    <a:pt x="768" y="2064"/>
                  </a:lnTo>
                  <a:lnTo>
                    <a:pt x="774" y="2064"/>
                  </a:lnTo>
                  <a:lnTo>
                    <a:pt x="781" y="2064"/>
                  </a:lnTo>
                  <a:lnTo>
                    <a:pt x="787" y="2064"/>
                  </a:lnTo>
                  <a:lnTo>
                    <a:pt x="799" y="2064"/>
                  </a:lnTo>
                  <a:lnTo>
                    <a:pt x="805" y="2064"/>
                  </a:lnTo>
                  <a:lnTo>
                    <a:pt x="811" y="2058"/>
                  </a:lnTo>
                  <a:lnTo>
                    <a:pt x="817" y="2058"/>
                  </a:lnTo>
                  <a:lnTo>
                    <a:pt x="823" y="2058"/>
                  </a:lnTo>
                  <a:lnTo>
                    <a:pt x="829" y="2052"/>
                  </a:lnTo>
                  <a:lnTo>
                    <a:pt x="835" y="2052"/>
                  </a:lnTo>
                  <a:lnTo>
                    <a:pt x="847" y="2046"/>
                  </a:lnTo>
                  <a:lnTo>
                    <a:pt x="853" y="2046"/>
                  </a:lnTo>
                  <a:lnTo>
                    <a:pt x="859" y="2040"/>
                  </a:lnTo>
                  <a:lnTo>
                    <a:pt x="865" y="2034"/>
                  </a:lnTo>
                  <a:lnTo>
                    <a:pt x="871" y="2034"/>
                  </a:lnTo>
                  <a:lnTo>
                    <a:pt x="877" y="2028"/>
                  </a:lnTo>
                  <a:lnTo>
                    <a:pt x="883" y="2022"/>
                  </a:lnTo>
                  <a:lnTo>
                    <a:pt x="895" y="2016"/>
                  </a:lnTo>
                  <a:lnTo>
                    <a:pt x="901" y="2010"/>
                  </a:lnTo>
                  <a:lnTo>
                    <a:pt x="907" y="2004"/>
                  </a:lnTo>
                  <a:lnTo>
                    <a:pt x="913" y="1998"/>
                  </a:lnTo>
                  <a:lnTo>
                    <a:pt x="919" y="1992"/>
                  </a:lnTo>
                  <a:lnTo>
                    <a:pt x="925" y="1986"/>
                  </a:lnTo>
                  <a:lnTo>
                    <a:pt x="931" y="1974"/>
                  </a:lnTo>
                  <a:lnTo>
                    <a:pt x="943" y="1968"/>
                  </a:lnTo>
                  <a:lnTo>
                    <a:pt x="949" y="1962"/>
                  </a:lnTo>
                  <a:lnTo>
                    <a:pt x="955" y="1950"/>
                  </a:lnTo>
                  <a:lnTo>
                    <a:pt x="961" y="1944"/>
                  </a:lnTo>
                  <a:lnTo>
                    <a:pt x="967" y="1938"/>
                  </a:lnTo>
                  <a:lnTo>
                    <a:pt x="973" y="1926"/>
                  </a:lnTo>
                  <a:lnTo>
                    <a:pt x="979" y="1914"/>
                  </a:lnTo>
                  <a:lnTo>
                    <a:pt x="991" y="1908"/>
                  </a:lnTo>
                  <a:lnTo>
                    <a:pt x="997" y="1896"/>
                  </a:lnTo>
                  <a:lnTo>
                    <a:pt x="1003" y="1884"/>
                  </a:lnTo>
                  <a:lnTo>
                    <a:pt x="1009" y="1872"/>
                  </a:lnTo>
                  <a:lnTo>
                    <a:pt x="1015" y="1866"/>
                  </a:lnTo>
                  <a:lnTo>
                    <a:pt x="1021" y="1854"/>
                  </a:lnTo>
                  <a:lnTo>
                    <a:pt x="1027" y="1842"/>
                  </a:lnTo>
                  <a:lnTo>
                    <a:pt x="1039" y="1830"/>
                  </a:lnTo>
                  <a:lnTo>
                    <a:pt x="1045" y="1818"/>
                  </a:lnTo>
                  <a:lnTo>
                    <a:pt x="1051" y="1800"/>
                  </a:lnTo>
                  <a:lnTo>
                    <a:pt x="1057" y="1788"/>
                  </a:lnTo>
                  <a:lnTo>
                    <a:pt x="1063" y="1776"/>
                  </a:lnTo>
                  <a:lnTo>
                    <a:pt x="1069" y="1764"/>
                  </a:lnTo>
                  <a:lnTo>
                    <a:pt x="1075" y="1746"/>
                  </a:lnTo>
                  <a:lnTo>
                    <a:pt x="1087" y="1734"/>
                  </a:lnTo>
                  <a:lnTo>
                    <a:pt x="1093" y="1716"/>
                  </a:lnTo>
                  <a:lnTo>
                    <a:pt x="1099" y="1704"/>
                  </a:lnTo>
                  <a:lnTo>
                    <a:pt x="1105" y="1686"/>
                  </a:lnTo>
                  <a:lnTo>
                    <a:pt x="1111" y="1674"/>
                  </a:lnTo>
                  <a:lnTo>
                    <a:pt x="1117" y="1656"/>
                  </a:lnTo>
                  <a:lnTo>
                    <a:pt x="1123" y="1638"/>
                  </a:lnTo>
                  <a:lnTo>
                    <a:pt x="1135" y="1620"/>
                  </a:lnTo>
                  <a:lnTo>
                    <a:pt x="1141" y="1608"/>
                  </a:lnTo>
                  <a:lnTo>
                    <a:pt x="1147" y="1590"/>
                  </a:lnTo>
                  <a:lnTo>
                    <a:pt x="1153" y="1572"/>
                  </a:lnTo>
                  <a:lnTo>
                    <a:pt x="1159" y="1554"/>
                  </a:lnTo>
                  <a:lnTo>
                    <a:pt x="1165" y="1536"/>
                  </a:lnTo>
                  <a:lnTo>
                    <a:pt x="1171" y="1518"/>
                  </a:lnTo>
                  <a:lnTo>
                    <a:pt x="1183" y="1494"/>
                  </a:lnTo>
                  <a:lnTo>
                    <a:pt x="1189" y="1476"/>
                  </a:lnTo>
                  <a:lnTo>
                    <a:pt x="1195" y="1458"/>
                  </a:lnTo>
                  <a:lnTo>
                    <a:pt x="1201" y="1440"/>
                  </a:lnTo>
                  <a:lnTo>
                    <a:pt x="1207" y="1416"/>
                  </a:lnTo>
                  <a:lnTo>
                    <a:pt x="1213" y="1398"/>
                  </a:lnTo>
                  <a:lnTo>
                    <a:pt x="1219" y="1374"/>
                  </a:lnTo>
                  <a:lnTo>
                    <a:pt x="1231" y="1356"/>
                  </a:lnTo>
                  <a:lnTo>
                    <a:pt x="1237" y="1332"/>
                  </a:lnTo>
                  <a:lnTo>
                    <a:pt x="1243" y="1308"/>
                  </a:lnTo>
                  <a:lnTo>
                    <a:pt x="1249" y="1290"/>
                  </a:lnTo>
                  <a:lnTo>
                    <a:pt x="1255" y="1266"/>
                  </a:lnTo>
                  <a:lnTo>
                    <a:pt x="1261" y="1242"/>
                  </a:lnTo>
                  <a:lnTo>
                    <a:pt x="1267" y="1218"/>
                  </a:lnTo>
                  <a:lnTo>
                    <a:pt x="1279" y="1194"/>
                  </a:lnTo>
                  <a:lnTo>
                    <a:pt x="1285" y="1170"/>
                  </a:lnTo>
                  <a:lnTo>
                    <a:pt x="1291" y="1146"/>
                  </a:lnTo>
                  <a:lnTo>
                    <a:pt x="1297" y="1122"/>
                  </a:lnTo>
                  <a:lnTo>
                    <a:pt x="1303" y="1098"/>
                  </a:lnTo>
                  <a:lnTo>
                    <a:pt x="1309" y="1074"/>
                  </a:lnTo>
                  <a:lnTo>
                    <a:pt x="1315" y="1050"/>
                  </a:lnTo>
                  <a:lnTo>
                    <a:pt x="1327" y="1020"/>
                  </a:lnTo>
                  <a:lnTo>
                    <a:pt x="1333" y="996"/>
                  </a:lnTo>
                  <a:lnTo>
                    <a:pt x="1339" y="966"/>
                  </a:lnTo>
                  <a:lnTo>
                    <a:pt x="1345" y="942"/>
                  </a:lnTo>
                  <a:lnTo>
                    <a:pt x="1351" y="912"/>
                  </a:lnTo>
                  <a:lnTo>
                    <a:pt x="1357" y="888"/>
                  </a:lnTo>
                  <a:lnTo>
                    <a:pt x="1363" y="858"/>
                  </a:lnTo>
                  <a:lnTo>
                    <a:pt x="1375" y="834"/>
                  </a:lnTo>
                  <a:lnTo>
                    <a:pt x="1381" y="804"/>
                  </a:lnTo>
                  <a:lnTo>
                    <a:pt x="1387" y="774"/>
                  </a:lnTo>
                  <a:lnTo>
                    <a:pt x="1393" y="744"/>
                  </a:lnTo>
                  <a:lnTo>
                    <a:pt x="1399" y="714"/>
                  </a:lnTo>
                  <a:lnTo>
                    <a:pt x="1405" y="684"/>
                  </a:lnTo>
                  <a:lnTo>
                    <a:pt x="1411" y="654"/>
                  </a:lnTo>
                  <a:lnTo>
                    <a:pt x="1423" y="624"/>
                  </a:lnTo>
                  <a:lnTo>
                    <a:pt x="1429" y="594"/>
                  </a:lnTo>
                  <a:lnTo>
                    <a:pt x="1435" y="564"/>
                  </a:lnTo>
                  <a:lnTo>
                    <a:pt x="1441" y="534"/>
                  </a:lnTo>
                  <a:lnTo>
                    <a:pt x="1447" y="504"/>
                  </a:lnTo>
                  <a:lnTo>
                    <a:pt x="1453" y="468"/>
                  </a:lnTo>
                  <a:lnTo>
                    <a:pt x="1459" y="438"/>
                  </a:lnTo>
                  <a:lnTo>
                    <a:pt x="1471" y="402"/>
                  </a:lnTo>
                  <a:lnTo>
                    <a:pt x="1477" y="372"/>
                  </a:lnTo>
                  <a:lnTo>
                    <a:pt x="1483" y="336"/>
                  </a:lnTo>
                  <a:lnTo>
                    <a:pt x="1489" y="306"/>
                  </a:lnTo>
                  <a:lnTo>
                    <a:pt x="1495" y="270"/>
                  </a:lnTo>
                  <a:lnTo>
                    <a:pt x="1501" y="234"/>
                  </a:lnTo>
                  <a:lnTo>
                    <a:pt x="1507" y="204"/>
                  </a:lnTo>
                  <a:lnTo>
                    <a:pt x="1519" y="168"/>
                  </a:lnTo>
                  <a:lnTo>
                    <a:pt x="1525" y="132"/>
                  </a:lnTo>
                  <a:lnTo>
                    <a:pt x="1531" y="96"/>
                  </a:lnTo>
                  <a:lnTo>
                    <a:pt x="1537" y="60"/>
                  </a:lnTo>
                  <a:lnTo>
                    <a:pt x="1543" y="24"/>
                  </a:lnTo>
                </a:path>
              </a:pathLst>
            </a:custGeom>
            <a:noFill/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65"/>
            <p:cNvSpPr/>
            <p:nvPr/>
          </p:nvSpPr>
          <p:spPr>
            <a:xfrm>
              <a:off x="10287000" y="2210040"/>
              <a:ext cx="0" cy="3276360"/>
            </a:xfrm>
            <a:prstGeom prst="line">
              <a:avLst/>
            </a:prstGeom>
            <a:ln w="28440">
              <a:solidFill>
                <a:srgbClr val="9900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Text Box 66"/>
          <p:cNvSpPr/>
          <p:nvPr/>
        </p:nvSpPr>
        <p:spPr>
          <a:xfrm>
            <a:off x="2751480" y="3962520"/>
            <a:ext cx="1119600" cy="581400"/>
          </a:xfrm>
          <a:prstGeom prst="rect">
            <a:avLst/>
          </a:prstGeom>
          <a:solidFill>
            <a:srgbClr val="daf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=2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67"/>
          <p:cNvSpPr/>
          <p:nvPr/>
        </p:nvSpPr>
        <p:spPr>
          <a:xfrm>
            <a:off x="5562720" y="5105520"/>
            <a:ext cx="1821960" cy="581400"/>
          </a:xfrm>
          <a:prstGeom prst="rect">
            <a:avLst/>
          </a:prstGeom>
          <a:solidFill>
            <a:srgbClr val="daf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Times New Roman"/>
              </a:rPr>
              <a:t>y=2(</a:t>
            </a:r>
            <a:r>
              <a:rPr b="1" i="1" lang="en-US" sz="3200" spc="-1" strike="noStrike">
                <a:solidFill>
                  <a:srgbClr val="006633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6633"/>
                </a:solidFill>
                <a:latin typeface="Times New Roman"/>
              </a:rPr>
              <a:t>–1)</a:t>
            </a:r>
            <a:r>
              <a:rPr b="1" lang="en-US" sz="3200" spc="-1" strike="noStrike" baseline="30000">
                <a:solidFill>
                  <a:srgbClr val="006633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68"/>
          <p:cNvSpPr/>
          <p:nvPr/>
        </p:nvSpPr>
        <p:spPr>
          <a:xfrm>
            <a:off x="5644800" y="3581280"/>
            <a:ext cx="2257920" cy="581400"/>
          </a:xfrm>
          <a:prstGeom prst="rect">
            <a:avLst/>
          </a:prstGeom>
          <a:solidFill>
            <a:srgbClr val="fff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90112"/>
                </a:solidFill>
                <a:latin typeface="Times New Roman"/>
              </a:rPr>
              <a:t>y=2(</a:t>
            </a:r>
            <a:r>
              <a:rPr b="1" i="1" lang="en-US" sz="3200" spc="-1" strike="noStrike">
                <a:solidFill>
                  <a:srgbClr val="e90112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e90112"/>
                </a:solidFill>
                <a:latin typeface="Times New Roman"/>
              </a:rPr>
              <a:t>–1)</a:t>
            </a:r>
            <a:r>
              <a:rPr b="1" lang="en-US" sz="3200" spc="-1" strike="noStrike" baseline="30000">
                <a:solidFill>
                  <a:srgbClr val="e90112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e90112"/>
                </a:solidFill>
                <a:latin typeface="Times New Roman"/>
              </a:rPr>
              <a:t>+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380880" y="609480"/>
          <a:ext cx="8381880" cy="2438280"/>
        </p:xfrm>
        <a:graphic>
          <a:graphicData uri="http://schemas.openxmlformats.org/drawingml/2006/table">
            <a:tbl>
              <a:tblPr/>
              <a:tblGrid>
                <a:gridCol w="1708200"/>
                <a:gridCol w="620640"/>
                <a:gridCol w="776160"/>
                <a:gridCol w="852480"/>
                <a:gridCol w="1087560"/>
                <a:gridCol w="1008000"/>
                <a:gridCol w="1009800"/>
                <a:gridCol w="131904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-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-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-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y=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y=2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1)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y=2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1)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cc"/>
                          </a:solidFill>
                          <a:latin typeface="Tahoma"/>
                        </a:rPr>
                        <a:t>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cc"/>
                          </a:solidFill>
                          <a:latin typeface="Tahoma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cc"/>
                          </a:solidFill>
                          <a:latin typeface="Tahoma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cc"/>
                          </a:solidFill>
                          <a:latin typeface="Tahoma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cc"/>
                          </a:solidFill>
                          <a:latin typeface="Tahoma"/>
                        </a:rPr>
                        <a:t>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Rectangle 93"/>
          <p:cNvSpPr/>
          <p:nvPr/>
        </p:nvSpPr>
        <p:spPr>
          <a:xfrm>
            <a:off x="1657800" y="1440"/>
            <a:ext cx="593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在同一坐标系内画出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y=2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y=2(x-1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、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y=2(x-1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+1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的图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Object 2" descr=""/>
          <p:cNvPicPr/>
          <p:nvPr/>
        </p:nvPicPr>
        <p:blipFill>
          <a:blip r:embed="rId1"/>
          <a:stretch/>
        </p:blipFill>
        <p:spPr>
          <a:xfrm>
            <a:off x="3371760" y="264960"/>
            <a:ext cx="2036880" cy="736920"/>
          </a:xfrm>
          <a:prstGeom prst="rect">
            <a:avLst/>
          </a:prstGeom>
          <a:ln w="0">
            <a:noFill/>
          </a:ln>
        </p:spPr>
      </p:pic>
      <p:pic>
        <p:nvPicPr>
          <p:cNvPr id="374" name="Object 3" descr=""/>
          <p:cNvPicPr/>
          <p:nvPr/>
        </p:nvPicPr>
        <p:blipFill>
          <a:blip r:embed="rId2"/>
          <a:stretch/>
        </p:blipFill>
        <p:spPr>
          <a:xfrm>
            <a:off x="982800" y="2252520"/>
            <a:ext cx="2279520" cy="728640"/>
          </a:xfrm>
          <a:prstGeom prst="rect">
            <a:avLst/>
          </a:prstGeom>
          <a:ln w="0">
            <a:noFill/>
          </a:ln>
        </p:spPr>
      </p:pic>
      <p:pic>
        <p:nvPicPr>
          <p:cNvPr id="375" name="Object 4" descr=""/>
          <p:cNvPicPr/>
          <p:nvPr/>
        </p:nvPicPr>
        <p:blipFill>
          <a:blip r:embed="rId3"/>
          <a:stretch/>
        </p:blipFill>
        <p:spPr>
          <a:xfrm>
            <a:off x="2933640" y="4044960"/>
            <a:ext cx="2989440" cy="711360"/>
          </a:xfrm>
          <a:prstGeom prst="rect">
            <a:avLst/>
          </a:prstGeom>
          <a:ln w="0">
            <a:noFill/>
          </a:ln>
        </p:spPr>
      </p:pic>
      <p:pic>
        <p:nvPicPr>
          <p:cNvPr id="376" name="Object 5" descr=""/>
          <p:cNvPicPr/>
          <p:nvPr/>
        </p:nvPicPr>
        <p:blipFill>
          <a:blip r:embed="rId4"/>
          <a:stretch/>
        </p:blipFill>
        <p:spPr>
          <a:xfrm>
            <a:off x="5597640" y="2190600"/>
            <a:ext cx="2628720" cy="763560"/>
          </a:xfrm>
          <a:prstGeom prst="rect">
            <a:avLst/>
          </a:prstGeom>
          <a:ln w="0">
            <a:noFill/>
          </a:ln>
        </p:spPr>
      </p:pic>
      <p:sp>
        <p:nvSpPr>
          <p:cNvPr id="377" name="AutoShape 16"/>
          <p:cNvSpPr/>
          <p:nvPr/>
        </p:nvSpPr>
        <p:spPr>
          <a:xfrm rot="2176800">
            <a:off x="2653920" y="1012320"/>
            <a:ext cx="206280" cy="1224000"/>
          </a:xfrm>
          <a:prstGeom prst="downArrow">
            <a:avLst>
              <a:gd name="adj1" fmla="val 50000"/>
              <a:gd name="adj2" fmla="val 14828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17"/>
          <p:cNvSpPr/>
          <p:nvPr/>
        </p:nvSpPr>
        <p:spPr>
          <a:xfrm rot="19105200">
            <a:off x="2738520" y="3038040"/>
            <a:ext cx="242640" cy="1094040"/>
          </a:xfrm>
          <a:prstGeom prst="downArrow">
            <a:avLst>
              <a:gd name="adj1" fmla="val 50000"/>
              <a:gd name="adj2" fmla="val 11268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AutoShape 18"/>
          <p:cNvSpPr/>
          <p:nvPr/>
        </p:nvSpPr>
        <p:spPr>
          <a:xfrm rot="1758000">
            <a:off x="6012000" y="2924280"/>
            <a:ext cx="276120" cy="1144440"/>
          </a:xfrm>
          <a:prstGeom prst="downArrow">
            <a:avLst>
              <a:gd name="adj1" fmla="val 50000"/>
              <a:gd name="adj2" fmla="val 103579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AutoShape 19"/>
          <p:cNvSpPr/>
          <p:nvPr/>
        </p:nvSpPr>
        <p:spPr>
          <a:xfrm rot="19206000">
            <a:off x="5851440" y="1002960"/>
            <a:ext cx="228600" cy="1212840"/>
          </a:xfrm>
          <a:prstGeom prst="downArrow">
            <a:avLst>
              <a:gd name="adj1" fmla="val 50000"/>
              <a:gd name="adj2" fmla="val 132589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20"/>
          <p:cNvSpPr/>
          <p:nvPr/>
        </p:nvSpPr>
        <p:spPr>
          <a:xfrm>
            <a:off x="468360" y="530064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Object 11" descr=""/>
          <p:cNvPicPr/>
          <p:nvPr/>
        </p:nvPicPr>
        <p:blipFill>
          <a:blip r:embed="rId5"/>
          <a:stretch/>
        </p:blipFill>
        <p:spPr>
          <a:xfrm>
            <a:off x="401760" y="4964040"/>
            <a:ext cx="1930320" cy="45900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23"/>
          <p:cNvSpPr/>
          <p:nvPr/>
        </p:nvSpPr>
        <p:spPr>
          <a:xfrm>
            <a:off x="2484360" y="4941720"/>
            <a:ext cx="24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的图像可以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25"/>
          <p:cNvSpPr/>
          <p:nvPr/>
        </p:nvSpPr>
        <p:spPr>
          <a:xfrm rot="2233800">
            <a:off x="2275920" y="78660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宋体"/>
              </a:rPr>
              <a:t>向上平移一个单位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26"/>
          <p:cNvSpPr/>
          <p:nvPr/>
        </p:nvSpPr>
        <p:spPr>
          <a:xfrm rot="2750400">
            <a:off x="2768040" y="2993040"/>
            <a:ext cx="12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宋体"/>
              </a:rPr>
              <a:t>向右平移一个单位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29"/>
          <p:cNvSpPr/>
          <p:nvPr/>
        </p:nvSpPr>
        <p:spPr>
          <a:xfrm rot="2898000">
            <a:off x="5750640" y="953280"/>
            <a:ext cx="136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宋体"/>
              </a:rPr>
              <a:t>向右平移一个单位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30"/>
          <p:cNvSpPr/>
          <p:nvPr/>
        </p:nvSpPr>
        <p:spPr>
          <a:xfrm rot="18095400">
            <a:off x="4686840" y="2883600"/>
            <a:ext cx="1352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宋体"/>
              </a:rPr>
              <a:t>向上平移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宋体"/>
              </a:rPr>
              <a:t>一个单位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Object 17" descr=""/>
          <p:cNvPicPr/>
          <p:nvPr/>
        </p:nvPicPr>
        <p:blipFill>
          <a:blip r:embed="rId6"/>
          <a:stretch/>
        </p:blipFill>
        <p:spPr>
          <a:xfrm>
            <a:off x="4584600" y="5019840"/>
            <a:ext cx="1487520" cy="41724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32"/>
          <p:cNvSpPr/>
          <p:nvPr/>
        </p:nvSpPr>
        <p:spPr>
          <a:xfrm>
            <a:off x="6156360" y="4941720"/>
            <a:ext cx="29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先向上平移一个单位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,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33"/>
          <p:cNvSpPr/>
          <p:nvPr/>
        </p:nvSpPr>
        <p:spPr>
          <a:xfrm>
            <a:off x="1332000" y="558972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再向右平移一个单位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或者先向右平移一个单位再向上平移一个单位而得到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8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2T12:16:34Z</dcterms:created>
  <dc:creator>老虎</dc:creator>
  <dc:description/>
  <dc:language>en-US</dc:language>
  <cp:lastModifiedBy>Administrator</cp:lastModifiedBy>
  <dcterms:modified xsi:type="dcterms:W3CDTF">2018-09-19T07:41:49Z</dcterms:modified>
  <cp:revision>10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520</vt:lpwstr>
  </property>
  <property fmtid="{D5CDD505-2E9C-101B-9397-08002B2CF9AE}" pid="3" name="Version">
    <vt:r8>1</vt:r8>
  </property>
</Properties>
</file>